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835-D937-4363-8F51-3B8C14A9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117-08F9-4841-9DB9-2ECDC0B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817-BF07-48A3-BE58-AE8B14C2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24E-8AA5-458C-B02B-4826BADA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A19-D7C5-4CB2-8F0D-8B53076E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B15-4666-4DD4-B8A4-E632145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970-FF63-42B4-900C-4CAC18B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24E-A9BF-4195-99FE-63DBA7C2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CFD-52C9-4786-84B5-DF16A15B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E6C-FE0C-48B3-9BF1-AD8DDE0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6FB-413A-4C7D-BA41-341DC92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669-E082-483D-AD5F-B3D2E85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C600-B429-42F8-8327-2927DDD95F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2;&#1091;&#1083;&#1100;&#1090;%20&#1087;&#1088;&#1086;%20&#1080;&#1085;&#1090;&#1077;&#1088;&#1085;&#1077;&#1090;-&#1079;&#1072;&#1074;&#1080;&#1089;&#1080;&#1084;&#1086;&#1089;&#1090;&#1100;.fl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3240" y="1856880"/>
            <a:ext cx="4572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омпьютерная зависимос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4920" y="535752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сикис Яна, ученица 11Б класса МБОУ «Троицкая СОШ» Губкинского района 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Documents and Settings\Оксана\Рабочий стол\Безопасный интернет\1323526078_33227821_inhabitcgs.jpg"/>
          <p:cNvPicPr/>
          <p:nvPr/>
        </p:nvPicPr>
        <p:blipFill>
          <a:blip r:embed="rId2"/>
          <a:stretch/>
        </p:blipFill>
        <p:spPr>
          <a:xfrm>
            <a:off x="5572080" y="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агностика компьютерной зависимости</a:t>
            </a: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ест на интернет зависимость С.А. Кул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 на предложенные вопросы, используя шка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чень редко» -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огда» - 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асто» - 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чень часто» - 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егда» - 5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C:\Documents and Settings\Оксана\Рабочий стол\Безопасный интернет\img19.jpg"/>
          <p:cNvPicPr/>
          <p:nvPr/>
        </p:nvPicPr>
        <p:blipFill>
          <a:blip r:embed="rId1"/>
          <a:srcRect l="0" t="8825" r="0" b="0"/>
          <a:stretch/>
        </p:blipFill>
        <p:spPr>
          <a:xfrm>
            <a:off x="5905440" y="4357800"/>
            <a:ext cx="32385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   Как часто вы обнаруживаете, что задержались в Сети дольше, чем задумывал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Как часто вы забрасываете свои домашние обязанности, чтобы провести больше времени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   Как часто вы предпочитаете развлечения в Интернете близости со своим партнер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   Как часто вы строите новые отношения с друзьями по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   Как часто ваши знакомые жалуются по поводу количества времени, которое вы  проводите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   Как часто из-за времени, проведенного в Сети, страдает ваше образование и/или рабо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Как часто вы проверяете электронную почту, прежде чем заняться чем-то други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   Как часто страдает ваша эффективность или продуктивность в работе из-за использования Интерн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   Как часто вы сопротивляетесь разговору или скрываете, если вас спрашивают о том, что вы делали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   Как часто вы отодвигаете на второй план неприятные мысли о своей жизни, заменяя их успокаивающими мыслями об Интерне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    Как часто вы чувствуете  приятное  предвкушение от предстоящего выхода в Се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   Как часто вы боитесь, что жизнь без Интернета станет скучной, пустой и безынтерес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    Как часто вы раздражаетесь, кричите, если что-то отрывает вас , когда вы находитесь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    Как часто вы теряете сон, когда поздно находитесь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    Как часто вы чувствуете, что поглощены Интернетом, когда не находитесь в Сети, или воображаете, что вы та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    Как часто вы говорите, что проведете в Сети  «еще пару минут…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    Как часто вы пытаетесь безуспешно урезать время пребывания 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    Как часто вы пытаетесь скрыть количество времени пребывания в С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    Как часто вы предпочитаете находиться в Сети вместо того, чтобы встретиться с людь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    Как часто вы чувствуете подавленность, плохое настроение, нервничаете, когда вы не в Сети, что вскоре исчезает, стоит вам выйти в Интерн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брано 50 – 79 баллов, стоит учитывать серьезное влияние Интернета на Вашу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брано 80 баллов и больше, у Вас с высокой долей вероятности Интернет – зависимость и Вам необходима помощи специа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Оксана\Рабочий стол\Безопасный интернет\operator.jpg"/>
          <p:cNvPicPr/>
          <p:nvPr/>
        </p:nvPicPr>
        <p:blipFill>
          <a:blip r:embed="rId1"/>
          <a:stretch/>
        </p:blipFill>
        <p:spPr>
          <a:xfrm>
            <a:off x="7000920" y="5289480"/>
            <a:ext cx="2143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70009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тобы не стать рабом Всемирной паутины, поверьте, что ваша зависимость – это неприятная реальнос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Оксана\Рабочий стол\Безопасный интернет\L6f9.jpg"/>
          <p:cNvPicPr/>
          <p:nvPr/>
        </p:nvPicPr>
        <p:blipFill>
          <a:blip r:embed="rId1"/>
          <a:stretch/>
        </p:blipFill>
        <p:spPr>
          <a:xfrm>
            <a:off x="0" y="0"/>
            <a:ext cx="1822320" cy="2786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428840" y="1947600"/>
            <a:ext cx="7215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читайте, какое количество часов в сутки вы проводите перед компьютером и что можно было бы успеть сделать за это вре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робуйте сократить это время до минимума. Каждый раз, когда включаете компьютер, отмечайте время начала и окончания работы на нём – так вы сможете реально увидеть, сколько ценного времени поглощают любопытство, скука и ничегонеде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повесить стикеры с приказ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ключить компьютер или не заходить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е-то сай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Оксана\Рабочий стол\Безопасный интернет\1367532240_w_bd6c62c2.jpg"/>
          <p:cNvPicPr/>
          <p:nvPr/>
        </p:nvPicPr>
        <p:blipFill>
          <a:blip r:embed="rId2"/>
          <a:stretch/>
        </p:blipFill>
        <p:spPr>
          <a:xfrm>
            <a:off x="6929280" y="4753080"/>
            <a:ext cx="2214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бы постепенно отойти от виртуальных контактов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айтесь возобновить отношения со старыми друзьями, ходите почаще в гости, посещайте общественные м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место сообщения позвонить челове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поздравить с днём рожденья почтовой открыткой, а не электронным способ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фотографии не хранить в памяти компьютера, а сходить и распечатать в фотоател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не выискивать песни любимых исполнителей на различных сайтах, а сходить на концерт и насладиться исполнением произведений «вживую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ещё вари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Оксана\Рабочий стол\Безопасный интернет\DSC_0933_1.jpg"/>
          <p:cNvPicPr/>
          <p:nvPr/>
        </p:nvPicPr>
        <p:blipFill>
          <a:blip r:embed="rId2"/>
          <a:srcRect l="0" t="7613" r="8274" b="8642"/>
          <a:stretch/>
        </p:blipFill>
        <p:spPr>
          <a:xfrm rot="20871000">
            <a:off x="-146160" y="2544480"/>
            <a:ext cx="2640240" cy="16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Оксана\Рабочий стол\Безопасный интернет\P1040601 [%P].JPG"/>
          <p:cNvPicPr/>
          <p:nvPr/>
        </p:nvPicPr>
        <p:blipFill>
          <a:blip r:embed="rId3"/>
          <a:srcRect l="0" t="14286" r="0" b="0"/>
          <a:stretch/>
        </p:blipFill>
        <p:spPr>
          <a:xfrm>
            <a:off x="5857920" y="19288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Оксана\Рабочий стол\Безопасный интернет\P1040619 [%P].JPG"/>
          <p:cNvPicPr/>
          <p:nvPr/>
        </p:nvPicPr>
        <p:blipFill>
          <a:blip r:embed="rId4"/>
          <a:srcRect l="0" t="0" r="0" b="18864"/>
          <a:stretch/>
        </p:blipFill>
        <p:spPr>
          <a:xfrm rot="659400">
            <a:off x="6778440" y="437760"/>
            <a:ext cx="2490480" cy="15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Оксана\Рабочий стол\Безопасный интернет\P1050240 [%P].JPG"/>
          <p:cNvPicPr/>
          <p:nvPr/>
        </p:nvPicPr>
        <p:blipFill>
          <a:blip r:embed="rId5"/>
          <a:srcRect l="0" t="11320" r="0" b="0"/>
          <a:stretch/>
        </p:blipFill>
        <p:spPr>
          <a:xfrm rot="682800">
            <a:off x="5856120" y="3447720"/>
            <a:ext cx="2524320" cy="167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Documents and Settings\Оксана\Рабочий стол\Безопасный интернет\QnzQKp_dkso.jpg"/>
          <p:cNvPicPr/>
          <p:nvPr/>
        </p:nvPicPr>
        <p:blipFill>
          <a:blip r:embed="rId6"/>
          <a:srcRect l="11493" t="6897" r="3449" b="3451"/>
          <a:stretch/>
        </p:blipFill>
        <p:spPr>
          <a:xfrm rot="20707200">
            <a:off x="173160" y="703440"/>
            <a:ext cx="2357280" cy="165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Оксана\Рабочий стол\Безопасный интернет\-yt05fPHtZ8.jpg"/>
          <p:cNvPicPr/>
          <p:nvPr/>
        </p:nvPicPr>
        <p:blipFill>
          <a:blip r:embed="rId7"/>
          <a:stretch/>
        </p:blipFill>
        <p:spPr>
          <a:xfrm>
            <a:off x="7572240" y="4603680"/>
            <a:ext cx="1357560" cy="201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Оксана\Рабочий стол\Безопасный интернет\Рисунок2.jpg"/>
          <p:cNvPicPr/>
          <p:nvPr/>
        </p:nvPicPr>
        <p:blipFill>
          <a:blip r:embed="rId8"/>
          <a:stretch/>
        </p:blipFill>
        <p:spPr>
          <a:xfrm rot="21379800">
            <a:off x="4764240" y="4995360"/>
            <a:ext cx="211284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D:\флэшка 15.07.13\Дебаты\Дебаты фото\23.03.11\P1010006.JPG"/>
          <p:cNvPicPr/>
          <p:nvPr/>
        </p:nvPicPr>
        <p:blipFill>
          <a:blip r:embed="rId9"/>
          <a:srcRect l="0" t="11422" r="0" b="0"/>
          <a:stretch/>
        </p:blipFill>
        <p:spPr>
          <a:xfrm>
            <a:off x="3000240" y="1357200"/>
            <a:ext cx="252432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Documents and Settings\Оксана\Рабочий стол\Безопасный интернет\Рисунок1.jpg"/>
          <p:cNvPicPr/>
          <p:nvPr/>
        </p:nvPicPr>
        <p:blipFill>
          <a:blip r:embed="rId10"/>
          <a:stretch/>
        </p:blipFill>
        <p:spPr>
          <a:xfrm>
            <a:off x="-214200" y="4286160"/>
            <a:ext cx="2843280" cy="2332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3"/>
          <p:cNvSpPr/>
          <p:nvPr/>
        </p:nvSpPr>
        <p:spPr>
          <a:xfrm>
            <a:off x="1571760" y="657216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и взяты со школьного 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C:\Documents and Settings\Оксана\Рабочий стол\ноу\ноу\20140128_135930.jpg"/>
          <p:cNvPicPr/>
          <p:nvPr/>
        </p:nvPicPr>
        <p:blipFill>
          <a:blip r:embed="rId11"/>
          <a:stretch/>
        </p:blipFill>
        <p:spPr>
          <a:xfrm rot="20626800">
            <a:off x="1647720" y="3308040"/>
            <a:ext cx="1881360" cy="132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C:\Documents and Settings\Оксана\Рабочий стол\Сайтик\Награждение 13-14\DSC00942.JPG"/>
          <p:cNvPicPr/>
          <p:nvPr/>
        </p:nvPicPr>
        <p:blipFill>
          <a:blip r:embed="rId12"/>
          <a:stretch/>
        </p:blipFill>
        <p:spPr>
          <a:xfrm rot="20634600">
            <a:off x="2333520" y="4879800"/>
            <a:ext cx="2264040" cy="169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C:\Documents and Settings\Оксана\Рабочий стол\Сайт\P1040954.JPG"/>
          <p:cNvPicPr/>
          <p:nvPr/>
        </p:nvPicPr>
        <p:blipFill>
          <a:blip r:embed="rId13"/>
          <a:stretch/>
        </p:blipFill>
        <p:spPr>
          <a:xfrm rot="21403800">
            <a:off x="3516120" y="30495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чего из вышеперечисленного не помог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00" y="178596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есть ещё один ценный совет: сходите на приём к психологу, пообщайтесь с ним, чтобы стало понятно, по какой причине вы игнорируете общение, стремитесь «поселиться» в Интернете и чего конкретно вам не хватает в ре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ойтесь, ведь психологи не будут лечить вас таблетками и уколами, а попытаются разобраться с душевными комплексами. Иногда люди замыкаются в себе по причине излишней самокритичности или же неуверенности в себе, надуманных комплексах по поводу своего ума или внеш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Оксана\Рабочий стол\Безопасный интернет\1309767271_lo.jpg"/>
          <p:cNvPicPr/>
          <p:nvPr/>
        </p:nvPicPr>
        <p:blipFill>
          <a:blip r:embed="rId1"/>
          <a:stretch/>
        </p:blipFill>
        <p:spPr>
          <a:xfrm>
            <a:off x="7572240" y="5553000"/>
            <a:ext cx="1571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дьте свободн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760" y="178596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умайтесь, а как же раньше люди обходились без света, электричества, компьютера? Ведь жили же и не глупее были. А виртуального пространства на то время вовсе не существовало. Может, и сегодня не стоит своё настолько драгоценное жизненное время тратить на пустяковые новости, ежедневную переписку и безрассудное шатание на страницах миллионов сай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500960" y="4386240"/>
            <a:ext cx="16430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рмин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компьютерная зависим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атологическое пристрастие человека к работе или проведению времени за компьют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о компьютерной зависимости заговорили в начале 80-х годов американские уче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 время термин «компьютерная зависимость» все еще не признан многими ученными, занимающимися проблемами психических расстройств, однако сам феномен формирования патологической связи между человеком и компьютером стал очевиден и приобретает все больший раз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cuments and Settings\Оксана\Рабочий стол\Безопасный интернет\1309767271_lo.jpg"/>
          <p:cNvPicPr/>
          <p:nvPr/>
        </p:nvPicPr>
        <p:blipFill>
          <a:blip r:embed="rId1"/>
          <a:stretch/>
        </p:blipFill>
        <p:spPr>
          <a:xfrm>
            <a:off x="7143840" y="4954680"/>
            <a:ext cx="18572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арактерные особенности зависим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57176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бстине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заполучить объект зависим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д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е на приобретение объекта зависим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критического отношения к негативным сторонам зависим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ря интереса по отношению к социальной стороне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му в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ению друг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Оксана\Рабочий стол\Безопасный интернет\0c0d2799cb524e5c9d99091bb274afbe.gif"/>
          <p:cNvPicPr/>
          <p:nvPr/>
        </p:nvPicPr>
        <p:blipFill>
          <a:blip r:embed="rId1"/>
          <a:stretch/>
        </p:blipFill>
        <p:spPr>
          <a:xfrm>
            <a:off x="5929200" y="4462560"/>
            <a:ext cx="32148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типы компьютерной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760" y="2786040"/>
            <a:ext cx="335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от интернета (сетегол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4286160" y="2643120"/>
            <a:ext cx="4357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от компьютерных игр (кибераддик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4"/>
          <p:cNvSpPr/>
          <p:nvPr/>
        </p:nvSpPr>
        <p:spPr>
          <a:xfrm rot="2137200">
            <a:off x="1571400" y="2142720"/>
            <a:ext cx="107136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5"/>
          <p:cNvSpPr/>
          <p:nvPr/>
        </p:nvSpPr>
        <p:spPr>
          <a:xfrm rot="19711800">
            <a:off x="5573880" y="2001960"/>
            <a:ext cx="107136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Оксана\Рабочий стол\Безопасный интернет\1501.jpg"/>
          <p:cNvPicPr/>
          <p:nvPr/>
        </p:nvPicPr>
        <p:blipFill>
          <a:blip r:embed="rId1"/>
          <a:stretch/>
        </p:blipFill>
        <p:spPr>
          <a:xfrm>
            <a:off x="857160" y="4519440"/>
            <a:ext cx="2571840" cy="233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Оксана\Рабочий стол\Безопасный интернет\magazin-igromania-nggid0225-ngg0dyn-507x624x100-00f0w010c010r110f110r010t010.jpg"/>
          <p:cNvPicPr/>
          <p:nvPr/>
        </p:nvPicPr>
        <p:blipFill>
          <a:blip r:embed="rId2"/>
          <a:stretch/>
        </p:blipFill>
        <p:spPr>
          <a:xfrm>
            <a:off x="5715000" y="4357800"/>
            <a:ext cx="203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те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840" y="1714680"/>
            <a:ext cx="821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яется бесконечным пребыванием человека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гда они находятся в виртуальном мире по 12-14 часов в сутки, заводя виртуальные знакомства, скачивая музыку, общаясь в ч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неряшливые, неуравновешенные люди, которые наплевательски относятся к близ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Оксана\Рабочий стол\Безопасный интернет\1501.jpg"/>
          <p:cNvPicPr/>
          <p:nvPr/>
        </p:nvPicPr>
        <p:blipFill>
          <a:blip r:embed="rId1"/>
          <a:stretch/>
        </p:blipFill>
        <p:spPr>
          <a:xfrm>
            <a:off x="7429680" y="450072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знаки сетего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язчивое стремление постоянно проверять электронную поч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вкушение следующего о сеанса он-лай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времени, проводимого он-лай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количества денег, расходуемых он-ла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C:\Documents and Settings\Оксана\Рабочий стол\Безопасный интернет\800x600_dP4VmEyWdKj6vBxIY9G9.gif"/>
          <p:cNvPicPr/>
          <p:nvPr/>
        </p:nvPicPr>
        <p:blipFill>
          <a:blip r:embed="rId1"/>
          <a:stretch/>
        </p:blipFill>
        <p:spPr>
          <a:xfrm>
            <a:off x="6804000" y="4552920"/>
            <a:ext cx="234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ибераддик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евые компьютерные игры (максимальный уход от реальнос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левые компьютерные игры (стремление к достижению цели – пройти игру, азарт от достижения цели, набора оч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C:\Documents and Settings\Оксана\Рабочий стол\Безопасный интернет\igromania3.JPG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знаки компьютерный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ое улучшение настроения от работы за компьютер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оторваться от работы или игры на компьюте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отрывают от компьютера, то испытывает раздражение, даже некоторую агресс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пособность спланировать окончание работы или игры на компьюте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небрежение личной гигиеной и сном в пользу компьюте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щении с окружающими сведение любого разговора к компьютерной темат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от общения с друз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572080" y="5929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ические отклонения у страдающего компьютерной зависим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шение зр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жение иммунит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ые бо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ая утомляем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он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сп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ннельный синдром (боли в запясть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Documents and Settings\Оксана\Рабочий стол\Безопасный интернет\-1-informe_urbano-719440360.jpg"/>
          <p:cNvPicPr/>
          <p:nvPr/>
        </p:nvPicPr>
        <p:blipFill>
          <a:blip r:embed="rId1"/>
          <a:stretch/>
        </p:blipFill>
        <p:spPr>
          <a:xfrm>
            <a:off x="6429240" y="3143160"/>
            <a:ext cx="2714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</cp:lastModifiedBy>
  <dcterms:modified xsi:type="dcterms:W3CDTF">2015-01-12T16:32:49Z</dcterms:modified>
  <cp:revision>603</cp:revision>
  <dc:subject/>
  <dc:title>Diapositiva 1</dc:title>
</cp:coreProperties>
</file>