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CCBA-BA45-4E42-85C5-FA089D34E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E81-D156-42A3-975B-5E85FC2A1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E34-1ACA-44DF-B6B9-0B2AAA76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6DA-0C9A-4E55-ACC2-A7F0FAC4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1F4-82E5-46AB-96B0-759F56A1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53F-BF2C-4C10-918C-74480A23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FE4-DD6A-4759-8949-491F3235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5E4-1A14-4DD8-9113-7C61C8D6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74C-2F72-45EB-AD66-D8200FE5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C9E-780C-41EE-9067-13E8037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0F5-EFC0-42D8-97A5-BDD92EEE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0A5-BB3B-4BC1-98E7-941F24D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3CD-D1F7-41CB-843A-7D526FA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EA0-4C01-42FC-8B46-3FC2518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AA7-D840-4D64-A374-DBBCA6A70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53920" y="4214880"/>
            <a:ext cx="762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исьма  опаленные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войно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560940.jpg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563643.jpg"/>
          <p:cNvPicPr/>
          <p:nvPr/>
        </p:nvPicPr>
        <p:blipFill>
          <a:blip r:embed="rId1"/>
          <a:stretch/>
        </p:blipFill>
        <p:spPr>
          <a:xfrm>
            <a:off x="357120" y="28584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357120" y="928800"/>
            <a:ext cx="8572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а военных лет.. Они писались в минуты затишья между боями, в окопах, в воронках из-под бомб.  Авторы не думали, что через столько лет их мысли о войне будут опубликованы, поэтому они не обращали внимания ни на стиль своих писем, ни на язык - не до того было им тог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за днем и год за годом шли солдатские треугольники с фронта в ты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каждый раз, читая эти строки, испытываешь трепет от встречи с Памятью. Эти страницы бесце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00040" y="6429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! Через века, через года. Помните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Журавли..9 мая.wmv" descr=""/>
          <p:cNvPicPr/>
          <p:nvPr/>
        </p:nvPicPr>
        <p:blipFill>
          <a:blip r:embed="rId2"/>
          <a:stretch/>
        </p:blipFill>
        <p:spPr>
          <a:xfrm>
            <a:off x="1500120" y="150012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43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500040" y="407196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3 года назад  9 мая прогремел салют в честь победы в Великой Отечественной войне 1941-1945гг,  но отзвуки той войны до сих пор живут в каждом сердце. Нет такой семьи, которую не затронула бы война. Как ждали писем с фронта, эти маленькие желтые треугольнички были залогом того, что приславший их: муж, сын, брат, любимый жив и здоров, а значит, есть надежда увидеть его живым. Было так страшно, когда переставали приходит с фронта письма, значит, человек пропал без вести или уб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554919.jpg"/>
          <p:cNvPicPr/>
          <p:nvPr/>
        </p:nvPicPr>
        <p:blipFill>
          <a:blip r:embed="rId1"/>
          <a:stretch/>
        </p:blipFill>
        <p:spPr>
          <a:xfrm>
            <a:off x="571680" y="214200"/>
            <a:ext cx="8001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428760" y="107172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а военных лет они хранят память о тех днях. В них было все: короткие, скупые рассказы о войне и стихи, фотографии, если была возможность сняться у фронтового фотографа, вырезки из фронтовых газет, слова любви к близким, в них была заключ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от момент - ЖИЗН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553600.jpg"/>
          <p:cNvPicPr/>
          <p:nvPr/>
        </p:nvPicPr>
        <p:blipFill>
          <a:blip r:embed="rId2"/>
          <a:stretch/>
        </p:blipFill>
        <p:spPr>
          <a:xfrm>
            <a:off x="5500800" y="4143240"/>
            <a:ext cx="174456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554680.jpg"/>
          <p:cNvPicPr/>
          <p:nvPr/>
        </p:nvPicPr>
        <p:blipFill>
          <a:blip r:embed="rId1"/>
          <a:stretch/>
        </p:blipFill>
        <p:spPr>
          <a:xfrm>
            <a:off x="4643280" y="357120"/>
            <a:ext cx="4286520" cy="6215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214200" y="357120"/>
            <a:ext cx="4926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554680.jpg"/>
          <p:cNvPicPr/>
          <p:nvPr/>
        </p:nvPicPr>
        <p:blipFill>
          <a:blip r:embed="rId1"/>
          <a:stretch/>
        </p:blipFill>
        <p:spPr>
          <a:xfrm>
            <a:off x="285840" y="214200"/>
            <a:ext cx="4486320" cy="6429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4786200" y="214200"/>
            <a:ext cx="4118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566186.jpg"/>
          <p:cNvPicPr/>
          <p:nvPr/>
        </p:nvPicPr>
        <p:blipFill>
          <a:blip r:embed="rId1"/>
          <a:stretch/>
        </p:blipFill>
        <p:spPr>
          <a:xfrm>
            <a:off x="5143680" y="3286080"/>
            <a:ext cx="2560320" cy="31845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285840" y="42876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дравствуйте дорогие и многоуважаемые родная мамаша и сестра Паша! В первых строках своего письма сообщаю, что я жив, здоров, нахожусь на одном из важных участков фронта…» — такими словами начинаются почти все письма с передовой солдата Владимира Трофименко своим родным в город  Глухов, Сумской области. Призванный в 1943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-летний пареньком он в составе 1-го Белорусского фронта дошел до Берлина. Но, как и многие его одногодки, вернулся домой не в мае 1945 года, а лишь через несколько лет после окончания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425459.jpg"/>
          <p:cNvPicPr/>
          <p:nvPr/>
        </p:nvPicPr>
        <p:blipFill>
          <a:blip r:embed="rId2"/>
          <a:stretch/>
        </p:blipFill>
        <p:spPr>
          <a:xfrm rot="20345400">
            <a:off x="1461960" y="4262040"/>
            <a:ext cx="1447920" cy="20592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554645.jpg"/>
          <p:cNvPicPr/>
          <p:nvPr/>
        </p:nvPicPr>
        <p:blipFill>
          <a:blip r:embed="rId3"/>
          <a:stretch/>
        </p:blipFill>
        <p:spPr>
          <a:xfrm rot="21379800">
            <a:off x="2779560" y="4249440"/>
            <a:ext cx="3408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Яbe7141362de5.jpg"/>
          <p:cNvPicPr/>
          <p:nvPr/>
        </p:nvPicPr>
        <p:blipFill>
          <a:blip r:embed="rId1"/>
          <a:stretch/>
        </p:blipFill>
        <p:spPr>
          <a:xfrm>
            <a:off x="739800" y="428760"/>
            <a:ext cx="76644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ЯЯbe7141362de5.jpg"/>
          <p:cNvPicPr/>
          <p:nvPr/>
        </p:nvPicPr>
        <p:blipFill>
          <a:blip r:embed="rId1"/>
          <a:stretch/>
        </p:blipFill>
        <p:spPr>
          <a:xfrm>
            <a:off x="642960" y="214200"/>
            <a:ext cx="77868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563151.jpg"/>
          <p:cNvPicPr/>
          <p:nvPr/>
        </p:nvPicPr>
        <p:blipFill>
          <a:blip r:embed="rId1"/>
          <a:stretch/>
        </p:blipFill>
        <p:spPr>
          <a:xfrm>
            <a:off x="928800" y="428760"/>
            <a:ext cx="73152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857760" y="785880"/>
            <a:ext cx="485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пять пишу с задержкой, не было случая передать письмо по почте. Вы не беспокойтесь, после двухмесячного отдыха мы снова вступили в бой. Если со мной что случится, часть сообщит.  Ну а если вообще нету писем, то это не значит, что меня нету — а я занят и не могу писать…» (июнь 1944-го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2:20:21Z</dcterms:created>
  <dc:creator>Александрова З.В.</dc:creator>
  <dc:description/>
  <dc:language>en-US</dc:language>
  <cp:lastModifiedBy>Admin</cp:lastModifiedBy>
  <dcterms:modified xsi:type="dcterms:W3CDTF">2015-01-12T18:42:38Z</dcterms:modified>
  <cp:revision>33</cp:revision>
  <dc:subject/>
  <dc:title>Слайд 1</dc:title>
</cp:coreProperties>
</file>