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B84-98CF-4E2D-90F1-D8472C5F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504-979E-4B67-9577-92A3AA4A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900-2D7F-4424-94E6-A08FC488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105-8847-46BF-8097-CDC8FB04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5706C-FA51-4BB7-911E-DE14B0D4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063C2-4B26-4C71-AC36-7091E3CA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5CD67-8E6B-4E67-A88B-2E3307B2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C859E-BF50-4344-BF3E-7BED8115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D86EE-BF25-408F-9CD5-75E76BBF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037A7-894D-4856-83CC-65C09120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77DCD-3BEB-4776-9A8C-8C12B2CC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4CB-6B5A-4C97-8DFD-16F7CCD3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8D17D-B502-4D12-8042-336D8682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55337-F519-43F7-8108-801D3F1E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C4383-DF35-4623-8C19-050B78BF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1D501-5EA5-43FA-9ADD-CEE6BFBC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73C3C-DFF8-4D42-B6AF-7F013708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E76-1122-4876-B322-8FC88A6E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B28-4834-4E72-93C0-FC05AD9E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65C-5115-4079-8803-E9B3917B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9A3-354C-433C-9432-ABD6A3A4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E67-6AE9-49C1-802D-F3A3A340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A28-D0A6-4582-8165-37FCC766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C0F-81BD-490A-A291-5877FA87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B32A-E91D-403C-8673-356DE1C99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1579-A011-45A9-BF0A-1248437E1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«Век живи – век учись.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Лучшее в опыте преподавания русского язы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ложные предложен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 разными видами связ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 романе М. А. Шолохова «Тихий Дон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ЭПИГРАФ К УРОКУ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«Напрасен ум, если нет пищи мудрости, какую доставляют добрые книги, полные благих наставлений, примеров, нравственных заветов, законов и благочестивых правил. Словно задушевные друзья, они охотно беседуют с нами... учат нас, ободряют, утешают и как зримо являют нам самые далекие от наших глаз вещи...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(Я. Коменский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0" t="0" r="3231" b="0"/>
          <a:stretch/>
        </p:blipFill>
        <p:spPr>
          <a:xfrm>
            <a:off x="395280" y="555480"/>
            <a:ext cx="2664000" cy="3810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419640" y="260280"/>
            <a:ext cx="5298840" cy="371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56000" y="3432240"/>
            <a:ext cx="424800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ОСОБЕННОСТИ ЯЗЫКА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М. А. ШОЛОХОВ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9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точность и метафоричность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личие диалектизмов, которые передают своеобразие речи каза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браз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большое количество сложных предложений, вводных и вставных конструкций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ложные предложения, состоящие из нескольких предложений, одни из них могут соединяться при помощи сочинительных союзов, другие – при помощи подчинительных союзов, третьи – без союз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604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ПРЕДЛОЖЕНИЯ С РАЗНЫМИ ВИДАМИ СВЯЗИ - ЭТО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66"/>
                </a:solidFill>
                <a:uFillTx/>
                <a:latin typeface="Tahoma"/>
              </a:rPr>
              <a:t>ЗАДАНИЕ 1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ыберите любую часть романа             М. А. Шолохова «Тихий Дон», укажите ее в тетради. Затем найдите и выпишите из нее несколько предложений с подчинительной и сочинительной связью, правильно расставьте знаки препинания и составьте структурные схем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ahoma"/>
              </a:rPr>
              <a:t>ЗАДАНИЕ 2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ясните, почему автор прибегает к использованию в тексте романа сложных предложений с различными видами связ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сколько часто встречаются такие синтаксические единицы в тексте романа? Насколько они характерны для творческой манеры М. А. Шолохо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ИТОГ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1584360"/>
            <a:ext cx="7561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ложные предложения любимы Шолоховым: часто он прибегает к использованию сложных предложен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 сочинительной и подчинитель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вязью. Такие предложения помогают передать сложные мысл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закономерности и причины развития событий. Однако предложения так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типа уступают в «популярности» предложениям с бессоюзной связью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олее динамично рассказывающих о стремительных событиях революционной России, России, оказавшейся в начале прошлого века в пламени кровопролитной Гражданской войны.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0" r="12011" b="0"/>
          <a:stretch/>
        </p:blipFill>
        <p:spPr>
          <a:xfrm>
            <a:off x="160200" y="836640"/>
            <a:ext cx="22813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6:43:00Z</dcterms:created>
  <dc:creator>слон</dc:creator>
  <dc:description/>
  <dc:language>en-US</dc:language>
  <cp:lastModifiedBy>слон</cp:lastModifiedBy>
  <dcterms:modified xsi:type="dcterms:W3CDTF">2013-10-22T09:14:07Z</dcterms:modified>
  <cp:revision>6</cp:revision>
  <dc:subject/>
  <dc:title>«Век живи – век учись.  Лучшее в опыте преподавания русского языка»</dc:title>
</cp:coreProperties>
</file>