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5.png" ContentType="image/png"/>
  <Override PartName="/ppt/media/image14.png" ContentType="image/png"/>
  <Override PartName="/ppt/media/image1.gif" ContentType="image/gif"/>
  <Override PartName="/ppt/media/image10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224-399B-4AB7-BAD4-D4EFCA2A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F90-1FD4-42B0-A126-5D0890E8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D24-B49F-48A8-9D07-53624D6C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6CD-2C11-47D4-8C74-1E2D5E48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8EC-50D5-4CC9-A742-12D2F57B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071-7C5D-490E-9AE3-02DE93DA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104-D997-4152-BBB6-C71D2FB1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178-9FAD-4FE5-B807-5C87981E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0FA-D168-40E0-8CD9-5F1FF251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00E-04CA-425F-A946-9EB674F4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1ED-E46F-4726-9E4B-0FB70BFE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EF9-320F-458D-8CF1-188DA307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548F-159F-4758-AC61-431CAB1AC1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\Рабочий стол\4554\Animated-Colors-360x640-Animated-Wallpaper-For-N8-E7-C7-X6-5800-N9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2335320"/>
            <a:ext cx="920592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in\Рабочий стол\4554\Animated-Colors-360x640-Animated-Wallpaper-For-N8-E7-C7-X6-5800-N9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Прямоугольник 7" descr=""/>
          <p:cNvPicPr/>
          <p:nvPr/>
        </p:nvPicPr>
        <p:blipFill>
          <a:blip r:embed="rId2"/>
          <a:stretch/>
        </p:blipFill>
        <p:spPr>
          <a:xfrm>
            <a:off x="1347840" y="1731960"/>
            <a:ext cx="69609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C:\Documents and Settings\Admin\Рабочий стол\4554\1442378_vbxnifcloc.png"/>
          <p:cNvPicPr/>
          <p:nvPr/>
        </p:nvPicPr>
        <p:blipFill>
          <a:blip r:embed="rId1"/>
          <a:stretch/>
        </p:blipFill>
        <p:spPr>
          <a:xfrm>
            <a:off x="71280" y="54000"/>
            <a:ext cx="9072720" cy="68040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/>
          <p:cNvPicPr/>
          <p:nvPr/>
        </p:nvPicPr>
        <p:blipFill>
          <a:blip r:embed="rId2"/>
          <a:stretch/>
        </p:blipFill>
        <p:spPr>
          <a:xfrm>
            <a:off x="128520" y="530280"/>
            <a:ext cx="93330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User\Desktop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3" descr=""/>
          <p:cNvPicPr/>
          <p:nvPr/>
        </p:nvPicPr>
        <p:blipFill>
          <a:blip r:embed="rId2"/>
          <a:stretch/>
        </p:blipFill>
        <p:spPr>
          <a:xfrm>
            <a:off x="3505320" y="469800"/>
            <a:ext cx="5699160" cy="58946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4" descr=""/>
          <p:cNvPicPr/>
          <p:nvPr/>
        </p:nvPicPr>
        <p:blipFill>
          <a:blip r:embed="rId3"/>
          <a:stretch/>
        </p:blipFill>
        <p:spPr>
          <a:xfrm>
            <a:off x="-6480" y="96840"/>
            <a:ext cx="3299040" cy="134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Documents and Settings\Admin\Рабочий стол\4554\dram38521.gif"/>
          <p:cNvPicPr/>
          <p:nvPr/>
        </p:nvPicPr>
        <p:blipFill>
          <a:blip r:embed="rId4"/>
          <a:stretch/>
        </p:blipFill>
        <p:spPr>
          <a:xfrm>
            <a:off x="1500120" y="2071800"/>
            <a:ext cx="266400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1018 C 0.02865 0.00925 0.05764 0.00902 0.08629 0.0074 C 0.09479 0.00694 0.10608 -0.003 0.11511 -0.00555 C 0.13386 -0.02081 0.12309 -0.01549 0.14844 -0.01896 C 0.16615 -0.02427 0.18316 -0.02705 0.20139 -0.02936 C 0.2191 -0.0363 0.21025 -0.03398 0.22813 -0.03722 C 0.23403 -0.04462 0.24028 -0.04901 0.24809 -0.05318 C 0.25226 -0.05549 0.25695 -0.05664 0.26129 -0.05849 C 0.26354 -0.05942 0.26806 -0.06104 0.26806 -0.06081 C 0.27639 -0.0682 0.28611 -0.07052 0.29462 -0.07699 C 0.33906 -0.07375 0.38299 -0.06566 0.42743 -0.06104 C 0.45834 -0.05387 0.41146 -0.06451 0.45868 -0.05595 C 0.47066 -0.05387 0.48229 -0.04763 0.49393 -0.04277 C 0.51198 -0.03583 0.53125 -0.03237 0.54948 -0.02682 C 0.57066 -0.02057 0.59219 -0.01248 0.61372 -0.00832 C 0.67136 0.00324 0.73038 0.00232 0.78872 0.00232 E">
                                      <p:cBhvr>
                                        <p:cTn id="1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E:\Новая папка (3)\fd1f7a8a36.jpeg"/>
          <p:cNvPicPr/>
          <p:nvPr/>
        </p:nvPicPr>
        <p:blipFill>
          <a:blip r:embed="rId1"/>
          <a:stretch/>
        </p:blipFill>
        <p:spPr>
          <a:xfrm>
            <a:off x="-500040" y="0"/>
            <a:ext cx="56656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" descr=""/>
          <p:cNvPicPr/>
          <p:nvPr/>
        </p:nvPicPr>
        <p:blipFill>
          <a:blip r:embed="rId2"/>
          <a:stretch/>
        </p:blipFill>
        <p:spPr>
          <a:xfrm>
            <a:off x="5705640" y="66600"/>
            <a:ext cx="2517480" cy="981000"/>
          </a:xfrm>
          <a:prstGeom prst="rect">
            <a:avLst/>
          </a:prstGeom>
          <a:ln w="0">
            <a:noFill/>
          </a:ln>
        </p:spPr>
      </p:pic>
      <p:sp>
        <p:nvSpPr>
          <p:cNvPr id="57" name="Горизонтальный свиток 4"/>
          <p:cNvSpPr/>
          <p:nvPr/>
        </p:nvSpPr>
        <p:spPr>
          <a:xfrm>
            <a:off x="4857840" y="571680"/>
            <a:ext cx="4286160" cy="62863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6215040" y="1000080"/>
            <a:ext cx="11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ка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5643720" y="1643040"/>
            <a:ext cx="350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ебуются смельчаки для похода из тридевятого царства в тридесятое  государство выруч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вана – цареви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4714920" y="4500720"/>
            <a:ext cx="44290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з какого царства похищен Иван-царевич, в каком государстве живёт Кощей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2571840"/>
            <a:ext cx="9144000" cy="48290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Тридевятое Царст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Тридесятое Государст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Прямоугольник 6" descr=""/>
          <p:cNvPicPr/>
          <p:nvPr/>
        </p:nvPicPr>
        <p:blipFill>
          <a:blip r:embed="rId1"/>
          <a:stretch/>
        </p:blipFill>
        <p:spPr>
          <a:xfrm>
            <a:off x="7223040" y="2444760"/>
            <a:ext cx="1639800" cy="115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iskrakorgavin.moy.su/shooka/5.jpg"/>
          <p:cNvPicPr/>
          <p:nvPr/>
        </p:nvPicPr>
        <p:blipFill>
          <a:blip r:embed="rId2"/>
          <a:stretch/>
        </p:blipFill>
        <p:spPr>
          <a:xfrm>
            <a:off x="7286760" y="242892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7" descr=""/>
          <p:cNvPicPr/>
          <p:nvPr/>
        </p:nvPicPr>
        <p:blipFill>
          <a:blip r:embed="rId3"/>
          <a:stretch/>
        </p:blipFill>
        <p:spPr>
          <a:xfrm>
            <a:off x="7467480" y="4389480"/>
            <a:ext cx="1579680" cy="1803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7429680" y="4500720"/>
            <a:ext cx="1714320" cy="12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User\Desktop\Безымянный.JPG"/>
          <p:cNvPicPr/>
          <p:nvPr/>
        </p:nvPicPr>
        <p:blipFill>
          <a:blip r:embed="rId1"/>
          <a:stretch/>
        </p:blipFill>
        <p:spPr>
          <a:xfrm>
            <a:off x="41400" y="190440"/>
            <a:ext cx="9102600" cy="6685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14520" y="85680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Вас заинтересовало мероприятие, пишите на электронную почт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16:39:40Z</dcterms:created>
  <dc:creator>User</dc:creator>
  <dc:description/>
  <dc:language>en-US</dc:language>
  <cp:lastModifiedBy>User</cp:lastModifiedBy>
  <dcterms:modified xsi:type="dcterms:W3CDTF">2015-01-12T16:46:55Z</dcterms:modified>
  <cp:revision>1</cp:revision>
  <dc:subject/>
  <dc:title>Слайд 1</dc:title>
</cp:coreProperties>
</file>