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27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44C-03D0-4E71-9D7B-C17FD72C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632-D452-43CD-B576-3DC258F2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6BF-C6A3-487F-8D2A-74F04150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F8B-0EA1-49C1-B3F8-FF8E9396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074-2E19-4A05-9305-1C62F782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A13-6359-4E75-A67E-3B353706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F55-E600-459C-AB1A-5A8C9638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AB7-42CD-4E38-8970-25BACA38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2D5-EA64-40A0-8CC6-8528FE0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C00-5879-4F2F-8572-30344B0C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60A-F258-45A6-B148-A8EDE030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371-CDEC-4747-A144-0A941FCD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42C6-C45E-4F74-BAC7-D726F3944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zilla.org/" TargetMode="External"/><Relationship Id="rId3" Type="http://schemas.openxmlformats.org/officeDocument/2006/relationships/hyperlink" Target="http://www.opera.com/" TargetMode="External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penoffice.org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dobe.com/" TargetMode="External"/><Relationship Id="rId3" Type="http://schemas.openxmlformats.org/officeDocument/2006/relationships/hyperlink" Target="http://www.gimp.org/" TargetMode="External"/><Relationship Id="rId4" Type="http://schemas.openxmlformats.org/officeDocument/2006/relationships/hyperlink" Target="http://www.getpaint.net/" TargetMode="External"/><Relationship Id="rId5" Type="http://schemas.openxmlformats.org/officeDocument/2006/relationships/hyperlink" Target="http://www.corel.com/" TargetMode="External"/><Relationship Id="rId6" Type="http://schemas.openxmlformats.org/officeDocument/2006/relationships/hyperlink" Target="http://www.adobe.com/" TargetMode="External"/><Relationship Id="rId7" Type="http://schemas.openxmlformats.org/officeDocument/2006/relationships/hyperlink" Target="http://www.inkscape.org/" TargetMode="External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jpe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nnaclesys.ru/" TargetMode="External"/><Relationship Id="rId3" Type="http://schemas.openxmlformats.org/officeDocument/2006/relationships/hyperlink" Target="http://www.adobe.com/" TargetMode="External"/><Relationship Id="rId4" Type="http://schemas.openxmlformats.org/officeDocument/2006/relationships/hyperlink" Target="http://www.quark.com/" TargetMode="External"/><Relationship Id="rId5" Type="http://schemas.openxmlformats.org/officeDocument/2006/relationships/hyperlink" Target="http://www.adobe.com/" TargetMode="External"/><Relationship Id="rId6" Type="http://schemas.openxmlformats.org/officeDocument/2006/relationships/hyperlink" Target="http://www.scribus.net/" TargetMode="External"/><Relationship Id="rId7" Type="http://schemas.openxmlformats.org/officeDocument/2006/relationships/hyperlink" Target="http://www.scribus.net/" TargetMode="External"/><Relationship Id="rId8" Type="http://schemas.openxmlformats.org/officeDocument/2006/relationships/hyperlink" Target="http://www.scribus.net/" TargetMode="External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ограммное обеспечение компьют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250920" y="115920"/>
            <a:ext cx="8713800" cy="11523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рограммное обеспечение для работы с Интер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24000" y="1268280"/>
            <a:ext cx="8591400" cy="54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1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Брауз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ля просмот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 на эк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net Explor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zilla Firef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mozilla.org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opera.com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far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www.apple.com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r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http://www.google.com/chrome/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Почтов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ем и отправ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crosoft Outlook Exp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crosoft Outl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Bat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ritlabs.co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zilla Thunderbi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www.mozilla-russia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63400" y="5222880"/>
            <a:ext cx="438480" cy="43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5"/>
          <a:stretch/>
        </p:blipFill>
        <p:spPr>
          <a:xfrm>
            <a:off x="528480" y="5724360"/>
            <a:ext cx="632160" cy="400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6"/>
          <a:stretch/>
        </p:blipFill>
        <p:spPr>
          <a:xfrm>
            <a:off x="611280" y="22050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7"/>
          <a:stretch/>
        </p:blipFill>
        <p:spPr>
          <a:xfrm>
            <a:off x="581040" y="17366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8"/>
          <a:stretch/>
        </p:blipFill>
        <p:spPr>
          <a:xfrm>
            <a:off x="574560" y="2627280"/>
            <a:ext cx="449280" cy="39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9"/>
          <a:stretch/>
        </p:blipFill>
        <p:spPr>
          <a:xfrm>
            <a:off x="639720" y="3014640"/>
            <a:ext cx="452520" cy="495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10"/>
          <a:stretch/>
        </p:blipFill>
        <p:spPr>
          <a:xfrm>
            <a:off x="506520" y="4643280"/>
            <a:ext cx="531720" cy="511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11"/>
          <a:stretch/>
        </p:blipFill>
        <p:spPr>
          <a:xfrm>
            <a:off x="541440" y="6146640"/>
            <a:ext cx="604800" cy="60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12"/>
          <a:stretch/>
        </p:blipFill>
        <p:spPr>
          <a:xfrm>
            <a:off x="644400" y="3519360"/>
            <a:ext cx="43668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рограм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одержимое 2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 u="sng">
                <a:solidFill>
                  <a:srgbClr val="0d0d0d"/>
                </a:solidFill>
                <a:uFillTx/>
                <a:latin typeface="Calibri"/>
              </a:rPr>
              <a:t>Программа </a:t>
            </a:r>
            <a:r>
              <a:rPr b="0" lang="en-US" sz="3600" spc="-1" strike="noStrike">
                <a:solidFill>
                  <a:srgbClr val="0d0d0d"/>
                </a:solidFill>
                <a:latin typeface="Calibri"/>
              </a:rPr>
              <a:t>– </a:t>
            </a:r>
            <a:r>
              <a:rPr b="0" lang="en-US" sz="3600" spc="-1" strike="noStrike">
                <a:solidFill>
                  <a:srgbClr val="0d0d0d"/>
                </a:solidFill>
                <a:latin typeface="Arial"/>
              </a:rPr>
              <a:t>упорядоченная последовательность команд (инструкций), необходимых компьютеру для решения поставленной задачи</a:t>
            </a:r>
            <a:r>
              <a:rPr b="0" lang="en-US" sz="3600" spc="-1" strike="noStrike">
                <a:solidFill>
                  <a:srgbClr val="0d0d0d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 u="sng">
                <a:solidFill>
                  <a:srgbClr val="0d0d0d"/>
                </a:solidFill>
                <a:uFillTx/>
                <a:latin typeface="Calibri"/>
              </a:rPr>
              <a:t>Программное обеспечение компьютера </a:t>
            </a:r>
            <a:r>
              <a:rPr b="0" lang="en-US" sz="3600" spc="-1" strike="noStrike">
                <a:solidFill>
                  <a:srgbClr val="0d0d0d"/>
                </a:solidFill>
                <a:latin typeface="Calibri"/>
              </a:rPr>
              <a:t>– совокупность всех программ компьютера, которые необходимы для обеспечения функционирования компьютера и обработки данных различных тип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рограммное обеспечение компьют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 3"/>
          <p:cNvSpPr/>
          <p:nvPr/>
        </p:nvSpPr>
        <p:spPr>
          <a:xfrm>
            <a:off x="1285920" y="142920"/>
            <a:ext cx="6143760" cy="1857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Программное обеспечение (ПО) компьют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Прямая со стрелкой 5"/>
          <p:cNvCxnSpPr>
            <a:endCxn id="48" idx="0"/>
          </p:cNvCxnSpPr>
          <p:nvPr/>
        </p:nvCxnSpPr>
        <p:spPr>
          <a:xfrm flipH="1">
            <a:off x="1321560" y="1695240"/>
            <a:ext cx="786600" cy="929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9" name="Прямая со стрелкой 7"/>
          <p:cNvCxnSpPr/>
          <p:nvPr/>
        </p:nvCxnSpPr>
        <p:spPr>
          <a:xfrm>
            <a:off x="6571800" y="1071360"/>
            <a:ext cx="50076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8" name="Овал 8"/>
          <p:cNvSpPr/>
          <p:nvPr/>
        </p:nvSpPr>
        <p:spPr>
          <a:xfrm>
            <a:off x="179280" y="2637000"/>
            <a:ext cx="2286000" cy="92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икладное П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9"/>
          <p:cNvSpPr/>
          <p:nvPr/>
        </p:nvSpPr>
        <p:spPr>
          <a:xfrm>
            <a:off x="6443640" y="2565360"/>
            <a:ext cx="228600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Системное П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16"/>
          <p:cNvCxnSpPr>
            <a:endCxn id="50" idx="0"/>
          </p:cNvCxnSpPr>
          <p:nvPr/>
        </p:nvCxnSpPr>
        <p:spPr>
          <a:xfrm>
            <a:off x="6586560" y="1695240"/>
            <a:ext cx="1000800" cy="8578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2" name="Прямая со стрелкой 5"/>
          <p:cNvCxnSpPr>
            <a:stCxn id="46" idx="4"/>
          </p:cNvCxnSpPr>
          <p:nvPr/>
        </p:nvCxnSpPr>
        <p:spPr>
          <a:xfrm flipH="1">
            <a:off x="4355280" y="2013120"/>
            <a:ext cx="2520" cy="768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3" name="Овал 8"/>
          <p:cNvSpPr/>
          <p:nvPr/>
        </p:nvSpPr>
        <p:spPr>
          <a:xfrm>
            <a:off x="2771640" y="2781360"/>
            <a:ext cx="324036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Инструментальное П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2143080" y="214200"/>
            <a:ext cx="500076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икладное П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285840" y="1428840"/>
            <a:ext cx="3143160" cy="92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Приложения общего назна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3"/>
          <p:cNvSpPr/>
          <p:nvPr/>
        </p:nvSpPr>
        <p:spPr>
          <a:xfrm>
            <a:off x="250920" y="2637000"/>
            <a:ext cx="3214440" cy="92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Приложения специального назна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4"/>
          <p:cNvSpPr/>
          <p:nvPr/>
        </p:nvSpPr>
        <p:spPr>
          <a:xfrm>
            <a:off x="3203640" y="2997360"/>
            <a:ext cx="3214800" cy="92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5"/>
          <p:cNvSpPr/>
          <p:nvPr/>
        </p:nvSpPr>
        <p:spPr>
          <a:xfrm>
            <a:off x="5929200" y="2276640"/>
            <a:ext cx="3214800" cy="92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Программы для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Прямая со стрелкой 7"/>
          <p:cNvCxnSpPr/>
          <p:nvPr/>
        </p:nvCxnSpPr>
        <p:spPr>
          <a:xfrm flipH="1">
            <a:off x="3143160" y="1285920"/>
            <a:ext cx="643320" cy="3816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60" name="Прямая со стрелкой 9"/>
          <p:cNvCxnSpPr/>
          <p:nvPr/>
        </p:nvCxnSpPr>
        <p:spPr>
          <a:xfrm flipH="1">
            <a:off x="2555280" y="1341000"/>
            <a:ext cx="1649880" cy="1391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61" name="Прямая со стрелкой 11"/>
          <p:cNvCxnSpPr/>
          <p:nvPr/>
        </p:nvCxnSpPr>
        <p:spPr>
          <a:xfrm>
            <a:off x="4427280" y="1341000"/>
            <a:ext cx="168840" cy="16153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62" name="Прямая со стрелкой 13"/>
          <p:cNvCxnSpPr>
            <a:stCxn id="54" idx="4"/>
            <a:endCxn id="58" idx="0"/>
          </p:cNvCxnSpPr>
          <p:nvPr/>
        </p:nvCxnSpPr>
        <p:spPr>
          <a:xfrm>
            <a:off x="4642920" y="1370160"/>
            <a:ext cx="2894760" cy="8942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63" name="Скругленный прямоугольник 29"/>
          <p:cNvSpPr/>
          <p:nvPr/>
        </p:nvSpPr>
        <p:spPr>
          <a:xfrm>
            <a:off x="179280" y="3716280"/>
            <a:ext cx="3384720" cy="1943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Системы компьютерного черчения, энциклопедии, переводчики, системы распознавания текстов, бухгалтерские програм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0"/>
          <p:cNvSpPr/>
          <p:nvPr/>
        </p:nvSpPr>
        <p:spPr>
          <a:xfrm>
            <a:off x="3635280" y="4005360"/>
            <a:ext cx="266544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Логические, стратегические, тренаже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1"/>
          <p:cNvSpPr/>
          <p:nvPr/>
        </p:nvSpPr>
        <p:spPr>
          <a:xfrm>
            <a:off x="6443640" y="3284640"/>
            <a:ext cx="2700360" cy="1441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Электронные учебники и репетиторы, тесты и констру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68360" y="1700280"/>
            <a:ext cx="838656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Текстовые редакто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дактирования текстовых документов без оформ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н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11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Текстовые процессо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дактирования текстовых докум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dP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do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 + рисун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doc, *.doc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 + рисун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ы + автофигуры + диаграммы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nOffice Writer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od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penoffice.org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рограммное обеспечение для работы с текс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971640" y="4633920"/>
            <a:ext cx="590400" cy="609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971640" y="2565360"/>
            <a:ext cx="376200" cy="5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5"/>
          <a:stretch/>
        </p:blipFill>
        <p:spPr>
          <a:xfrm>
            <a:off x="1052640" y="4014720"/>
            <a:ext cx="415800" cy="50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"/>
          <p:cNvPicPr/>
          <p:nvPr/>
        </p:nvPicPr>
        <p:blipFill>
          <a:blip r:embed="rId6"/>
          <a:stretch/>
        </p:blipFill>
        <p:spPr>
          <a:xfrm>
            <a:off x="971640" y="5365800"/>
            <a:ext cx="5842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рограммное обеспечение для обработки изобра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1557360"/>
            <a:ext cx="865980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тровые рисун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bm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ж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gif, *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obe Photosho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p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adobe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imp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gimp.org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int.NE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getpaint.net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кторные рисун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rel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cdr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www.corel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obe Illustrat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ai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www.adobe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sc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www.inkscap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nOffice 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od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8"/>
          <a:stretch/>
        </p:blipFill>
        <p:spPr>
          <a:xfrm>
            <a:off x="826920" y="2060640"/>
            <a:ext cx="438480" cy="56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9"/>
          <a:stretch/>
        </p:blipFill>
        <p:spPr>
          <a:xfrm>
            <a:off x="792000" y="2637000"/>
            <a:ext cx="508320" cy="48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10"/>
          <a:stretch/>
        </p:blipFill>
        <p:spPr>
          <a:xfrm>
            <a:off x="690480" y="3125880"/>
            <a:ext cx="723960" cy="47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11"/>
          <a:stretch/>
        </p:blipFill>
        <p:spPr>
          <a:xfrm>
            <a:off x="804960" y="3656160"/>
            <a:ext cx="495360" cy="51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12"/>
          <a:stretch/>
        </p:blipFill>
        <p:spPr>
          <a:xfrm>
            <a:off x="804960" y="4640400"/>
            <a:ext cx="490320" cy="503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13"/>
          <a:stretch/>
        </p:blipFill>
        <p:spPr>
          <a:xfrm>
            <a:off x="770040" y="5659560"/>
            <a:ext cx="517320" cy="51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14"/>
          <a:stretch/>
        </p:blipFill>
        <p:spPr>
          <a:xfrm>
            <a:off x="804960" y="5148360"/>
            <a:ext cx="501480" cy="482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15"/>
          <a:stretch/>
        </p:blipFill>
        <p:spPr>
          <a:xfrm>
            <a:off x="826920" y="6216480"/>
            <a:ext cx="46044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О для работы с видео и издательские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95280" y="1484280"/>
            <a:ext cx="837252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дакторы виде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a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m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wm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vie Mak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innacle Studio     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pinnaclesys.r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obe Premier       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adobe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c0504d"/>
              </a:buClr>
              <a:buFont typeface="Arial"/>
              <a:buChar char="•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Издательские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ля подготовки печатных материалов (газет, книг, буклет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crosoft Publisher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arkXPress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quark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obe InDesign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www.adobe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18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ribus  </a:t>
            </a:r>
            <a:r>
              <a:rPr b="1" lang="en-US" sz="2400" spc="-1" strike="noStrike">
                <a:solidFill>
                  <a:srgbClr val="00a2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www.scribus.n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9"/>
          <a:stretch/>
        </p:blipFill>
        <p:spPr>
          <a:xfrm>
            <a:off x="826920" y="1916280"/>
            <a:ext cx="435240" cy="463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"/>
          <p:cNvPicPr/>
          <p:nvPr/>
        </p:nvPicPr>
        <p:blipFill>
          <a:blip r:embed="rId10"/>
          <a:stretch/>
        </p:blipFill>
        <p:spPr>
          <a:xfrm>
            <a:off x="826920" y="2400480"/>
            <a:ext cx="439920" cy="46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11"/>
          <a:stretch/>
        </p:blipFill>
        <p:spPr>
          <a:xfrm>
            <a:off x="826920" y="561024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12"/>
          <a:stretch/>
        </p:blipFill>
        <p:spPr>
          <a:xfrm>
            <a:off x="826920" y="5086440"/>
            <a:ext cx="452520" cy="449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13"/>
          <a:stretch/>
        </p:blipFill>
        <p:spPr>
          <a:xfrm>
            <a:off x="782640" y="2932200"/>
            <a:ext cx="525600" cy="515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14"/>
          <a:stretch/>
        </p:blipFill>
        <p:spPr>
          <a:xfrm>
            <a:off x="793800" y="4492800"/>
            <a:ext cx="558720" cy="59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15"/>
          <a:stretch/>
        </p:blipFill>
        <p:spPr>
          <a:xfrm>
            <a:off x="826920" y="6097680"/>
            <a:ext cx="505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Офисное программное обеспеч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4000" y="1628640"/>
            <a:ext cx="8386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1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Электронные таблиц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полнения расчетов с табличными дан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6992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crosoft 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xls, *.xls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6992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nOffice Cal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11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истемы управления базами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6992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crosoft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mdb, *.acc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6992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nOffice B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11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оздание презент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6992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ай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ppt, *.ppt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6992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nOffice Imp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684360" y="5565600"/>
            <a:ext cx="573120" cy="551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539640" cy="550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684360" y="2452680"/>
            <a:ext cx="561960" cy="530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684360" y="3059280"/>
            <a:ext cx="485640" cy="48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6"/>
          <a:stretch/>
        </p:blipFill>
        <p:spPr>
          <a:xfrm>
            <a:off x="706320" y="4597560"/>
            <a:ext cx="476280" cy="47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7"/>
          <a:stretch/>
        </p:blipFill>
        <p:spPr>
          <a:xfrm>
            <a:off x="741240" y="6195960"/>
            <a:ext cx="4762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6:56:16Z</dcterms:created>
  <dc:creator>Катенок</dc:creator>
  <dc:description/>
  <dc:language>en-US</dc:language>
  <cp:lastModifiedBy>Admin</cp:lastModifiedBy>
  <dcterms:modified xsi:type="dcterms:W3CDTF">2009-11-14T11:32:26Z</dcterms:modified>
  <cp:revision>14</cp:revision>
  <dc:subject/>
  <dc:title>Программное обеспечение компьютера</dc:title>
</cp:coreProperties>
</file>