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F79-B2B6-46B5-B911-9B29A1CF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D7C-4950-4B32-88C7-25A3647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87B-4E79-4D80-9166-4E619293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576-7A40-4136-838A-F6AA449B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1ED-3749-4915-8DCC-30B3E6D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63B-CD12-4C32-8B3E-E1B3F29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AC8-EAFB-4330-8148-26D20B59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0EC-CDA8-4599-869C-A4CAC60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EA9-C4FA-4E62-8187-B67E3ED4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1E3-F9FB-4095-BAFE-EE37DDA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89B-4F44-4DF3-B432-AB3CFFC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45F-9C0A-4554-9314-29BD1D7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6969-296A-4B40-AD9E-ADE82460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63720"/>
            <a:ext cx="907092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кольный театр дома для младших дошкольнико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БДОУ №2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3г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атель: Лучун Т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9280" y="3419640"/>
            <a:ext cx="5040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75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;Arial"/>
                <a:ea typeface="Arial Unicode MS"/>
              </a:rPr>
              <a:t>Польза кукольного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907092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ие игры развивают, прежде всего, фантазию, творческое мышление, память, мелкую моторику рук, концентрацию внимания, логическое мыш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ли ребенок играет в домашнем театре, то он постоянно заучивает какие-нибудь реплики или придумывает новые - это непосредственно оказывает хорошее воздействие на память ребенка и на развитие мышления. Различные сценки, постановку которых осуществляем с помощью кукол, отлично развивают воображение ребенка, его фантазию, способствуют пополнению словарного запа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тупления в качестве кукловода в домашнем театре помогут ребенку преодолеть стеснительность, приобрести уверенность в с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82320"/>
            <a:ext cx="899964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just">
              <a:lnSpc>
                <a:spcPct val="93000"/>
              </a:lnSpc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рсонажей для спектакля можно приобрести в любом магазине, выбор на такие игрушки огромен: есть отдельные куклы, а есть целые наборы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е обязательно всё полностью скупать, чтобы получился огромный театр - можно проявлять свою фантазию: например, если вам в одной сцене понадобилась машинка, то найдите какой нибудь камешек, раскрасьте его и пусть это будет вашей новой составляющей театра.Хотя это уже тема для новой презентации.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абота выполнена по средством интернет ресурсов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http://mamochki-detishki.ru/teatralnoe-predstavlenie-v-domashnix-usloviyax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спехов вам и вашим воспитанника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кукольного теат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еатр в кону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уклы- перча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альчиковый теат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;Arial"/>
                <a:ea typeface="Tahoma"/>
              </a:rPr>
              <a:t>Вкладыши с пластиковыми руч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  <a:ea typeface="Tahoma"/>
              </a:rPr>
              <a:t>5.Игры – констру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  <a:ea typeface="Tahoma"/>
              </a:rPr>
              <a:t>6.Игрушки на ру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  <a:ea typeface="Tahoma"/>
              </a:rPr>
              <a:t>7. Куклы - марион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Театр в кон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3440" y="180000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;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;Arial"/>
              </a:rPr>
              <a:t>Игрушка очень яркая и, несомненно, привлечет внимание ребёнка, если потянуть за палочку кукла спрячется вниз, таким образом можно концертировать внима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59280" y="197964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Куклы- перч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1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</a:rPr>
              <a:t>Для детей выбирают игрушку яркую и из безопасного материала. От лица такой игрушки разговаривают с ребенком, привлекают его внимание, пусть он концентрирует свое внимание на объекте, также можно самой игрушкой во время игры касатьс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2160720"/>
            <a:ext cx="414036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Пальчиков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720" y="1698120"/>
            <a:ext cx="442584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</a:rPr>
              <a:t>Пальчиковый театр отлично развивает мелкую моторику рук, которая отвечает за развитие умственных способностей у детей и подготавливают руку к письму. Тут не требуется особенного управления игрушкой, тут всё гораздо проще,  это движение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1979640"/>
            <a:ext cx="414036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Вкладыши с пластиковыми ру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030400"/>
            <a:ext cx="44262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;Arial"/>
              </a:rPr>
              <a:t>На деревянных фигурках расположены  пластиковые ручки, благодаря которым легко управлять героем. Детям можно читать различные сказки и обыгрывать их с помощью вкладышей – так интересней воспринимать  рассказ, быстрее его запом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00720" y="1979640"/>
            <a:ext cx="41400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7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;Arial"/>
                <a:ea typeface="Tahoma"/>
              </a:rPr>
              <a:t>5.Игры – констру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50760"/>
            <a:ext cx="44262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;Arial"/>
              </a:rPr>
              <a:t>Эта разновидность простейшего детского театра и легкого конструктора.Благодаря таким наборам можно не только научиться простейшему конструированию, но и проявить фантазию и очень интересно рассказать детям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40360" y="2160720"/>
            <a:ext cx="4500360" cy="42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;Arial"/>
                <a:ea typeface="Tahoma"/>
              </a:rPr>
              <a:t>6.Игрушки на ру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;Arial"/>
              </a:rPr>
              <a:t>Такие игрушки очень подойдут детям. Герои очень точно похожи на своих персонажей из мультфильмов или сказок Управлять  можно  головой, руками и  ногами, если это животное, то чаще всего в ушах расположены проволочки для придания определенной им формы для создания нужного обра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62520" y="1969920"/>
            <a:ext cx="4676760" cy="46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;Arial"/>
                <a:ea typeface="Tahoma"/>
              </a:rPr>
              <a:t>7. Куклы - марион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;Arial"/>
              </a:rPr>
              <a:t>Куклы- марионетки не отличаются  от живых. Кукловод лишь управляет нитями, которые закреплены обычно на деревянных палочках. Нити прикрепляются к разным частям куклы, тем самым приводят их в дви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0360" y="19796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5-01-09T21:04:02Z</dcterms:modified>
  <cp:revision>23</cp:revision>
  <dc:subject/>
  <dc:title/>
</cp:coreProperties>
</file>