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2B2-1F56-4B3B-BF8A-FE0B394B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8BA-86FF-4013-B39B-5BB16CF3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09A-2D6D-497A-8D62-6866EA43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6EB-1BBF-4C6C-9B00-F58940A7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8109-EC72-4BDB-A7C0-168C301C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D66A-E45E-467E-BD80-10DCC221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BB18-621C-492A-BF5B-1B5C0957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C357-F625-485F-80DF-C14B198D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E40C-CDBA-4FA7-A6DD-4CE320EA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752A-25A1-45A9-8AF4-2D885869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E758-AAC3-49DE-9FD9-C484633A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163-644F-4F32-8CE7-03B96DA6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7536-C8DB-4848-8FA3-B870E5B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4085-AE52-45C9-8501-5F00E43C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4D22-5BB9-403F-94C5-95C04A0E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03D0-6F28-4914-8DBB-B0232828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9E3B-A368-4568-B703-ACBD93CD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179-B56F-4379-AF4B-70292264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885-C838-4E09-98AF-BD9B128E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005-0FEF-4295-BB40-A9841778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F94-9363-4D72-8874-7745E054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475-0C3A-479E-9EE5-8B3D3569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F49-63D1-471B-9134-257C092C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455-CA38-41FC-8DEB-BC6725C1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95EE-7C59-4F32-90A7-8F8096806E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6BEB-04FF-4546-B183-BC1C8DB5F9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1767960"/>
            <a:ext cx="748656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ТИПЫ ХИМИЧЕСКИХ РЕАКЦИЙ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лассификация в зависимости от степени окисления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кислительно-восстановите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ип химической реакции, в ходе которой химические элементы меняю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окис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исление фосфора кислор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P+5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2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516720" y="3860640"/>
            <a:ext cx="2448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лассификация в зависимости от степени окисл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628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ез изменения степени окисления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ип химической реакции, в ходе которой химические элементы не меняют степени окис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меризация оксида аз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5651640" y="3645000"/>
            <a:ext cx="324144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сификация по механизму 2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сификация по тепловому эффекту 6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сификация по обратимости 8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сификация в зависимости от степени окисления 10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ю выполнила ученица 9А класса Афонченко Ан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лассификация по механизм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мещ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тип химической реакции между простым и сложным веществом, при котором простое вещество замещает один из компонентов слож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+BC=AC+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действие натрия с 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Na+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=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OH+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219640" y="3201840"/>
            <a:ext cx="3673440" cy="34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лассификация по механизм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злож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тип химической реакции, при котором из одного вещества получаются два или более, менее слож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B=A+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ложение в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=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43280" y="3263760"/>
            <a:ext cx="4500720" cy="337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лассификация по механизм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единение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п химической реакции между двумя или несколькими веществами, при котором получается одно, более сложн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+B=A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действие алюминия с й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Al+3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2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12567" b="11737"/>
          <a:stretch/>
        </p:blipFill>
        <p:spPr>
          <a:xfrm>
            <a:off x="5940360" y="3357720"/>
            <a:ext cx="2854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лассификация по механизм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мен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п химической реакции между сложными веществами, при котором они меняются составными част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B+CD=AD+C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действие нитрата сереб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соляной кислот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HCl=AgCl+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31035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лассификация по тепловому эффект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ндотермическ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химическая реакция, протекающая с поглощением эне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ение оз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2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724360" y="3429000"/>
            <a:ext cx="3024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лассификация по тепловому эффект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зотермическая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химическая реакция, протекающая с выделением энерг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юмотерм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Al+F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2Fe+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5887" t="0" r="-17660" b="13730"/>
          <a:stretch/>
        </p:blipFill>
        <p:spPr>
          <a:xfrm>
            <a:off x="5724360" y="3141720"/>
            <a:ext cx="36356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лассификация по обратим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ратимая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ип химической реакции в результате которой прямой и обратный процессы протекают одновременно, во взаимопротивоположных направле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действие водорода с й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2H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contrast="66000"/>
          </a:blip>
          <a:srcRect l="12475" t="11196" r="0" b="0"/>
          <a:stretch/>
        </p:blipFill>
        <p:spPr>
          <a:xfrm>
            <a:off x="5796000" y="4221000"/>
            <a:ext cx="30607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лассификация по обратим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еобратим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ип химической реакции, в результате которого реакция имеет одно напра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йтрализ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Cl+NaOH=NaCl+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219640" y="3284640"/>
            <a:ext cx="392436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15:31Z</dcterms:created>
  <dc:creator>OEM user</dc:creator>
  <dc:description/>
  <dc:language>en-US</dc:language>
  <cp:lastModifiedBy>OEM user</cp:lastModifiedBy>
  <dcterms:modified xsi:type="dcterms:W3CDTF">2007-12-18T18:33:16Z</dcterms:modified>
  <cp:revision>7</cp:revision>
  <dc:subject/>
  <dc:title>   ТИПЫ ХИМИЧЕСКИЙ РЕАКЦИЙ</dc:title>
</cp:coreProperties>
</file>