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29.gif" ContentType="image/gif"/>
  <Override PartName="/ppt/media/image13.png" ContentType="image/png"/>
  <Override PartName="/ppt/media/image8.png" ContentType="image/png"/>
  <Override PartName="/ppt/media/image28.gif" ContentType="image/gif"/>
  <Override PartName="/ppt/media/image12.png" ContentType="image/png"/>
  <Override PartName="/ppt/media/image7.png" ContentType="image/png"/>
  <Override PartName="/ppt/media/image27.gif" ContentType="image/gif"/>
  <Override PartName="/ppt/media/image11.png" ContentType="image/png"/>
  <Override PartName="/ppt/media/image6.png" ContentType="image/png"/>
  <Override PartName="/ppt/media/image26.gif" ContentType="image/gif"/>
  <Override PartName="/ppt/media/image10.png" ContentType="image/png"/>
  <Override PartName="/ppt/media/image5.png" ContentType="image/png"/>
  <Override PartName="/ppt/media/image25.gif" ContentType="image/gif"/>
  <Override PartName="/ppt/media/image4.png" ContentType="image/png"/>
  <Override PartName="/ppt/media/image24.gif" ContentType="image/gif"/>
  <Override PartName="/ppt/media/image20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19.gif" ContentType="image/gif"/>
  <Override PartName="/ppt/media/image1.png" ContentType="image/png"/>
  <Override PartName="/ppt/media/image22.gif" ContentType="image/gif"/>
  <Override PartName="/ppt/media/image2.png" ContentType="image/png"/>
  <Override PartName="/ppt/media/image23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50C-3DDB-45CD-960B-A928E24D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775-15AE-4F70-B96F-064F6D9A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7D40-CF88-436A-BBE1-7D014F2B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A8D-4EB4-481B-9380-F60F9AD7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28DD-6AE0-402C-A174-F44077D1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19CD-104B-4536-B973-1FCF0895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288A-CEB0-4FBF-AC85-EA033BE7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A721-D4B5-4432-AFFB-748DACEC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412C-849D-46BF-A45B-365AB4CD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119E-2DF7-416C-8005-EA1C87B4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3A3D-2DC8-435D-B155-714D71A8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D4B-12AD-4849-9559-D2B4FDBD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140A-424B-4B01-906A-B8D74CE6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96D1-C8EB-4421-A65B-A9001E8B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4C90-2E6E-4FF1-96FE-80EC981C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1863-C840-4E28-8419-4D827EEF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6532-4894-4362-9E0E-A103D389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EF4-ABFB-46D2-A6ED-FB2FFA31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D6DA-AAFF-4FAC-A4CD-16B7B4B9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13AE-FC8F-4CAC-9EEF-8A8EC46C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973-FF8A-4165-9377-3BBED9F4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5C0-6E56-4391-94D5-63F2067F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A93-1269-48F2-A77E-01335C8A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56D-26A8-4CE0-AEB8-333A1A7E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1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32200" y="3230640"/>
                  <a:ext cx="3758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29560" y="900000"/>
                  <a:ext cx="29412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2520" y="64080"/>
                <a:ext cx="1554480" cy="6001920"/>
                <a:chOff x="7472520" y="64080"/>
                <a:chExt cx="1554480" cy="600192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5240" y="4843080"/>
                  <a:ext cx="95616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89880" y="153000"/>
                  <a:ext cx="66924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1760" y="3769200"/>
                  <a:ext cx="59220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8640" y="1771200"/>
                  <a:ext cx="70992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11160" y="6206760"/>
              <a:ext cx="90396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0DEF-F814-4F25-9AD7-2ED8B3FCDDAB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87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32200" y="3230640"/>
                  <a:ext cx="3758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29560" y="900000"/>
                  <a:ext cx="29412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2520" y="64080"/>
                <a:ext cx="1554480" cy="6001920"/>
                <a:chOff x="7472520" y="64080"/>
                <a:chExt cx="1554480" cy="600192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5240" y="4843080"/>
                  <a:ext cx="95616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89880" y="153000"/>
                  <a:ext cx="66924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1760" y="3769200"/>
                  <a:ext cx="59220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8640" y="1771200"/>
                  <a:ext cx="70992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11160" y="6206760"/>
              <a:ext cx="90396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1" name="Oval 31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132" name="Oval 31" descr=""/>
            <p:cNvPicPr/>
            <p:nvPr/>
          </p:nvPicPr>
          <p:blipFill>
            <a:blip r:embed="rId13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4" name="Oval 32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135" name="Oval 32" descr=""/>
            <p:cNvPicPr/>
            <p:nvPr/>
          </p:nvPicPr>
          <p:blipFill>
            <a:blip r:embed="rId14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7" name="Oval 28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138" name="Oval 28" descr=""/>
            <p:cNvPicPr/>
            <p:nvPr/>
          </p:nvPicPr>
          <p:blipFill>
            <a:blip r:embed="rId15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0" name="Oval 3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141" name="Oval 30" descr=""/>
            <p:cNvPicPr/>
            <p:nvPr/>
          </p:nvPicPr>
          <p:blipFill>
            <a:blip r:embed="rId16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3" name="Oval 27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144" name="Oval 27" descr=""/>
            <p:cNvPicPr/>
            <p:nvPr/>
          </p:nvPicPr>
          <p:blipFill>
            <a:blip r:embed="rId17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6" name="Oval 29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147" name="Oval 29" descr=""/>
            <p:cNvPicPr/>
            <p:nvPr/>
          </p:nvPicPr>
          <p:blipFill>
            <a:blip r:embed="rId18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9" name="Oval 3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150" name="Oval 33" descr=""/>
            <p:cNvPicPr/>
            <p:nvPr/>
          </p:nvPicPr>
          <p:blipFill>
            <a:blip r:embed="rId19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2" name="Oval 3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153" name="Oval 34" descr=""/>
            <p:cNvPicPr/>
            <p:nvPr/>
          </p:nvPicPr>
          <p:blipFill>
            <a:blip r:embed="rId20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B5E7-2167-4A95-842E-3E97CB38A515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41560" y="3306600"/>
            <a:ext cx="428436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600" spc="-1" strike="noStrike">
                <a:solidFill>
                  <a:srgbClr val="ffc000"/>
                </a:solidFill>
                <a:latin typeface="Verdana"/>
              </a:rPr>
              <a:t>Вкусные истории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02376f"/>
              </a:solidFill>
              <a:latin typeface="Verdana"/>
            </a:endParaRPr>
          </a:p>
        </p:txBody>
      </p:sp>
      <p:pic>
        <p:nvPicPr>
          <p:cNvPr id="198" name="Picture 4" descr="C:\Users\Максим\Desktop\2161839-6a43804d90d56c6a.gif"/>
          <p:cNvPicPr/>
          <p:nvPr/>
        </p:nvPicPr>
        <p:blipFill>
          <a:blip r:embed="rId1"/>
          <a:stretch/>
        </p:blipFill>
        <p:spPr>
          <a:xfrm>
            <a:off x="324000" y="620640"/>
            <a:ext cx="351792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Verdana"/>
              </a:rPr>
              <a:t>Какие блюда вы знаете?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- Холодные  закуски (разные салаты и винегрет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-Первые блюда (борщ, рассольник, бульон, овощные и рыбные    супы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-Вторые блюда (мясное или рыбное блюдо с овощным гарниром, каши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- Третьи (компот, фрукты, соки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Picture 4" descr="C:\Users\Максим\Desktop\f2ae9983dc24408d183ea3394ace777c.gif"/>
          <p:cNvPicPr/>
          <p:nvPr/>
        </p:nvPicPr>
        <p:blipFill>
          <a:blip r:embed="rId1"/>
          <a:stretch/>
        </p:blipFill>
        <p:spPr>
          <a:xfrm>
            <a:off x="6130800" y="4352760"/>
            <a:ext cx="300204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20280"/>
            <a:ext cx="7124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Какие овощные соки вы знаете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09800" y="1806480"/>
            <a:ext cx="7124400" cy="27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Морковный, свекольный, томатный, тыквенный, капустны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Что такое витамины? 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Где содержится больше всего витаминов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Биологически активные органические соединения, имеющие большое значение для нормального обмена веществ и жизнедеятельности организма. Во фруктах и   овоща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Picture 2" descr="C:\Users\Максим\Desktop\F28_Ani_Tomatobeet.gif"/>
          <p:cNvPicPr/>
          <p:nvPr/>
        </p:nvPicPr>
        <p:blipFill>
          <a:blip r:embed="rId1"/>
          <a:stretch/>
        </p:blipFill>
        <p:spPr>
          <a:xfrm>
            <a:off x="6473880" y="3957480"/>
            <a:ext cx="256860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09800" y="907920"/>
            <a:ext cx="7124400" cy="394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Например,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РЫБА И МОРЕПРОДУКТЫ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являются важнейшим источником питательных веществ высокой биологической ценност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Белки рыбы лучше перевариваются и усваиваются организмом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Рыба содержит фосфор, кальций, необходимые для роста и крепости зубов и костей. В ней много витаминов А и Д, микроэлементов, йод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Picture 2" descr="C:\Users\Максим\Desktop\638004da2a57.gif"/>
          <p:cNvPicPr/>
          <p:nvPr/>
        </p:nvPicPr>
        <p:blipFill>
          <a:blip r:embed="rId1"/>
          <a:stretch/>
        </p:blipFill>
        <p:spPr>
          <a:xfrm>
            <a:off x="4859280" y="4508640"/>
            <a:ext cx="37195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Молоко и молочные продукты содержат белок, жир, молочный сахар, вода, кальций, фосфор, железо, витамины А, группы В, РР, С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 </a:t>
            </a:r>
            <a:r>
              <a:rPr b="0" lang="ru-RU" sz="3600" spc="-1" strike="noStrike">
                <a:solidFill>
                  <a:srgbClr val="ffc000"/>
                </a:solidFill>
                <a:latin typeface="Verdana"/>
              </a:rPr>
              <a:t>Какие правила необходимо выполнять во время еды?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Мыть руки перед едой с мыло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-Не разговаривать во время еды и не читать. «Когда я ем, я глух и нем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-Есть небольшими кусочками, не торопяс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-Мыть фрукты и овощи перед едо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-Есть в мер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Picture 2" descr="C:\Users\Максим\Desktop\1046287-aaaa6e0f86f7268b.gif"/>
          <p:cNvPicPr/>
          <p:nvPr/>
        </p:nvPicPr>
        <p:blipFill>
          <a:blip r:embed="rId1"/>
          <a:stretch/>
        </p:blipFill>
        <p:spPr>
          <a:xfrm>
            <a:off x="6615000" y="4221000"/>
            <a:ext cx="252432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250" autoRev="1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250" autoRev="1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250" autoRev="1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250" autoRev="1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250" autoRev="1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Какие вы знаете правила питания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 Питаться полноценно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Правильно совмещать продукт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Правильно выбирать напит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Тщательно пережевыва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Не отвлекатьс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Накладывать еду в тарелку по размер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 Не заеда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2" descr="C:\Users\Максим\Desktop\ezhik%20est.gif"/>
          <p:cNvPicPr/>
          <p:nvPr/>
        </p:nvPicPr>
        <p:blipFill>
          <a:blip r:embed="rId1"/>
          <a:stretch/>
        </p:blipFill>
        <p:spPr>
          <a:xfrm>
            <a:off x="5952960" y="2349360"/>
            <a:ext cx="30830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7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2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7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2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7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2" dur="2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7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ffc000"/>
                </a:solidFill>
                <a:latin typeface="Verdana"/>
              </a:rPr>
              <a:t>Если хочешь быть здоровым, нужно заниматься спортом и правильно питаться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Verdana"/>
              </a:rPr>
              <a:t>Есть полезную, богатую витаминами пищу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0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0" name="Picture 3" descr="C:\Users\Максим\Desktop\4125337.gif"/>
          <p:cNvPicPr/>
          <p:nvPr/>
        </p:nvPicPr>
        <p:blipFill>
          <a:blip r:embed="rId1"/>
          <a:stretch/>
        </p:blipFill>
        <p:spPr>
          <a:xfrm>
            <a:off x="5992920" y="692280"/>
            <a:ext cx="3127320" cy="32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Verdana"/>
              </a:rPr>
              <a:t>Что такое питание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Это процесс усвоения организмом питательных веществ, необходимых для поддержания жизни, здоровья и работоспособ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2" descr="C:\Users\Максим\Desktop\bd6913c79c24b368c147f5a73b40e94d.gif"/>
          <p:cNvPicPr/>
          <p:nvPr/>
        </p:nvPicPr>
        <p:blipFill>
          <a:blip r:embed="rId1"/>
          <a:stretch/>
        </p:blipFill>
        <p:spPr>
          <a:xfrm>
            <a:off x="6081840" y="981000"/>
            <a:ext cx="2871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676440"/>
            <a:ext cx="842472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Verdana"/>
              </a:rPr>
              <a:t>Какие продукты называются полезными?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Продукты, в которых есть вещества, без которых человек не может жить и развиваться.  Они необходимы  человеку каждый ден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2" descr="C:\Users\Максим\Desktop\edaa-434.gif"/>
          <p:cNvPicPr/>
          <p:nvPr/>
        </p:nvPicPr>
        <p:blipFill>
          <a:blip r:embed="rId1"/>
          <a:stretch/>
        </p:blipFill>
        <p:spPr>
          <a:xfrm>
            <a:off x="5046840" y="3716280"/>
            <a:ext cx="41288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 </a:t>
            </a:r>
            <a:r>
              <a:rPr b="0" lang="ru-RU" sz="4000" spc="-1" strike="noStrike">
                <a:solidFill>
                  <a:srgbClr val="ffc000"/>
                </a:solidFill>
                <a:latin typeface="Verdana"/>
              </a:rPr>
              <a:t>Что поступает с пищей в организм человека?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09800" y="1806120"/>
            <a:ext cx="7124400" cy="21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4400" spc="-1" strike="noStrike">
                <a:solidFill>
                  <a:srgbClr val="ffffff"/>
                </a:solidFill>
                <a:latin typeface="Verdana"/>
              </a:rPr>
              <a:t>Вода, белки, жиры, углеводы, витамины и минеральные сол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2" descr="C:\Users\Максим\Desktop\image_12505121803025116609.gif"/>
          <p:cNvPicPr/>
          <p:nvPr/>
        </p:nvPicPr>
        <p:blipFill>
          <a:blip r:embed="rId1"/>
          <a:stretch/>
        </p:blipFill>
        <p:spPr>
          <a:xfrm>
            <a:off x="3419640" y="3808440"/>
            <a:ext cx="3024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Verdana"/>
              </a:rPr>
              <a:t>Что такое белки?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Основа жизни. Они обеспечивают рост организма, формирование всех органов и систем. Они необходимы в любом возрасте, но особенно в детском и юношеском, когда организм развив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Verdana"/>
              </a:rPr>
              <a:t>Что такое жиры?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Это резервы энергии нашего организма. Они находятся во всех тканях или накапливаются в некоторых органах тела (почках, сердце и других органах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 </a:t>
            </a:r>
            <a:r>
              <a:rPr b="0" lang="ru-RU" sz="4400" spc="-1" strike="noStrike">
                <a:solidFill>
                  <a:srgbClr val="ffc000"/>
                </a:solidFill>
                <a:latin typeface="Verdana"/>
              </a:rPr>
              <a:t>Что такое углеводы?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Главный источник энергии для организма. Потребность в них в 4-5 раз больше, чем в белках и жирах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Picture 2" descr="C:\Users\Максим\Desktop\anime-eda-102.gif"/>
          <p:cNvPicPr/>
          <p:nvPr/>
        </p:nvPicPr>
        <p:blipFill>
          <a:blip r:embed="rId1"/>
          <a:stretch/>
        </p:blipFill>
        <p:spPr>
          <a:xfrm>
            <a:off x="5921280" y="4610160"/>
            <a:ext cx="28688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Verdana"/>
              </a:rPr>
              <a:t>Что такое режим питания?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1. Кратность приёма пищ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2. Интервалы между приёмами пищ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3. Распределение калорийности суточного рациона между отдельными приём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Наиболее рациональным является четырёхразовое питани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Verdana"/>
              </a:rPr>
              <a:t>Режим питани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7.30 - 8.00 — завтрак;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10.00 - 10.30 — школьный завтрак;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13.00 - 13.30 - обед;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16.00 - 16.30 — полдник;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19.00 - 19.30 – ужин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4:58:18Z</dcterms:created>
  <dc:creator>Максим</dc:creator>
  <dc:description/>
  <dc:language>en-US</dc:language>
  <cp:lastModifiedBy>Максим</cp:lastModifiedBy>
  <dcterms:modified xsi:type="dcterms:W3CDTF">2014-10-21T16:16:22Z</dcterms:modified>
  <cp:revision>10</cp:revision>
  <dc:subject/>
  <dc:title>Вкусные истории</dc:title>
</cp:coreProperties>
</file>