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D699E-C2BC-46DF-B76E-7258224D2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DEEAE-3811-4B27-B765-F44C0A74F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ED28B-2AC8-4A90-8958-76EB33639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49B2F-A9E6-48C6-A7DC-53EE6838C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07ACC-796B-4913-A374-54C084C3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1B869-5082-4DC4-A591-98AC8139A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79AB9-A8EA-4566-B92C-0BBFDED1C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C27A6-110F-4B9B-812B-421D7CF32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16676-BCDB-4556-BE2F-A9D45C1F1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0F713-86DB-44A0-A06E-7D9ECDFD0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57A6-6572-4D1C-A8F0-076E5A0D7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C9F9-AE2D-4AB8-88E0-F29CB69CF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9060-05B9-4932-8262-6A3119ACC3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206064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5400" spc="-1" strike="noStrike">
                <a:solidFill>
                  <a:srgbClr val="000000"/>
                </a:solidFill>
                <a:latin typeface="Arial"/>
              </a:rPr>
              <a:t>Зачет  по теме «Лексик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0" y="476280"/>
            <a:ext cx="9144000" cy="5435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9)Исправьте  ошибки в употреблении ФО.</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Гроша выеденного не стоит, смотреть спустя рукава, голова убелена сединой, быть из робкой десятки, семи пядей на лбу, делать под скорую руку, сделать хорошую мину, бить другим ключом, ни зги не брезжит, битый небитого тащит.</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Сломив голову, кануть в лето, как мышь в колесе, как рыба в мутной воде, на скорую нитку, задать стрекач, надрывать животик, яблоко разбора, куда Иван телят не гонял, прописная правда, курам наспех.</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476280"/>
            <a:ext cx="9144000" cy="594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000000"/>
                </a:solidFill>
                <a:latin typeface="Arial"/>
              </a:rPr>
              <a:t>1)Определите значение слов. Распределите слова в два столбика:               1) историзмы; 2) архаизмы.</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Городовой, цирюльник, перст, епанча, кольчуга, вотще, чело, конка, бурса, буде, отрок, курсистка, доселе, зерцало, ямщик, сокольничий, алтын, пищаль, челобитье, гонитель, изрядный, комедиант, столоначальник, рачительный, смерд, чужестранец, вече, опричник, яхонт, камергер, диамант, картуз, камердинер, маёвка, стач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549360"/>
            <a:ext cx="9144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3200" spc="-1" strike="noStrike">
                <a:solidFill>
                  <a:srgbClr val="000000"/>
                </a:solidFill>
                <a:latin typeface="Arial"/>
              </a:rPr>
              <a:t>2)Выделите историзмы и архаизмы во фрагменте речи Иоанна Грозного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А.К.Толстой «Князь Серебряный». С какой целью они используютс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 Я , аки господин винограда, поставлен Господом Богом над народом возделывати виноград мой. Бояре же мои, и дума, и советники не хотели помогать мне и замыслили погубить меня; тогда я взял, от них виноград мой, и отдал другим делателям. И се есть опрични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0"/>
            <a:ext cx="9144000" cy="6192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3.Выделите диалектизмы в следующих текстах. Постарайтесь по контексту определить значения диалектных слов.</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аршина сплавщиков – краснолицый, бородатый мужик с диковатыми глазами- протягивает боцману и капитану ложки:</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Садитесь снедать, мужики! Уха, должно быть, скусная! Мы намедни на берег смотались, рыбёшкой разжились…исетра кусок, кельмы хребтина… Настоящий нарымский говор у старшины: слова произносит вкусно, дробно и в то же время немного тянет окончания.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ригостевайте, мужики!</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2) Старуха, укачивая дитя, бурчал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Ты , старый, сроду на выдумки. Спать ложились бы, гас всё дорожает, а ты жжёшь…</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Не разумеешь- молчи! Самое стерлядей на косе возьмём. Рыба к берегу зараз идёт, боится бурю. Вода, небось, уж мутная. Ну-ка, Дуняшка, послушай,- играет ерик?</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3)…</a:t>
            </a:r>
            <a:r>
              <a:rPr b="1" lang="ru-RU" sz="2000" spc="-1" strike="noStrike">
                <a:solidFill>
                  <a:srgbClr val="000000"/>
                </a:solidFill>
                <a:latin typeface="Arial"/>
              </a:rPr>
              <a:t> </a:t>
            </a:r>
            <a:r>
              <a:rPr b="0" lang="ru-RU" sz="2000" spc="-1" strike="noStrike">
                <a:solidFill>
                  <a:srgbClr val="000000"/>
                </a:solidFill>
                <a:latin typeface="Arial"/>
              </a:rPr>
              <a:t>Завтри, слышишь, и завтри придёшь поджигать- чтоб в избу не заходил. Оттуль поджигай. Избу чтоб мне не поганил. Запомнил?</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помнил,- кивнул обалдевший, ничего не понимающий мужик. И, поозиравшись ещё, ушёл. А Дарья заторопилась ещё пуще. Ишь, зачастили, неймётся им, охолодал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89000"/>
            <a:ext cx="914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000000"/>
                </a:solidFill>
                <a:latin typeface="Arial"/>
              </a:rPr>
              <a:t>4.</a:t>
            </a:r>
            <a:r>
              <a:rPr b="1" lang="en-US" sz="3600" spc="-1" strike="noStrike">
                <a:solidFill>
                  <a:srgbClr val="000000"/>
                </a:solidFill>
                <a:latin typeface="Arial"/>
              </a:rPr>
              <a:t>Расположите синонимы по возрастающей степени признака. Определите нейтральное слово каждого синонимического ряд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Огромный, большой, громадный, колоссальный, исполинский, гигантски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 Микроскопический, малюсенький, маленький, небольшой, крошечный, карликовый, миниатюрный, малы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 Вмиг, моментально, быстро, мгновенно, в минуту, в мгновение ок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1052640"/>
            <a:ext cx="9144000" cy="4826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2000" spc="-1" strike="noStrike">
                <a:solidFill>
                  <a:srgbClr val="000000"/>
                </a:solidFill>
                <a:latin typeface="Arial"/>
              </a:rPr>
              <a:t>Какое слово является лишним в каждом синонимическом ряду.</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Небольшой, маленький, незаметный, крошечный, миниатюрный.</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Большой, огромный, гигантский, впечатляющий, громадный.</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Аккуратный, гигиенический, чистоплотный, опрятный.</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Скучать, горевать, грустить, тосковать, печалиться.</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Мыслить, думать, размышлять, аргументировать, соображать.</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Оберегать, оттенять, защищать, оборонять, охранять.</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Смелый, храбрый, мужественный, отважный, доблестный,.</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Работящий, покладистый, старательный, прилежный, усердный.</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Известный, прославленный, знаменитый, популярный, талантливый.</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Бесполезный, тщетный, надоевший, излишний, напрасный.</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1)Растратить, издержать, израсходовать, разменять, растранжирить.</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Терапевт, врач, медик, лекарь, доктор.</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Писатель, критик, автор, литератор, сочинитель.</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0" y="765000"/>
            <a:ext cx="9144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Соедините слова левой колонки с антонимами из правой колонк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ллективный                           Густо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дкий                                        Далёки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авдивый                                 Примитивны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вестный                                  Незнакомы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йствительный                        Вымышленны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ылой                                          Конкретны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лизкий                                       Грядущи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мысловатый                           Бесцеремонны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бстрактный                               Лживый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актичный                                   Индивидуаль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0" y="277020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0" y="242100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0" y="1700280"/>
            <a:ext cx="9144000" cy="283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600" spc="-1" strike="noStrike">
                <a:solidFill>
                  <a:srgbClr val="000000"/>
                </a:solidFill>
                <a:latin typeface="Arial"/>
              </a:rPr>
              <a:t>7)Укажите значения следующих многозначных слов. Какие из значений являются переносными?</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Ядро, зерно, голова, земля, тяжёлый, дом, бой, переход, полны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8 </a:t>
            </a:r>
            <a:r>
              <a:rPr b="1" lang="en-US" sz="2400" spc="-1" strike="noStrike">
                <a:solidFill>
                  <a:srgbClr val="000000"/>
                </a:solidFill>
                <a:latin typeface="Arial"/>
              </a:rPr>
              <a:t>.Определите значение и авторство крылатых выражен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Бойцы поминают минувшие дн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Недреманное ок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Униженные и оскорбленны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Любви все возрасты покорн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Краткость-  сестра талант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Мы все учились понемногу , чему-нибудь и как-нибуд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дома новы, но предрассудки ста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 На деревню дедушк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 С чувством , с толком, с расстановко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 Блажен, кто верует, тепло ему на свет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 В человеке все должно быть прекрасно: и лицо, и одежда, и душа, и мысл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 Премудрый пескар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 Пошла писать губер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4. С корабля на ба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 Чему смеётесь? Над собой смеёте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6:27:50Z</dcterms:created>
  <dc:creator>ррр</dc:creator>
  <dc:description/>
  <dc:language>en-US</dc:language>
  <cp:lastModifiedBy>ррр</cp:lastModifiedBy>
  <dcterms:modified xsi:type="dcterms:W3CDTF">2011-12-21T18:01:02Z</dcterms:modified>
  <cp:revision>2</cp:revision>
  <dc:subject/>
  <dc:title>Слайд 1</dc:title>
</cp:coreProperties>
</file>