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583-87F0-4848-B8F1-890C2D7A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54CE-B19F-4F93-912F-751ADB5B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F83-4FEB-4D85-8DFA-B682128C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74D8-FF0F-422B-914C-94D4CEBF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8AB-2754-4E3E-B07C-B7665E8C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670-AAD1-4BC1-BF02-B99CC7EF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7C9-5BFD-4FE3-B4D4-0F2DB22C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3BE-AF83-4F41-9FEE-BEC631D3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730-5BD7-43BA-AB23-ED7A68EF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558-D7F5-43DA-9091-FA50DE66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8395-8948-4DDF-B9D4-DFE8EB8F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031-4EEE-4022-BE4E-C7DCA97D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4022-71B1-45B8-B275-1BC6DCF20E1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48.radikal.ru/i119/0911/fa/9c4e03e24162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s1.hubimg.com/u/3419512_f520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0/53/778/53778966_1263479316_1252742240_5d88c904f034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indraw.web.ru/chalc10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704/sweetlankakiss.76/0_61bc2_1f6de49f_X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artdeviant.ru/files/2011/07/sledi_na_pesce-8.jpg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4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908/valjabg.19/0_34c3b_b5bfcb03_XL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us.cdn1.123rf.com/168nwm/only_alone/only_alone0712/only_alone071200096/2265619-niedziela-kamieni-na-brzegu.jpg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065.radikal.ru/1112/66/155694f9ef27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Т -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1332000" y="1989000"/>
            <a:ext cx="6553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3"/>
          <p:cNvSpPr/>
          <p:nvPr/>
        </p:nvSpPr>
        <p:spPr>
          <a:xfrm flipV="1">
            <a:off x="1357200" y="4000320"/>
            <a:ext cx="6572520" cy="45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14"/>
          <p:cNvSpPr txBox="1"/>
          <p:nvPr/>
        </p:nvSpPr>
        <p:spPr>
          <a:xfrm>
            <a:off x="2124000" y="981000"/>
            <a:ext cx="345600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5c0c19"/>
                  </a:solidFill>
                  <a:miter/>
                </a:ln>
                <a:solidFill>
                  <a:srgbClr val="9f142b"/>
                </a:solidFill>
                <a:latin typeface="Georgia"/>
              </a:rPr>
              <a:t> </a:t>
            </a:r>
            <a:endParaRPr b="1" lang="en-US" sz="4000" spc="1" strike="noStrike">
              <a:ln w="9360">
                <a:solidFill>
                  <a:srgbClr val="5c0c19"/>
                </a:solidFill>
                <a:miter/>
              </a:ln>
              <a:solidFill>
                <a:srgbClr val="9f142b"/>
              </a:solidFill>
              <a:latin typeface="Georgia"/>
              <a:ea typeface="Georgia"/>
            </a:endParaRPr>
          </a:p>
        </p:txBody>
      </p:sp>
      <p:sp>
        <p:nvSpPr>
          <p:cNvPr id="45" name="Text Box 16"/>
          <p:cNvSpPr/>
          <p:nvPr/>
        </p:nvSpPr>
        <p:spPr>
          <a:xfrm>
            <a:off x="1403280" y="2133720"/>
            <a:ext cx="62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8989"/>
                </a:solidFill>
                <a:latin typeface="Calibri"/>
              </a:rPr>
              <a:t>Для детей дошкольного и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Картинка 9 из 796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00880" y="142920"/>
            <a:ext cx="2500200" cy="1893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Картинка 120 из 27240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4786200"/>
            <a:ext cx="1446480" cy="1928880"/>
          </a:xfrm>
          <a:prstGeom prst="rect">
            <a:avLst/>
          </a:prstGeom>
          <a:ln w="0">
            <a:noFill/>
          </a:ln>
        </p:spPr>
      </p:pic>
      <p:pic>
        <p:nvPicPr>
          <p:cNvPr id="50" name="музыка  для медитации и релаксации - По волнам (mp3ostrov.com).mp3" descr=""/>
          <p:cNvPicPr/>
          <p:nvPr/>
        </p:nvPicPr>
        <p:blipFill>
          <a:blip r:embed="rId5"/>
          <a:stretch/>
        </p:blipFill>
        <p:spPr>
          <a:xfrm>
            <a:off x="3786120" y="785880"/>
            <a:ext cx="10191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424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499920" y="272520"/>
            <a:ext cx="56437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Копытин А. И., Свистовская Е. Е  Арт-терапия детей и подростков.-  М.: Когито - Центр, 2007.-198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Киселева М. Арт-терапия в работе с детьми: Руководство для детских психологов, педагогов, врачей и специалистов, работающих с детьми. -СПб.: Издательство «Речь», 2007.-160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Реброва Екатерина Викторовна Игра в камушки.//[электронный ресурс] http://www.psylist.net/avtor/00009.ht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Малкоиди К. Палитра души. – К.: София, 2004. – 272 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Штейнхард Л. Юнгианская Песочная терапия. СПб.: Питер, 2001. – 320 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6" descr="http://im8-tub-ru.yandex.net/i?id=194330830-12-72"/>
          <p:cNvPicPr/>
          <p:nvPr/>
        </p:nvPicPr>
        <p:blipFill>
          <a:blip r:embed="rId1"/>
          <a:stretch/>
        </p:blipFill>
        <p:spPr>
          <a:xfrm>
            <a:off x="285840" y="21420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Картинка 39 из 66192"/>
          <p:cNvPicPr/>
          <p:nvPr/>
        </p:nvPicPr>
        <p:blipFill>
          <a:blip r:embed="rId2"/>
          <a:stretch/>
        </p:blipFill>
        <p:spPr>
          <a:xfrm>
            <a:off x="1071720" y="1357200"/>
            <a:ext cx="1800000" cy="1809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Картинка 116 из 67475"/>
          <p:cNvPicPr/>
          <p:nvPr/>
        </p:nvPicPr>
        <p:blipFill>
          <a:blip r:embed="rId3"/>
          <a:stretch/>
        </p:blipFill>
        <p:spPr>
          <a:xfrm>
            <a:off x="142920" y="3214800"/>
            <a:ext cx="1785960" cy="1630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http://im4-tub-ru.yandex.net/i?id=186605939-68-72"/>
          <p:cNvPicPr/>
          <p:nvPr/>
        </p:nvPicPr>
        <p:blipFill>
          <a:blip r:embed="rId4"/>
          <a:stretch/>
        </p:blipFill>
        <p:spPr>
          <a:xfrm>
            <a:off x="1928880" y="4500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Картинка 49 из 66640"/>
          <p:cNvPicPr/>
          <p:nvPr/>
        </p:nvPicPr>
        <p:blipFill>
          <a:blip r:embed="rId5"/>
          <a:stretch/>
        </p:blipFill>
        <p:spPr>
          <a:xfrm>
            <a:off x="285840" y="5143680"/>
            <a:ext cx="15159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казания для применения игр с камушками: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удности в коммуникативных навыках и эмпатии у детей и подростков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сихокоррекция и психопрофилактика конфликтности, замкнутости, тревожност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вротические и эмоциональные расстройств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изисные состоя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собственного представления о себ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тимизация психического развития в детском возраст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4" descr="Картинка 53 из 1430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285840"/>
            <a:ext cx="142884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гра "Разложи камушки"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: гладкие булыжники и морские камушки разных размеров и цветов, пластиковые бутылочки с разными горлышками от минеральной воды, йогуртов, кефиров, пенок-шампу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: Каждый ребенок получает горстку камушков. Упражнение может сопровождаться приятной мелодией для создания мягкой, расслабленной атмо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нструкция: Выберите камушки самые красивые с вашей точки зрения. Рассмотрите их и скажите, чем они вам понравились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ите камушки на кучки, какие кучки у вас получились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ложите камушки дорожк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делайте так, чтобы одна дорожка была больше друго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бы дорожки были одинакового размер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ложите камушки в следующем порядке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дин большой, за ним 2 маленьких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дин серый, три беленьких впереди и т.д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ложите камушки в виде известных вам геометрических фигу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ложи камушки по бутылочкам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здай из камушек свой рисунок (солнце, дом, дерево, забор, кот, человечка и т.д.), разложив их на стол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рисуйте на камушках разные картинки акриловыми красками (они не токсичны) или маркерами. Это могут быть любые предметы, игрушки, растения, птицы, животные или сказочные персонажи. С готовыми камушками можно придумать истор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ель: развитие воображения, исследовательской деятельности, связной речи и  мелкой моторики руки, снятие тревожность, агрессивности и страхов, расслабл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обходимое время: 20- 30 мину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Картинка 30 из 796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3214800"/>
            <a:ext cx="3349800" cy="3024000"/>
          </a:xfrm>
          <a:prstGeom prst="rect">
            <a:avLst/>
          </a:prstGeom>
          <a:ln w="0">
            <a:noFill/>
          </a:ln>
        </p:spPr>
      </p:pic>
      <p:pic>
        <p:nvPicPr>
          <p:cNvPr id="58" name="Море - Звуки природы для релаксации (mp3ostrov.com).mp3" descr=""/>
          <p:cNvPicPr/>
          <p:nvPr/>
        </p:nvPicPr>
        <p:blipFill>
          <a:blip r:embed="rId3"/>
          <a:stretch/>
        </p:blipFill>
        <p:spPr>
          <a:xfrm>
            <a:off x="807228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9203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Создай каменную картину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: гладкие булыжники и морские камушки разных размеров и цветов, картон, пластилин, картинки различных животных, краски, кист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: каждый ребенок получает горстку камушков, картон с вырезанной и приклеенной картинкой животного, рыбы, птицы (или сам вырезает и приклеивает). На картинке размазывается пластилин, в который утапливаются камушки. Упражнение может сопровождаться приятной мелодией для создания мягкой, расслабленной атмо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нструкция: Выберите понравившуюся вам картинку животного, вырежете ее и приклейте на картон. На картон с помощью пластилина наклейте камушки, выбранные вами, украсив тем самым выбранную картинку. Для младших школьников и старше можно предложить самим придумать картин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ель: развитие воображения, связной речи и  мелкой моторики ру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обходимое время: 20- 30 мину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Картинка 20 из 1414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2071800"/>
            <a:ext cx="2957400" cy="221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Картинка 117 из 540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43120" y="2500200"/>
            <a:ext cx="1736640" cy="1300320"/>
          </a:xfrm>
          <a:prstGeom prst="rect">
            <a:avLst/>
          </a:prstGeom>
          <a:ln w="0">
            <a:noFill/>
          </a:ln>
        </p:spPr>
      </p:pic>
      <p:pic>
        <p:nvPicPr>
          <p:cNvPr id="64" name="Инструментальная музыка -  (релаксация) (mp3ostrov.com).mp3" descr=""/>
          <p:cNvPicPr/>
          <p:nvPr/>
        </p:nvPicPr>
        <p:blipFill>
          <a:blip r:embed="rId5"/>
          <a:stretch/>
        </p:blipFill>
        <p:spPr>
          <a:xfrm>
            <a:off x="8001000" y="59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Фото-0368"/>
          <p:cNvPicPr/>
          <p:nvPr/>
        </p:nvPicPr>
        <p:blipFill>
          <a:blip r:embed="rId6"/>
          <a:stretch/>
        </p:blipFill>
        <p:spPr>
          <a:xfrm>
            <a:off x="214200" y="4071960"/>
            <a:ext cx="33577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556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Волшебный камень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риалы: гладкие булыжники и морские камушки разных размеров и цвет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цедура: каждый ребенок получает горстку камушков. Упражнение может сопровождаться приятной мелодией для создания мягкой, расслабленной атмосфер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нструкция: Выбрать камушек и придумать историю этого камушка. Представьте, что камушек ожил и рассказывает историю своей жизни. О чем он может рассказать? Попробуйте придумать историю камушк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ель: развитие воображения, исследовательской деятельности, связной речи и мелкой моторики руки, снятие тревожность и страх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обходимое время: 30-40 мину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6" descr="Картинка 64 из 1444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1785960"/>
            <a:ext cx="305244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Картинка 131 из 540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2960" y="307188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71" name="музыка  для медитации и релаксации - По волнам (mp3ostrov.com).mp3" descr=""/>
          <p:cNvPicPr/>
          <p:nvPr/>
        </p:nvPicPr>
        <p:blipFill>
          <a:blip r:embed="rId5"/>
          <a:stretch/>
        </p:blipFill>
        <p:spPr>
          <a:xfrm>
            <a:off x="821520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5424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Балансирующие камни"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риалы: гладкие булыжники и морские камушки разных размеров и цвет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цедура: каждый ребенок получает горстку камушков. Упражнение может сопровождаться приятной мелодией для создания мягкой, расслабленной атмосферы. Это известная китайская игра, в которую умеют играть даже малыш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ча - выстроить из плоских и гладких камушков настолько высокую башенку, насколько это возмож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ель: развитие воображения, исследовательской деятельности, связной речи и  мелкой моторики руки, снятие тревожность, агрессивности и страх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обходимое время: 20- 30 мину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Картинка 1 из 1519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4429080"/>
            <a:ext cx="3193920" cy="2181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Картинка 72 из 272407"/>
          <p:cNvPicPr/>
          <p:nvPr/>
        </p:nvPicPr>
        <p:blipFill>
          <a:blip r:embed="rId3"/>
          <a:stretch/>
        </p:blipFill>
        <p:spPr>
          <a:xfrm>
            <a:off x="571680" y="3143160"/>
            <a:ext cx="2643120" cy="3524400"/>
          </a:xfrm>
          <a:prstGeom prst="rect">
            <a:avLst/>
          </a:prstGeom>
          <a:ln w="0">
            <a:noFill/>
          </a:ln>
        </p:spPr>
      </p:pic>
      <p:pic>
        <p:nvPicPr>
          <p:cNvPr id="77" name="Инструментальная музыка -  (релаксация) (mp3ostrov.com).mp3" descr=""/>
          <p:cNvPicPr/>
          <p:nvPr/>
        </p:nvPicPr>
        <p:blipFill>
          <a:blip r:embed="rId4"/>
          <a:stretch/>
        </p:blipFill>
        <p:spPr>
          <a:xfrm>
            <a:off x="8358120" y="6286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DSC0000031"/>
          <p:cNvPicPr/>
          <p:nvPr/>
        </p:nvPicPr>
        <p:blipFill>
          <a:blip r:embed="rId5"/>
          <a:stretch/>
        </p:blipFill>
        <p:spPr>
          <a:xfrm>
            <a:off x="4786200" y="1643040"/>
            <a:ext cx="25005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556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гра «Остров сокровищ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ку предлагается закопать камушки–сокровища в песочнице и отправиться на поиски сокровищ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апывая сокровище, ребенок называет, что ценное приходит в его жизнь вместе с сокровищем, какое качество характера, возможность, знание или умение он получает, обладая сокрови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ель: игра позволяет обсудить с ребенком его значимые ценности, принятие или отвержение системы ценностей его семь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Фото-0367"/>
          <p:cNvPicPr/>
          <p:nvPr/>
        </p:nvPicPr>
        <p:blipFill>
          <a:blip r:embed="rId1"/>
          <a:stretch/>
        </p:blipFill>
        <p:spPr>
          <a:xfrm>
            <a:off x="4714920" y="250020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Фото-0366"/>
          <p:cNvPicPr/>
          <p:nvPr/>
        </p:nvPicPr>
        <p:blipFill>
          <a:blip r:embed="rId2"/>
          <a:stretch/>
        </p:blipFill>
        <p:spPr>
          <a:xfrm>
            <a:off x="7142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84" name="Музыка для релаксации   - Поль Мориа Воздушная кукуруза (mp3ostrov.com).mp3" descr=""/>
          <p:cNvPicPr/>
          <p:nvPr/>
        </p:nvPicPr>
        <p:blipFill>
          <a:blip r:embed="rId3"/>
          <a:stretch/>
        </p:blipFill>
        <p:spPr>
          <a:xfrm>
            <a:off x="835812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8118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Выбери меня»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0320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овая игра в ассоциации, где каждый участник ассоциирует себя и другого с камушком, аргументируя свой выбор. Участники делятся своими переживания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Фото-0371"/>
          <p:cNvPicPr/>
          <p:nvPr/>
        </p:nvPicPr>
        <p:blipFill>
          <a:blip r:embed="rId1"/>
          <a:stretch/>
        </p:blipFill>
        <p:spPr>
          <a:xfrm>
            <a:off x="3571920" y="235728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88" name="музыка  для медитации и релаксации - По волнам (mp3ostrov.com).mp3" descr=""/>
          <p:cNvPicPr/>
          <p:nvPr/>
        </p:nvPicPr>
        <p:blipFill>
          <a:blip r:embed="rId2"/>
          <a:stretch/>
        </p:blipFill>
        <p:spPr>
          <a:xfrm>
            <a:off x="850104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5424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72880"/>
            <a:ext cx="371484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сталляция «Мир на ладошк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0320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ладони создается композиция из выбранных камушков Пространство ладони, голографически отражая весь организм, стимулирует создание личностно значимых образов, акцентирует внимание на области центра, основании ладони, и области пальцев как удаляющегося пространства. Так выбранные камушки и созданная из них композиция будет являться проекцией «Я–образа» клиен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Фото-0365"/>
          <p:cNvPicPr/>
          <p:nvPr/>
        </p:nvPicPr>
        <p:blipFill>
          <a:blip r:embed="rId1"/>
          <a:stretch/>
        </p:blipFill>
        <p:spPr>
          <a:xfrm>
            <a:off x="285840" y="142884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92" name="Лес. Музыка для релаксации. (mp3ostrov.com).mp3" descr=""/>
          <p:cNvPicPr/>
          <p:nvPr/>
        </p:nvPicPr>
        <p:blipFill>
          <a:blip r:embed="rId2"/>
          <a:stretch/>
        </p:blipFill>
        <p:spPr>
          <a:xfrm>
            <a:off x="828684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458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1:42:49Z</dcterms:created>
  <dc:creator>Galina</dc:creator>
  <dc:description/>
  <dc:language>en-US</dc:language>
  <cp:lastModifiedBy>XP</cp:lastModifiedBy>
  <dcterms:modified xsi:type="dcterms:W3CDTF">2015-01-12T22:14:39Z</dcterms:modified>
  <cp:revision>215</cp:revision>
  <dc:subject/>
  <dc:title>Слайд 1</dc:title>
</cp:coreProperties>
</file>