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chimes.wav" ContentType="audio/x-wav"/>
  <Override PartName="/ppt/media/image7.jpeg" ContentType="image/jpeg"/>
  <Override PartName="/ppt/media/image14.jpeg" ContentType="image/jpeg"/>
  <Override PartName="/ppt/media/image2.png" ContentType="image/png"/>
  <Override PartName="/ppt/media/image12.png" ContentType="image/png"/>
  <Override PartName="/ppt/media/image1.jpeg" ContentType="image/jpeg"/>
  <Override PartName="/ppt/media/image10.png" ContentType="image/png"/>
  <Override PartName="/ppt/media/image13.png" ContentType="image/png"/>
  <Override PartName="/ppt/media/cashreg.wav" ContentType="audio/x-wav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2894-88FF-4EB4-BFF4-A34EDFD0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F772-3AF1-4456-8515-BA5D2C30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5EC-70F9-4866-9206-F30C0D0B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250-FE40-47AE-99E4-D7C2041F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EF7B-A786-4E92-AAA8-414CD7F7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130-BA08-4D96-AB38-ED78E969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60A-2A50-4CC2-BE48-292AA488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67D-EB7F-479A-BC5C-DA9D7F8E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3D0B-8B2D-420C-B285-D6B55EAF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802D-E0E8-4DD2-B92D-E67853D2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DA94-B5DA-4E20-958E-DF0BF2C1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E37-51F3-4EC8-A876-79BB640D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468D-C1E6-4BD2-9F40-0EABA36329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7;&#1086;&#1083;&#1077;%20&#1095;&#1091;&#1076;&#1077;&#1089;.wav" TargetMode="External"/><Relationship Id="rId2" Type="http://schemas.openxmlformats.org/officeDocument/2006/relationships/image" Target="../media/image12.png"/><Relationship Id="rId3" Type="http://schemas.openxmlformats.org/officeDocument/2006/relationships/slide" Target="slide2.xml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3.jpeg"/><Relationship Id="rId9" Type="http://schemas.openxmlformats.org/officeDocument/2006/relationships/audio" Target="../media/cashreg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w2.google.com/mw-panoramio/photos/medium/41192897.jpg" TargetMode="External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audio" Target="../media/cashreg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7;&#1086;&#1083;&#1077;%20&#1095;&#1091;&#1076;&#1077;&#1089;.wa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" Target="slide5.xml"/><Relationship Id="rId5" Type="http://schemas.openxmlformats.org/officeDocument/2006/relationships/slide" Target="slide2.xml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audio" Target="../media/cashreg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7;&#1086;&#1083;&#1077;%20&#1095;&#1091;&#1076;&#1077;&#1089;.wa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audio" Target="../media/cashreg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7;&#1086;&#1083;&#1077;%20&#1095;&#1091;&#1076;&#1077;&#1089;.wa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" Target="slide9.xml"/><Relationship Id="rId5" Type="http://schemas.openxmlformats.org/officeDocument/2006/relationships/slide" Target="slide2.xml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audio" Target="../media/cashreg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7;&#1086;&#1083;&#1077;%20&#1095;&#1091;&#1076;&#1077;&#1089;.wa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" Target="slide11.xml"/><Relationship Id="rId5" Type="http://schemas.openxmlformats.org/officeDocument/2006/relationships/slide" Target="slide2.xml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audio" Target="../media/cashreg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295280" y="508464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 ИС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2"/>
          <p:cNvGrpSpPr/>
          <p:nvPr/>
        </p:nvGrpSpPr>
        <p:grpSpPr>
          <a:xfrm>
            <a:off x="3527280" y="5877000"/>
            <a:ext cx="2087640" cy="766440"/>
            <a:chOff x="3527280" y="5877000"/>
            <a:chExt cx="2087640" cy="766440"/>
          </a:xfrm>
        </p:grpSpPr>
        <p:sp>
          <p:nvSpPr>
            <p:cNvPr id="46" name="AutoShape 9">
              <a:hlinkClick r:id="" action="ppaction://hlinkshowjump?jump=nextslide"/>
            </p:cNvPr>
            <p:cNvSpPr/>
            <p:nvPr/>
          </p:nvSpPr>
          <p:spPr>
            <a:xfrm>
              <a:off x="3527280" y="5877000"/>
              <a:ext cx="2087640" cy="765000"/>
            </a:xfrm>
            <a:custGeom>
              <a:avLst/>
              <a:gdLst>
                <a:gd name="textAreaLeft" fmla="*/ 49320 w 2087640"/>
                <a:gd name="textAreaRight" fmla="*/ 2038320 w 2087640"/>
                <a:gd name="textAreaTop" fmla="*/ 49320 h 765000"/>
                <a:gd name="textAreaBottom" fmla="*/ 715680 h 765000"/>
              </a:gdLst>
              <a:ahLst/>
              <a:rect l="textAreaLeft" t="textAreaTop" r="textAreaRight" b="textAreaBottom"/>
              <a:pathLst>
                <a:path w="58928" h="21600">
                  <a:moveTo>
                    <a:pt x="0" y="0"/>
                  </a:moveTo>
                  <a:lnTo>
                    <a:pt x="58928" y="0"/>
                  </a:lnTo>
                  <a:lnTo>
                    <a:pt x="58928" y="21600"/>
                  </a:lnTo>
                  <a:lnTo>
                    <a:pt x="0" y="21600"/>
                  </a:lnTo>
                  <a:close/>
                </a:path>
                <a:path fill="lightenLess" w="58928" h="21600">
                  <a:moveTo>
                    <a:pt x="0" y="0"/>
                  </a:moveTo>
                  <a:lnTo>
                    <a:pt x="58928" y="0"/>
                  </a:lnTo>
                  <a:lnTo>
                    <a:pt x="57528" y="1400"/>
                  </a:lnTo>
                  <a:lnTo>
                    <a:pt x="1400" y="1400"/>
                  </a:lnTo>
                  <a:close/>
                </a:path>
                <a:path fill="darken" w="58928" h="21600">
                  <a:moveTo>
                    <a:pt x="58928" y="0"/>
                  </a:moveTo>
                  <a:lnTo>
                    <a:pt x="58928" y="21600"/>
                  </a:lnTo>
                  <a:lnTo>
                    <a:pt x="57528" y="20200"/>
                  </a:lnTo>
                  <a:lnTo>
                    <a:pt x="57528" y="1400"/>
                  </a:lnTo>
                  <a:close/>
                </a:path>
                <a:path fill="darkenLess" w="58928" h="21600">
                  <a:moveTo>
                    <a:pt x="589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7528" y="20200"/>
                  </a:lnTo>
                  <a:close/>
                </a:path>
                <a:path fill="lighten" w="589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ec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10">
              <a:hlinkClick r:id="" action="ppaction://hlinkshowjump?jump=nextslide"/>
            </p:cNvPr>
            <p:cNvSpPr/>
            <p:nvPr/>
          </p:nvSpPr>
          <p:spPr>
            <a:xfrm>
              <a:off x="3635280" y="5940000"/>
              <a:ext cx="187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Впере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3"/>
          <p:cNvSpPr/>
          <p:nvPr/>
        </p:nvSpPr>
        <p:spPr>
          <a:xfrm>
            <a:off x="1116000" y="4869000"/>
            <a:ext cx="70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краевед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: СТРАЖИ ИЗ КАМ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4"/>
          <p:cNvGrpSpPr/>
          <p:nvPr/>
        </p:nvGrpSpPr>
        <p:grpSpPr>
          <a:xfrm>
            <a:off x="8604360" y="115920"/>
            <a:ext cx="394920" cy="404280"/>
            <a:chOff x="8604360" y="115920"/>
            <a:chExt cx="394920" cy="404280"/>
          </a:xfrm>
        </p:grpSpPr>
        <p:sp>
          <p:nvSpPr>
            <p:cNvPr id="50" name="Rectangle 15">
              <a:hlinkClick r:id="" action="ppaction://hlinkshowjump?jump=endshow"/>
            </p:cNvPr>
            <p:cNvSpPr/>
            <p:nvPr/>
          </p:nvSpPr>
          <p:spPr>
            <a:xfrm>
              <a:off x="8604360" y="115920"/>
              <a:ext cx="394920" cy="404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WordArt 16"/>
            <p:cNvSpPr txBox="1"/>
            <p:nvPr/>
          </p:nvSpPr>
          <p:spPr>
            <a:xfrm>
              <a:off x="8682840" y="196200"/>
              <a:ext cx="238320" cy="244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2" name="TextBox 2"/>
          <p:cNvSpPr/>
          <p:nvPr/>
        </p:nvSpPr>
        <p:spPr>
          <a:xfrm>
            <a:off x="250920" y="5940360"/>
            <a:ext cx="266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Егорова Е.А. учитель географии и краеведения ГБОУ СОШ № 4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2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1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408720" cy="489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барабан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60680"/>
            <a:ext cx="5076720" cy="50544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5">
            <a:hlinkClick r:id="rId3" action="ppaction://hlinksldjump"/>
          </p:cNvPr>
          <p:cNvSpPr/>
          <p:nvPr/>
        </p:nvSpPr>
        <p:spPr>
          <a:xfrm>
            <a:off x="8101080" y="5661000"/>
            <a:ext cx="1042920" cy="827280"/>
          </a:xfrm>
          <a:custGeom>
            <a:avLst/>
            <a:gdLst>
              <a:gd name="textAreaLeft" fmla="*/ 53640 w 1042920"/>
              <a:gd name="textAreaRight" fmla="*/ 989280 w 104292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27228" h="21600">
                <a:moveTo>
                  <a:pt x="0" y="0"/>
                </a:moveTo>
                <a:lnTo>
                  <a:pt x="27228" y="0"/>
                </a:lnTo>
                <a:lnTo>
                  <a:pt x="27228" y="21600"/>
                </a:lnTo>
                <a:lnTo>
                  <a:pt x="0" y="21600"/>
                </a:lnTo>
                <a:close/>
              </a:path>
              <a:path fill="lightenLess" w="27228" h="21600">
                <a:moveTo>
                  <a:pt x="0" y="0"/>
                </a:moveTo>
                <a:lnTo>
                  <a:pt x="27228" y="0"/>
                </a:lnTo>
                <a:lnTo>
                  <a:pt x="25828" y="1400"/>
                </a:lnTo>
                <a:lnTo>
                  <a:pt x="1400" y="1400"/>
                </a:lnTo>
                <a:close/>
              </a:path>
              <a:path fill="darken" w="27228" h="21600">
                <a:moveTo>
                  <a:pt x="27228" y="0"/>
                </a:moveTo>
                <a:lnTo>
                  <a:pt x="27228" y="21600"/>
                </a:lnTo>
                <a:lnTo>
                  <a:pt x="25828" y="20200"/>
                </a:lnTo>
                <a:lnTo>
                  <a:pt x="25828" y="1400"/>
                </a:lnTo>
                <a:close/>
              </a:path>
              <a:path fill="darkenLess" w="27228" h="21600">
                <a:moveTo>
                  <a:pt x="27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28" y="20200"/>
                </a:lnTo>
                <a:close/>
              </a:path>
              <a:path fill="lighten" w="27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28" h="21600">
                <a:moveTo>
                  <a:pt x="6607" y="7493"/>
                </a:moveTo>
                <a:lnTo>
                  <a:pt x="10115" y="7493"/>
                </a:lnTo>
                <a:lnTo>
                  <a:pt x="10115" y="12828"/>
                </a:lnTo>
                <a:cubicBezTo>
                  <a:pt x="10115" y="13751"/>
                  <a:pt x="10916" y="14482"/>
                  <a:pt x="11952" y="14482"/>
                </a:cubicBezTo>
                <a:lnTo>
                  <a:pt x="13614" y="14482"/>
                </a:lnTo>
                <a:cubicBezTo>
                  <a:pt x="14650" y="14482"/>
                  <a:pt x="15450" y="13751"/>
                  <a:pt x="15450" y="12828"/>
                </a:cubicBezTo>
                <a:lnTo>
                  <a:pt x="15450" y="7493"/>
                </a:lnTo>
                <a:lnTo>
                  <a:pt x="13614" y="7493"/>
                </a:lnTo>
                <a:lnTo>
                  <a:pt x="17122" y="3985"/>
                </a:lnTo>
                <a:lnTo>
                  <a:pt x="20794" y="7493"/>
                </a:lnTo>
                <a:lnTo>
                  <a:pt x="18958" y="7493"/>
                </a:lnTo>
                <a:lnTo>
                  <a:pt x="18958" y="12828"/>
                </a:lnTo>
                <a:cubicBezTo>
                  <a:pt x="18958" y="15596"/>
                  <a:pt x="16382" y="18155"/>
                  <a:pt x="13614" y="18155"/>
                </a:cubicBezTo>
                <a:lnTo>
                  <a:pt x="11952" y="18155"/>
                </a:lnTo>
                <a:cubicBezTo>
                  <a:pt x="9184" y="18155"/>
                  <a:pt x="6607" y="15596"/>
                  <a:pt x="6607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6"/>
          <p:cNvSpPr txBox="1"/>
          <p:nvPr/>
        </p:nvSpPr>
        <p:spPr>
          <a:xfrm>
            <a:off x="250920" y="189000"/>
            <a:ext cx="345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Супер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игр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7" name="AutoShape 7"/>
          <p:cNvSpPr/>
          <p:nvPr/>
        </p:nvSpPr>
        <p:spPr>
          <a:xfrm rot="18351600">
            <a:off x="4375080" y="5670360"/>
            <a:ext cx="79200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635280" y="765000"/>
          <a:ext cx="5267520" cy="1006560"/>
        </p:xfrm>
        <a:graphic>
          <a:graphicData uri="http://schemas.openxmlformats.org/drawingml/2006/table">
            <a:tbl>
              <a:tblPr/>
              <a:tblGrid>
                <a:gridCol w="750960"/>
                <a:gridCol w="752400"/>
                <a:gridCol w="750960"/>
                <a:gridCol w="754200"/>
                <a:gridCol w="752400"/>
                <a:gridCol w="755640"/>
                <a:gridCol w="75096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50"/>
          <p:cNvSpPr/>
          <p:nvPr/>
        </p:nvSpPr>
        <p:spPr>
          <a:xfrm>
            <a:off x="8271000" y="866880"/>
            <a:ext cx="53172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1"/>
          <p:cNvSpPr/>
          <p:nvPr/>
        </p:nvSpPr>
        <p:spPr>
          <a:xfrm>
            <a:off x="5235480" y="835200"/>
            <a:ext cx="56844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2"/>
          <p:cNvSpPr/>
          <p:nvPr/>
        </p:nvSpPr>
        <p:spPr>
          <a:xfrm>
            <a:off x="5921280" y="887400"/>
            <a:ext cx="6476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3"/>
          <p:cNvSpPr/>
          <p:nvPr/>
        </p:nvSpPr>
        <p:spPr>
          <a:xfrm>
            <a:off x="6699240" y="880920"/>
            <a:ext cx="627120" cy="72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4"/>
          <p:cNvSpPr/>
          <p:nvPr/>
        </p:nvSpPr>
        <p:spPr>
          <a:xfrm>
            <a:off x="7508880" y="906480"/>
            <a:ext cx="57636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5"/>
          <p:cNvSpPr/>
          <p:nvPr/>
        </p:nvSpPr>
        <p:spPr>
          <a:xfrm>
            <a:off x="3741840" y="873000"/>
            <a:ext cx="57132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6"/>
          <p:cNvSpPr/>
          <p:nvPr/>
        </p:nvSpPr>
        <p:spPr>
          <a:xfrm>
            <a:off x="4475160" y="826920"/>
            <a:ext cx="5716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9"/>
          <p:cNvSpPr/>
          <p:nvPr/>
        </p:nvSpPr>
        <p:spPr>
          <a:xfrm>
            <a:off x="5292720" y="2276640"/>
            <a:ext cx="3600360" cy="235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ПР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рстие в крепостной стене для стрельб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60"/>
          <p:cNvGrpSpPr/>
          <p:nvPr/>
        </p:nvGrpSpPr>
        <p:grpSpPr>
          <a:xfrm>
            <a:off x="8604360" y="115920"/>
            <a:ext cx="394920" cy="404280"/>
            <a:chOff x="8604360" y="115920"/>
            <a:chExt cx="394920" cy="404280"/>
          </a:xfrm>
        </p:grpSpPr>
        <p:sp>
          <p:nvSpPr>
            <p:cNvPr id="168" name="Rectangle 61">
              <a:hlinkClick r:id="" action="ppaction://hlinkshowjump?jump=endshow"/>
            </p:cNvPr>
            <p:cNvSpPr/>
            <p:nvPr/>
          </p:nvSpPr>
          <p:spPr>
            <a:xfrm>
              <a:off x="8604360" y="115920"/>
              <a:ext cx="394920" cy="404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WordArt 62"/>
            <p:cNvSpPr txBox="1"/>
            <p:nvPr/>
          </p:nvSpPr>
          <p:spPr>
            <a:xfrm>
              <a:off x="8682840" y="196200"/>
              <a:ext cx="238320" cy="244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comb dir="horz"/>
    <p:sndAc>
      <p:stSnd>
        <p:snd r:embed="rId9" name="cashreg.wav"/>
      </p:stSnd>
    </p:sndAc>
  </p:transition>
  <p:timing>
    <p:tnLst>
      <p:par>
        <p:cTn id="401" dur="indefinite" restart="never" nodeType="tmRoot">
          <p:childTnLst>
            <p:seq>
              <p:cTn id="40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21400000">
                                      <p:cBhvr>
                                        <p:cTn id="406" dur="10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2040000">
                                      <p:cBhvr>
                                        <p:cTn id="410" dur="10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1180000">
                                      <p:cBhvr>
                                        <p:cTn id="414" dur="10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95840000">
                                      <p:cBhvr>
                                        <p:cTn id="418" dur="10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6100000">
                                      <p:cBhvr>
                                        <p:cTn id="422" dur="10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73840000">
                                      <p:cBhvr>
                                        <p:cTn id="426" dur="10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44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452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460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68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71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7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1" descr=""/>
          <p:cNvPicPr/>
          <p:nvPr/>
        </p:nvPicPr>
        <p:blipFill>
          <a:blip r:embed="rId1"/>
          <a:stretch/>
        </p:blipFill>
        <p:spPr>
          <a:xfrm>
            <a:off x="839880" y="720720"/>
            <a:ext cx="7548480" cy="566100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2" descr=""/>
          <p:cNvPicPr/>
          <p:nvPr/>
        </p:nvPicPr>
        <p:blipFill>
          <a:blip r:embed="rId1"/>
          <a:stretch/>
        </p:blipFill>
        <p:spPr>
          <a:xfrm>
            <a:off x="2567160" y="2989440"/>
            <a:ext cx="4009680" cy="87912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 информ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684360" y="1557360"/>
            <a:ext cx="7775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w2.google.com/mw-panoramio/photos/medium/4119289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orange.ru/photo/1/13/%D0%91%D0%BE%D0%B9%D0%BD%D0%B8%D1%86%D0%B0-%D0%B2-%D1%81%D1%82%D0%B5%D0%BD%D0%B5-%D0%B4%D1%80%D0%B5%D0%B2%D0%BD%D0%B5%D0%B9-%D0%BA%D1%80%D0%B5%D0%BF%D0%BE%D1%81%D1%82%D0%B8-1235464771_6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amlib.ru/img/l/lifantxewa_e_i/rat/0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ib.rus.ec/i/55/451955/i_02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wer.ws/media/files/u256268/DrRus.Kreposti.SV_48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2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барабан"/>
          <p:cNvPicPr/>
          <p:nvPr/>
        </p:nvPicPr>
        <p:blipFill>
          <a:blip r:embed="rId1"/>
          <a:srcRect l="37827" t="0" r="0" b="356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84000" y="274680"/>
            <a:ext cx="4103640" cy="993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Инструк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00000" y="1483920"/>
            <a:ext cx="6264360" cy="42498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берите тур и щелкните по ней мыш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Чтобы крутить барабан, щелкните мышью по не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Чтобы открыть названную букву, щелкните мышью по н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Для перехода на следующий тур, щелкните по кнопке на левой нижней части экрана с названием ту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Чтобы вернуться на эту страницу, щелкните по красной кнопке возврата на нижней правой части эк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якубович"/>
          <p:cNvPicPr/>
          <p:nvPr/>
        </p:nvPicPr>
        <p:blipFill>
          <a:blip r:embed="rId4"/>
          <a:srcRect l="9828" t="0" r="7175" b="0"/>
          <a:stretch/>
        </p:blipFill>
        <p:spPr>
          <a:xfrm>
            <a:off x="0" y="977760"/>
            <a:ext cx="2735280" cy="472464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21"/>
          <p:cNvGrpSpPr/>
          <p:nvPr/>
        </p:nvGrpSpPr>
        <p:grpSpPr>
          <a:xfrm>
            <a:off x="0" y="5805360"/>
            <a:ext cx="1403280" cy="792360"/>
            <a:chOff x="0" y="5805360"/>
            <a:chExt cx="1403280" cy="792360"/>
          </a:xfrm>
        </p:grpSpPr>
        <p:sp>
          <p:nvSpPr>
            <p:cNvPr id="58" name="AutoShape 7">
              <a:hlinkClick r:id="" action="ppaction://hlinkshowjump?jump=nextslide"/>
            </p:cNvPr>
            <p:cNvSpPr/>
            <p:nvPr/>
          </p:nvSpPr>
          <p:spPr>
            <a:xfrm>
              <a:off x="0" y="5805360"/>
              <a:ext cx="1403280" cy="792360"/>
            </a:xfrm>
            <a:custGeom>
              <a:avLst/>
              <a:gdLst>
                <a:gd name="textAreaLeft" fmla="*/ 51120 w 1403280"/>
                <a:gd name="textAreaRight" fmla="*/ 1352160 w 140328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8246" h="21600">
                  <a:moveTo>
                    <a:pt x="0" y="0"/>
                  </a:moveTo>
                  <a:lnTo>
                    <a:pt x="38246" y="0"/>
                  </a:lnTo>
                  <a:lnTo>
                    <a:pt x="38246" y="21600"/>
                  </a:lnTo>
                  <a:lnTo>
                    <a:pt x="0" y="21600"/>
                  </a:lnTo>
                  <a:close/>
                </a:path>
                <a:path fill="lightenLess" w="38246" h="21600">
                  <a:moveTo>
                    <a:pt x="0" y="0"/>
                  </a:moveTo>
                  <a:lnTo>
                    <a:pt x="38246" y="0"/>
                  </a:lnTo>
                  <a:lnTo>
                    <a:pt x="36846" y="1400"/>
                  </a:lnTo>
                  <a:lnTo>
                    <a:pt x="1400" y="1400"/>
                  </a:lnTo>
                  <a:close/>
                </a:path>
                <a:path fill="darken" w="38246" h="21600">
                  <a:moveTo>
                    <a:pt x="38246" y="0"/>
                  </a:moveTo>
                  <a:lnTo>
                    <a:pt x="38246" y="21600"/>
                  </a:lnTo>
                  <a:lnTo>
                    <a:pt x="36846" y="20200"/>
                  </a:lnTo>
                  <a:lnTo>
                    <a:pt x="36846" y="1400"/>
                  </a:lnTo>
                  <a:close/>
                </a:path>
                <a:path fill="darkenLess" w="38246" h="21600">
                  <a:moveTo>
                    <a:pt x="3824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846" y="20200"/>
                  </a:lnTo>
                  <a:close/>
                </a:path>
                <a:path fill="lighten" w="3824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ec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8">
              <a:hlinkClick r:id="" action="ppaction://hlinkshowjump?jump=nextslide"/>
            </p:cNvPr>
            <p:cNvSpPr/>
            <p:nvPr/>
          </p:nvSpPr>
          <p:spPr>
            <a:xfrm>
              <a:off x="117360" y="5874840"/>
              <a:ext cx="116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I </a:t>
              </a:r>
              <a:r>
                <a:rPr b="1" i="1" lang="ru-RU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ТУ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2"/>
          <p:cNvGrpSpPr/>
          <p:nvPr/>
        </p:nvGrpSpPr>
        <p:grpSpPr>
          <a:xfrm>
            <a:off x="1403280" y="5805360"/>
            <a:ext cx="1440000" cy="836640"/>
            <a:chOff x="1403280" y="5805360"/>
            <a:chExt cx="1440000" cy="836640"/>
          </a:xfrm>
        </p:grpSpPr>
        <p:sp>
          <p:nvSpPr>
            <p:cNvPr id="61" name="AutoShape 10">
              <a:hlinkClick r:id="rId5" action="ppaction://hlinksldjump"/>
            </p:cNvPr>
            <p:cNvSpPr/>
            <p:nvPr/>
          </p:nvSpPr>
          <p:spPr>
            <a:xfrm>
              <a:off x="1403280" y="5805360"/>
              <a:ext cx="1440000" cy="836640"/>
            </a:xfrm>
            <a:custGeom>
              <a:avLst/>
              <a:gdLst>
                <a:gd name="textAreaLeft" fmla="*/ 54000 w 1440000"/>
                <a:gd name="textAreaRight" fmla="*/ 1386000 w 1440000"/>
                <a:gd name="textAreaTop" fmla="*/ 54000 h 836640"/>
                <a:gd name="textAreaBottom" fmla="*/ 782640 h 836640"/>
              </a:gdLst>
              <a:ahLst/>
              <a:rect l="textAreaLeft" t="textAreaTop" r="textAreaRight" b="textAreaBottom"/>
              <a:pathLst>
                <a:path w="37171" h="21600">
                  <a:moveTo>
                    <a:pt x="0" y="0"/>
                  </a:moveTo>
                  <a:lnTo>
                    <a:pt x="37171" y="0"/>
                  </a:lnTo>
                  <a:lnTo>
                    <a:pt x="37171" y="21600"/>
                  </a:lnTo>
                  <a:lnTo>
                    <a:pt x="0" y="21600"/>
                  </a:lnTo>
                  <a:close/>
                </a:path>
                <a:path fill="lightenLess" w="37171" h="21600">
                  <a:moveTo>
                    <a:pt x="0" y="0"/>
                  </a:moveTo>
                  <a:lnTo>
                    <a:pt x="37171" y="0"/>
                  </a:lnTo>
                  <a:lnTo>
                    <a:pt x="35771" y="1400"/>
                  </a:lnTo>
                  <a:lnTo>
                    <a:pt x="1400" y="1400"/>
                  </a:lnTo>
                  <a:close/>
                </a:path>
                <a:path fill="darken" w="37171" h="21600">
                  <a:moveTo>
                    <a:pt x="37171" y="0"/>
                  </a:moveTo>
                  <a:lnTo>
                    <a:pt x="37171" y="21600"/>
                  </a:lnTo>
                  <a:lnTo>
                    <a:pt x="35771" y="20200"/>
                  </a:lnTo>
                  <a:lnTo>
                    <a:pt x="35771" y="1400"/>
                  </a:lnTo>
                  <a:close/>
                </a:path>
                <a:path fill="darkenLess" w="37171" h="21600">
                  <a:moveTo>
                    <a:pt x="37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771" y="20200"/>
                  </a:lnTo>
                  <a:close/>
                </a:path>
                <a:path fill="lighten" w="37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ec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1">
              <a:hlinkClick r:id="rId6" action="ppaction://hlinksldjump"/>
            </p:cNvPr>
            <p:cNvSpPr/>
            <p:nvPr/>
          </p:nvSpPr>
          <p:spPr>
            <a:xfrm>
              <a:off x="1461600" y="5877000"/>
              <a:ext cx="126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II </a:t>
              </a:r>
              <a:r>
                <a:rPr b="1" i="1" lang="ru-RU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ТУ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3"/>
          <p:cNvGrpSpPr/>
          <p:nvPr/>
        </p:nvGrpSpPr>
        <p:grpSpPr>
          <a:xfrm>
            <a:off x="2843280" y="5805360"/>
            <a:ext cx="1584360" cy="836640"/>
            <a:chOff x="2843280" y="5805360"/>
            <a:chExt cx="1584360" cy="836640"/>
          </a:xfrm>
        </p:grpSpPr>
        <p:sp>
          <p:nvSpPr>
            <p:cNvPr id="64" name="AutoShape 13">
              <a:hlinkClick r:id="rId7" action="ppaction://hlinksldjump"/>
            </p:cNvPr>
            <p:cNvSpPr/>
            <p:nvPr/>
          </p:nvSpPr>
          <p:spPr>
            <a:xfrm>
              <a:off x="2843280" y="5805360"/>
              <a:ext cx="1584360" cy="836640"/>
            </a:xfrm>
            <a:custGeom>
              <a:avLst/>
              <a:gdLst>
                <a:gd name="textAreaLeft" fmla="*/ 54000 w 1584360"/>
                <a:gd name="textAreaRight" fmla="*/ 1530360 w 1584360"/>
                <a:gd name="textAreaTop" fmla="*/ 54000 h 836640"/>
                <a:gd name="textAreaBottom" fmla="*/ 782640 h 836640"/>
              </a:gdLst>
              <a:ahLst/>
              <a:rect l="textAreaLeft" t="textAreaTop" r="textAreaRight" b="textAreaBottom"/>
              <a:pathLst>
                <a:path w="40896" h="21600">
                  <a:moveTo>
                    <a:pt x="0" y="0"/>
                  </a:moveTo>
                  <a:lnTo>
                    <a:pt x="40896" y="0"/>
                  </a:lnTo>
                  <a:lnTo>
                    <a:pt x="40896" y="21600"/>
                  </a:lnTo>
                  <a:lnTo>
                    <a:pt x="0" y="21600"/>
                  </a:lnTo>
                  <a:close/>
                </a:path>
                <a:path fill="lightenLess" w="40896" h="21600">
                  <a:moveTo>
                    <a:pt x="0" y="0"/>
                  </a:moveTo>
                  <a:lnTo>
                    <a:pt x="40896" y="0"/>
                  </a:lnTo>
                  <a:lnTo>
                    <a:pt x="39496" y="1400"/>
                  </a:lnTo>
                  <a:lnTo>
                    <a:pt x="1400" y="1400"/>
                  </a:lnTo>
                  <a:close/>
                </a:path>
                <a:path fill="darken" w="40896" h="21600">
                  <a:moveTo>
                    <a:pt x="40896" y="0"/>
                  </a:moveTo>
                  <a:lnTo>
                    <a:pt x="40896" y="21600"/>
                  </a:lnTo>
                  <a:lnTo>
                    <a:pt x="39496" y="20200"/>
                  </a:lnTo>
                  <a:lnTo>
                    <a:pt x="39496" y="1400"/>
                  </a:lnTo>
                  <a:close/>
                </a:path>
                <a:path fill="darkenLess" w="40896" h="21600">
                  <a:moveTo>
                    <a:pt x="408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496" y="20200"/>
                  </a:lnTo>
                  <a:close/>
                </a:path>
                <a:path fill="lighten" w="408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ec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4">
              <a:hlinkClick r:id="rId8" action="ppaction://hlinksldjump"/>
            </p:cNvPr>
            <p:cNvSpPr/>
            <p:nvPr/>
          </p:nvSpPr>
          <p:spPr>
            <a:xfrm>
              <a:off x="2900160" y="5877000"/>
              <a:ext cx="14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III </a:t>
              </a:r>
              <a:r>
                <a:rPr b="1" i="1" lang="ru-RU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ТУ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4"/>
          <p:cNvGrpSpPr/>
          <p:nvPr/>
        </p:nvGrpSpPr>
        <p:grpSpPr>
          <a:xfrm>
            <a:off x="4427640" y="5805360"/>
            <a:ext cx="1944720" cy="836640"/>
            <a:chOff x="4427640" y="5805360"/>
            <a:chExt cx="1944720" cy="836640"/>
          </a:xfrm>
        </p:grpSpPr>
        <p:sp>
          <p:nvSpPr>
            <p:cNvPr id="67" name="AutoShape 16">
              <a:hlinkClick r:id="rId9" action="ppaction://hlinksldjump"/>
            </p:cNvPr>
            <p:cNvSpPr/>
            <p:nvPr/>
          </p:nvSpPr>
          <p:spPr>
            <a:xfrm>
              <a:off x="4427640" y="5805360"/>
              <a:ext cx="1944720" cy="836640"/>
            </a:xfrm>
            <a:custGeom>
              <a:avLst/>
              <a:gdLst>
                <a:gd name="textAreaLeft" fmla="*/ 54000 w 1944720"/>
                <a:gd name="textAreaRight" fmla="*/ 1890720 w 1944720"/>
                <a:gd name="textAreaTop" fmla="*/ 54000 h 836640"/>
                <a:gd name="textAreaBottom" fmla="*/ 782640 h 836640"/>
              </a:gdLst>
              <a:ahLst/>
              <a:rect l="textAreaLeft" t="textAreaTop" r="textAreaRight" b="textAreaBottom"/>
              <a:pathLst>
                <a:path w="50196" h="21600">
                  <a:moveTo>
                    <a:pt x="0" y="0"/>
                  </a:moveTo>
                  <a:lnTo>
                    <a:pt x="50196" y="0"/>
                  </a:lnTo>
                  <a:lnTo>
                    <a:pt x="50196" y="21600"/>
                  </a:lnTo>
                  <a:lnTo>
                    <a:pt x="0" y="21600"/>
                  </a:lnTo>
                  <a:close/>
                </a:path>
                <a:path fill="lightenLess" w="50196" h="21600">
                  <a:moveTo>
                    <a:pt x="0" y="0"/>
                  </a:moveTo>
                  <a:lnTo>
                    <a:pt x="50196" y="0"/>
                  </a:lnTo>
                  <a:lnTo>
                    <a:pt x="48796" y="1400"/>
                  </a:lnTo>
                  <a:lnTo>
                    <a:pt x="1400" y="1400"/>
                  </a:lnTo>
                  <a:close/>
                </a:path>
                <a:path fill="darken" w="50196" h="21600">
                  <a:moveTo>
                    <a:pt x="50196" y="0"/>
                  </a:moveTo>
                  <a:lnTo>
                    <a:pt x="50196" y="21600"/>
                  </a:lnTo>
                  <a:lnTo>
                    <a:pt x="48796" y="20200"/>
                  </a:lnTo>
                  <a:lnTo>
                    <a:pt x="48796" y="1400"/>
                  </a:lnTo>
                  <a:close/>
                </a:path>
                <a:path fill="darkenLess" w="50196" h="21600">
                  <a:moveTo>
                    <a:pt x="50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796" y="20200"/>
                  </a:lnTo>
                  <a:close/>
                </a:path>
                <a:path fill="lighten" w="50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ec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7">
              <a:hlinkClick r:id="rId10" action="ppaction://hlinksldjump"/>
            </p:cNvPr>
            <p:cNvSpPr/>
            <p:nvPr/>
          </p:nvSpPr>
          <p:spPr>
            <a:xfrm>
              <a:off x="4500720" y="587700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ФИНА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5"/>
          <p:cNvGrpSpPr/>
          <p:nvPr/>
        </p:nvGrpSpPr>
        <p:grpSpPr>
          <a:xfrm>
            <a:off x="6372360" y="5805360"/>
            <a:ext cx="2771640" cy="836640"/>
            <a:chOff x="6372360" y="5805360"/>
            <a:chExt cx="2771640" cy="836640"/>
          </a:xfrm>
        </p:grpSpPr>
        <p:sp>
          <p:nvSpPr>
            <p:cNvPr id="70" name="AutoShape 19">
              <a:hlinkClick r:id="rId11" action="ppaction://hlinksldjump"/>
            </p:cNvPr>
            <p:cNvSpPr/>
            <p:nvPr/>
          </p:nvSpPr>
          <p:spPr>
            <a:xfrm>
              <a:off x="6372360" y="5805360"/>
              <a:ext cx="2771640" cy="836640"/>
            </a:xfrm>
            <a:custGeom>
              <a:avLst/>
              <a:gdLst>
                <a:gd name="textAreaLeft" fmla="*/ 54000 w 2771640"/>
                <a:gd name="textAreaRight" fmla="*/ 2717640 w 2771640"/>
                <a:gd name="textAreaTop" fmla="*/ 54000 h 836640"/>
                <a:gd name="textAreaBottom" fmla="*/ 782640 h 836640"/>
              </a:gdLst>
              <a:ahLst/>
              <a:rect l="textAreaLeft" t="textAreaTop" r="textAreaRight" b="textAreaBottom"/>
              <a:pathLst>
                <a:path w="71535" h="21600">
                  <a:moveTo>
                    <a:pt x="0" y="0"/>
                  </a:moveTo>
                  <a:lnTo>
                    <a:pt x="71535" y="0"/>
                  </a:lnTo>
                  <a:lnTo>
                    <a:pt x="71535" y="21600"/>
                  </a:lnTo>
                  <a:lnTo>
                    <a:pt x="0" y="21600"/>
                  </a:lnTo>
                  <a:close/>
                </a:path>
                <a:path fill="lightenLess" w="71535" h="21600">
                  <a:moveTo>
                    <a:pt x="0" y="0"/>
                  </a:moveTo>
                  <a:lnTo>
                    <a:pt x="71535" y="0"/>
                  </a:lnTo>
                  <a:lnTo>
                    <a:pt x="70136" y="1400"/>
                  </a:lnTo>
                  <a:lnTo>
                    <a:pt x="1400" y="1400"/>
                  </a:lnTo>
                  <a:close/>
                </a:path>
                <a:path fill="darken" w="71535" h="21600">
                  <a:moveTo>
                    <a:pt x="71535" y="0"/>
                  </a:moveTo>
                  <a:lnTo>
                    <a:pt x="71535" y="21600"/>
                  </a:lnTo>
                  <a:lnTo>
                    <a:pt x="70136" y="20200"/>
                  </a:lnTo>
                  <a:lnTo>
                    <a:pt x="70136" y="1400"/>
                  </a:lnTo>
                  <a:close/>
                </a:path>
                <a:path fill="darkenLess" w="71535" h="21600">
                  <a:moveTo>
                    <a:pt x="7153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0136" y="20200"/>
                  </a:lnTo>
                  <a:close/>
                </a:path>
                <a:path fill="lighten" w="7153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ec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0">
              <a:hlinkClick r:id="rId12" action="ppaction://hlinksldjump"/>
            </p:cNvPr>
            <p:cNvSpPr/>
            <p:nvPr/>
          </p:nvSpPr>
          <p:spPr>
            <a:xfrm>
              <a:off x="6443640" y="5877000"/>
              <a:ext cx="27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СУПЕР ИГ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7"/>
          <p:cNvGrpSpPr/>
          <p:nvPr/>
        </p:nvGrpSpPr>
        <p:grpSpPr>
          <a:xfrm>
            <a:off x="8604360" y="115920"/>
            <a:ext cx="394920" cy="404280"/>
            <a:chOff x="8604360" y="115920"/>
            <a:chExt cx="394920" cy="404280"/>
          </a:xfrm>
        </p:grpSpPr>
        <p:sp>
          <p:nvSpPr>
            <p:cNvPr id="73" name="Rectangle 28">
              <a:hlinkClick r:id="" action="ppaction://hlinkshowjump?jump=endshow"/>
            </p:cNvPr>
            <p:cNvSpPr/>
            <p:nvPr/>
          </p:nvSpPr>
          <p:spPr>
            <a:xfrm>
              <a:off x="8604360" y="115920"/>
              <a:ext cx="394920" cy="404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WordArt 29"/>
            <p:cNvSpPr txBox="1"/>
            <p:nvPr/>
          </p:nvSpPr>
          <p:spPr>
            <a:xfrm>
              <a:off x="8682840" y="196200"/>
              <a:ext cx="238320" cy="244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comb dir="horz"/>
    <p:sndAc>
      <p:stSnd>
        <p:snd r:embed="rId13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708360" y="549360"/>
          <a:ext cx="5267520" cy="1006560"/>
        </p:xfrm>
        <a:graphic>
          <a:graphicData uri="http://schemas.openxmlformats.org/drawingml/2006/table">
            <a:tbl>
              <a:tblPr/>
              <a:tblGrid>
                <a:gridCol w="750960"/>
                <a:gridCol w="752400"/>
                <a:gridCol w="750960"/>
                <a:gridCol w="754200"/>
                <a:gridCol w="752400"/>
                <a:gridCol w="755640"/>
                <a:gridCol w="75096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76" name="Picture 201" descr="бараба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4932360" cy="493236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202"/>
          <p:cNvSpPr/>
          <p:nvPr/>
        </p:nvSpPr>
        <p:spPr>
          <a:xfrm rot="18351600">
            <a:off x="4375080" y="5670360"/>
            <a:ext cx="79200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10"/>
          <p:cNvSpPr/>
          <p:nvPr/>
        </p:nvSpPr>
        <p:spPr>
          <a:xfrm>
            <a:off x="7588080" y="657360"/>
            <a:ext cx="50508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14"/>
          <p:cNvSpPr/>
          <p:nvPr/>
        </p:nvSpPr>
        <p:spPr>
          <a:xfrm>
            <a:off x="5364000" y="1916280"/>
            <a:ext cx="3600720" cy="3123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ПРОС: Передовой укреплённый пунк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15"/>
          <p:cNvGrpSpPr/>
          <p:nvPr/>
        </p:nvGrpSpPr>
        <p:grpSpPr>
          <a:xfrm>
            <a:off x="6659640" y="5805360"/>
            <a:ext cx="1439640" cy="836640"/>
            <a:chOff x="6659640" y="5805360"/>
            <a:chExt cx="1439640" cy="836640"/>
          </a:xfrm>
        </p:grpSpPr>
        <p:sp>
          <p:nvSpPr>
            <p:cNvPr id="81" name="AutoShape 216">
              <a:hlinkClick r:id="rId4" action="ppaction://hlinksldjump"/>
            </p:cNvPr>
            <p:cNvSpPr/>
            <p:nvPr/>
          </p:nvSpPr>
          <p:spPr>
            <a:xfrm>
              <a:off x="6659640" y="5805360"/>
              <a:ext cx="1439640" cy="836640"/>
            </a:xfrm>
            <a:custGeom>
              <a:avLst/>
              <a:gdLst>
                <a:gd name="textAreaLeft" fmla="*/ 54000 w 1439640"/>
                <a:gd name="textAreaRight" fmla="*/ 1385640 w 1439640"/>
                <a:gd name="textAreaTop" fmla="*/ 54000 h 836640"/>
                <a:gd name="textAreaBottom" fmla="*/ 782640 h 836640"/>
              </a:gdLst>
              <a:ahLst/>
              <a:rect l="textAreaLeft" t="textAreaTop" r="textAreaRight" b="textAreaBottom"/>
              <a:pathLst>
                <a:path w="37161" h="21600">
                  <a:moveTo>
                    <a:pt x="0" y="0"/>
                  </a:moveTo>
                  <a:lnTo>
                    <a:pt x="37161" y="0"/>
                  </a:lnTo>
                  <a:lnTo>
                    <a:pt x="37161" y="21600"/>
                  </a:lnTo>
                  <a:lnTo>
                    <a:pt x="0" y="21600"/>
                  </a:lnTo>
                  <a:close/>
                </a:path>
                <a:path fill="lightenLess" w="37161" h="21600">
                  <a:moveTo>
                    <a:pt x="0" y="0"/>
                  </a:moveTo>
                  <a:lnTo>
                    <a:pt x="37161" y="0"/>
                  </a:lnTo>
                  <a:lnTo>
                    <a:pt x="35761" y="1400"/>
                  </a:lnTo>
                  <a:lnTo>
                    <a:pt x="1400" y="1400"/>
                  </a:lnTo>
                  <a:close/>
                </a:path>
                <a:path fill="darken" w="37161" h="21600">
                  <a:moveTo>
                    <a:pt x="37161" y="0"/>
                  </a:moveTo>
                  <a:lnTo>
                    <a:pt x="37161" y="21600"/>
                  </a:lnTo>
                  <a:lnTo>
                    <a:pt x="35761" y="20200"/>
                  </a:lnTo>
                  <a:lnTo>
                    <a:pt x="35761" y="1400"/>
                  </a:lnTo>
                  <a:close/>
                </a:path>
                <a:path fill="darkenLess" w="37161" h="21600">
                  <a:moveTo>
                    <a:pt x="3716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761" y="20200"/>
                  </a:lnTo>
                  <a:close/>
                </a:path>
                <a:path fill="lighten" w="3716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ec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17">
              <a:hlinkClick r:id="" action="ppaction://hlinkshowjump?jump=nextslide"/>
            </p:cNvPr>
            <p:cNvSpPr/>
            <p:nvPr/>
          </p:nvSpPr>
          <p:spPr>
            <a:xfrm>
              <a:off x="6717960" y="5877000"/>
              <a:ext cx="126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I </a:t>
              </a:r>
              <a:r>
                <a:rPr b="1" i="1" lang="ru-RU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ТУ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218">
            <a:hlinkClick r:id="rId5" action="ppaction://hlinksldjump"/>
          </p:cNvPr>
          <p:cNvSpPr/>
          <p:nvPr/>
        </p:nvSpPr>
        <p:spPr>
          <a:xfrm>
            <a:off x="8101080" y="5805360"/>
            <a:ext cx="1042920" cy="827280"/>
          </a:xfrm>
          <a:custGeom>
            <a:avLst/>
            <a:gdLst>
              <a:gd name="textAreaLeft" fmla="*/ 53640 w 1042920"/>
              <a:gd name="textAreaRight" fmla="*/ 989280 w 104292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27228" h="21600">
                <a:moveTo>
                  <a:pt x="0" y="0"/>
                </a:moveTo>
                <a:lnTo>
                  <a:pt x="27228" y="0"/>
                </a:lnTo>
                <a:lnTo>
                  <a:pt x="27228" y="21600"/>
                </a:lnTo>
                <a:lnTo>
                  <a:pt x="0" y="21600"/>
                </a:lnTo>
                <a:close/>
              </a:path>
              <a:path fill="lightenLess" w="27228" h="21600">
                <a:moveTo>
                  <a:pt x="0" y="0"/>
                </a:moveTo>
                <a:lnTo>
                  <a:pt x="27228" y="0"/>
                </a:lnTo>
                <a:lnTo>
                  <a:pt x="25828" y="1400"/>
                </a:lnTo>
                <a:lnTo>
                  <a:pt x="1400" y="1400"/>
                </a:lnTo>
                <a:close/>
              </a:path>
              <a:path fill="darken" w="27228" h="21600">
                <a:moveTo>
                  <a:pt x="27228" y="0"/>
                </a:moveTo>
                <a:lnTo>
                  <a:pt x="27228" y="21600"/>
                </a:lnTo>
                <a:lnTo>
                  <a:pt x="25828" y="20200"/>
                </a:lnTo>
                <a:lnTo>
                  <a:pt x="25828" y="1400"/>
                </a:lnTo>
                <a:close/>
              </a:path>
              <a:path fill="darkenLess" w="27228" h="21600">
                <a:moveTo>
                  <a:pt x="27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28" y="20200"/>
                </a:lnTo>
                <a:close/>
              </a:path>
              <a:path fill="lighten" w="27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28" h="21600">
                <a:moveTo>
                  <a:pt x="6607" y="7493"/>
                </a:moveTo>
                <a:lnTo>
                  <a:pt x="10115" y="7493"/>
                </a:lnTo>
                <a:lnTo>
                  <a:pt x="10115" y="12828"/>
                </a:lnTo>
                <a:cubicBezTo>
                  <a:pt x="10115" y="13751"/>
                  <a:pt x="10916" y="14482"/>
                  <a:pt x="11952" y="14482"/>
                </a:cubicBezTo>
                <a:lnTo>
                  <a:pt x="13614" y="14482"/>
                </a:lnTo>
                <a:cubicBezTo>
                  <a:pt x="14650" y="14482"/>
                  <a:pt x="15450" y="13751"/>
                  <a:pt x="15450" y="12828"/>
                </a:cubicBezTo>
                <a:lnTo>
                  <a:pt x="15450" y="7493"/>
                </a:lnTo>
                <a:lnTo>
                  <a:pt x="13614" y="7493"/>
                </a:lnTo>
                <a:lnTo>
                  <a:pt x="17122" y="3985"/>
                </a:lnTo>
                <a:lnTo>
                  <a:pt x="20794" y="7493"/>
                </a:lnTo>
                <a:lnTo>
                  <a:pt x="18958" y="7493"/>
                </a:lnTo>
                <a:lnTo>
                  <a:pt x="18958" y="12828"/>
                </a:lnTo>
                <a:cubicBezTo>
                  <a:pt x="18958" y="15596"/>
                  <a:pt x="16382" y="18155"/>
                  <a:pt x="13614" y="18155"/>
                </a:cubicBezTo>
                <a:lnTo>
                  <a:pt x="11952" y="18155"/>
                </a:lnTo>
                <a:cubicBezTo>
                  <a:pt x="9184" y="18155"/>
                  <a:pt x="6607" y="15596"/>
                  <a:pt x="6607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220"/>
          <p:cNvSpPr txBox="1"/>
          <p:nvPr/>
        </p:nvSpPr>
        <p:spPr>
          <a:xfrm>
            <a:off x="539640" y="260280"/>
            <a:ext cx="295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I ту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5" name="Rectangle 229"/>
          <p:cNvSpPr/>
          <p:nvPr/>
        </p:nvSpPr>
        <p:spPr>
          <a:xfrm>
            <a:off x="5364000" y="633240"/>
            <a:ext cx="50508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30"/>
          <p:cNvSpPr/>
          <p:nvPr/>
        </p:nvSpPr>
        <p:spPr>
          <a:xfrm>
            <a:off x="6029280" y="700200"/>
            <a:ext cx="57636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31"/>
          <p:cNvSpPr/>
          <p:nvPr/>
        </p:nvSpPr>
        <p:spPr>
          <a:xfrm>
            <a:off x="6807240" y="582480"/>
            <a:ext cx="5968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32"/>
          <p:cNvSpPr/>
          <p:nvPr/>
        </p:nvSpPr>
        <p:spPr>
          <a:xfrm>
            <a:off x="8280360" y="654120"/>
            <a:ext cx="6476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33"/>
          <p:cNvSpPr/>
          <p:nvPr/>
        </p:nvSpPr>
        <p:spPr>
          <a:xfrm>
            <a:off x="3735360" y="654120"/>
            <a:ext cx="64296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34"/>
          <p:cNvSpPr/>
          <p:nvPr/>
        </p:nvSpPr>
        <p:spPr>
          <a:xfrm>
            <a:off x="4505400" y="633240"/>
            <a:ext cx="64296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35"/>
          <p:cNvGrpSpPr/>
          <p:nvPr/>
        </p:nvGrpSpPr>
        <p:grpSpPr>
          <a:xfrm>
            <a:off x="8604360" y="115920"/>
            <a:ext cx="394920" cy="404280"/>
            <a:chOff x="8604360" y="115920"/>
            <a:chExt cx="394920" cy="404280"/>
          </a:xfrm>
        </p:grpSpPr>
        <p:sp>
          <p:nvSpPr>
            <p:cNvPr id="92" name="Rectangle 236">
              <a:hlinkClick r:id="" action="ppaction://hlinkshowjump?jump=endshow"/>
            </p:cNvPr>
            <p:cNvSpPr/>
            <p:nvPr/>
          </p:nvSpPr>
          <p:spPr>
            <a:xfrm>
              <a:off x="8604360" y="115920"/>
              <a:ext cx="394920" cy="404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WordArt 237"/>
            <p:cNvSpPr txBox="1"/>
            <p:nvPr/>
          </p:nvSpPr>
          <p:spPr>
            <a:xfrm>
              <a:off x="8682840" y="196200"/>
              <a:ext cx="238320" cy="244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comb dir="horz"/>
    <p:sndAc>
      <p:stSnd>
        <p:snd r:embed="rId8" name="cashreg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8680000">
                                      <p:cBhvr>
                                        <p:cTn id="6" dur="10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8680000">
                                      <p:cBhvr>
                                        <p:cTn id="10" dur="10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8680000">
                                      <p:cBhvr>
                                        <p:cTn id="14" dur="10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90040000">
                                      <p:cBhvr>
                                        <p:cTn id="18" dur="10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3940000">
                                      <p:cBhvr>
                                        <p:cTn id="22" dur="10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6660000">
                                      <p:cBhvr>
                                        <p:cTn id="26" dur="10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20260000">
                                      <p:cBhvr>
                                        <p:cTn id="30" dur="10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0500000">
                                      <p:cBhvr>
                                        <p:cTn id="34" dur="10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54800000">
                                      <p:cBhvr>
                                        <p:cTn id="38" dur="10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3340000">
                                      <p:cBhvr>
                                        <p:cTn id="42" dur="10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59420000">
                                      <p:cBhvr>
                                        <p:cTn id="46" dur="10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rcRect l="0" t="0" r="0" b="4353"/>
          <a:stretch/>
        </p:blipFill>
        <p:spPr>
          <a:xfrm>
            <a:off x="2340000" y="333360"/>
            <a:ext cx="4572000" cy="618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6" descr="бараба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4932360" cy="49323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17"/>
          <p:cNvSpPr/>
          <p:nvPr/>
        </p:nvSpPr>
        <p:spPr>
          <a:xfrm rot="18351600">
            <a:off x="4375080" y="5670360"/>
            <a:ext cx="79200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5364000" y="1773360"/>
            <a:ext cx="3600720" cy="2288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ПРОС: Защищённая боевая площад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24"/>
          <p:cNvGrpSpPr/>
          <p:nvPr/>
        </p:nvGrpSpPr>
        <p:grpSpPr>
          <a:xfrm>
            <a:off x="6516720" y="5805360"/>
            <a:ext cx="1584360" cy="836640"/>
            <a:chOff x="6516720" y="5805360"/>
            <a:chExt cx="1584360" cy="836640"/>
          </a:xfrm>
        </p:grpSpPr>
        <p:sp>
          <p:nvSpPr>
            <p:cNvPr id="99" name="AutoShape 25">
              <a:hlinkClick r:id="rId4" action="ppaction://hlinksldjump"/>
            </p:cNvPr>
            <p:cNvSpPr/>
            <p:nvPr/>
          </p:nvSpPr>
          <p:spPr>
            <a:xfrm>
              <a:off x="6516720" y="5805360"/>
              <a:ext cx="1584360" cy="836640"/>
            </a:xfrm>
            <a:custGeom>
              <a:avLst/>
              <a:gdLst>
                <a:gd name="textAreaLeft" fmla="*/ 54000 w 1584360"/>
                <a:gd name="textAreaRight" fmla="*/ 1530360 w 1584360"/>
                <a:gd name="textAreaTop" fmla="*/ 54000 h 836640"/>
                <a:gd name="textAreaBottom" fmla="*/ 782640 h 836640"/>
              </a:gdLst>
              <a:ahLst/>
              <a:rect l="textAreaLeft" t="textAreaTop" r="textAreaRight" b="textAreaBottom"/>
              <a:pathLst>
                <a:path w="40896" h="21600">
                  <a:moveTo>
                    <a:pt x="0" y="0"/>
                  </a:moveTo>
                  <a:lnTo>
                    <a:pt x="40896" y="0"/>
                  </a:lnTo>
                  <a:lnTo>
                    <a:pt x="40896" y="21600"/>
                  </a:lnTo>
                  <a:lnTo>
                    <a:pt x="0" y="21600"/>
                  </a:lnTo>
                  <a:close/>
                </a:path>
                <a:path fill="lightenLess" w="40896" h="21600">
                  <a:moveTo>
                    <a:pt x="0" y="0"/>
                  </a:moveTo>
                  <a:lnTo>
                    <a:pt x="40896" y="0"/>
                  </a:lnTo>
                  <a:lnTo>
                    <a:pt x="39496" y="1400"/>
                  </a:lnTo>
                  <a:lnTo>
                    <a:pt x="1400" y="1400"/>
                  </a:lnTo>
                  <a:close/>
                </a:path>
                <a:path fill="darken" w="40896" h="21600">
                  <a:moveTo>
                    <a:pt x="40896" y="0"/>
                  </a:moveTo>
                  <a:lnTo>
                    <a:pt x="40896" y="21600"/>
                  </a:lnTo>
                  <a:lnTo>
                    <a:pt x="39496" y="20200"/>
                  </a:lnTo>
                  <a:lnTo>
                    <a:pt x="39496" y="1400"/>
                  </a:lnTo>
                  <a:close/>
                </a:path>
                <a:path fill="darkenLess" w="40896" h="21600">
                  <a:moveTo>
                    <a:pt x="408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496" y="20200"/>
                  </a:lnTo>
                  <a:close/>
                </a:path>
                <a:path fill="lighten" w="408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ec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6">
              <a:hlinkClick r:id="" action="ppaction://hlinkshowjump?jump=nextslide"/>
            </p:cNvPr>
            <p:cNvSpPr/>
            <p:nvPr/>
          </p:nvSpPr>
          <p:spPr>
            <a:xfrm>
              <a:off x="6573600" y="5877000"/>
              <a:ext cx="14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II </a:t>
              </a:r>
              <a:r>
                <a:rPr b="1" i="1" lang="ru-RU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ТУ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AutoShape 27">
            <a:hlinkClick r:id="rId5" action="ppaction://hlinksldjump"/>
          </p:cNvPr>
          <p:cNvSpPr/>
          <p:nvPr/>
        </p:nvSpPr>
        <p:spPr>
          <a:xfrm>
            <a:off x="8101080" y="5805360"/>
            <a:ext cx="1042920" cy="827280"/>
          </a:xfrm>
          <a:custGeom>
            <a:avLst/>
            <a:gdLst>
              <a:gd name="textAreaLeft" fmla="*/ 53640 w 1042920"/>
              <a:gd name="textAreaRight" fmla="*/ 989280 w 104292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27228" h="21600">
                <a:moveTo>
                  <a:pt x="0" y="0"/>
                </a:moveTo>
                <a:lnTo>
                  <a:pt x="27228" y="0"/>
                </a:lnTo>
                <a:lnTo>
                  <a:pt x="27228" y="21600"/>
                </a:lnTo>
                <a:lnTo>
                  <a:pt x="0" y="21600"/>
                </a:lnTo>
                <a:close/>
              </a:path>
              <a:path fill="lightenLess" w="27228" h="21600">
                <a:moveTo>
                  <a:pt x="0" y="0"/>
                </a:moveTo>
                <a:lnTo>
                  <a:pt x="27228" y="0"/>
                </a:lnTo>
                <a:lnTo>
                  <a:pt x="25828" y="1400"/>
                </a:lnTo>
                <a:lnTo>
                  <a:pt x="1400" y="1400"/>
                </a:lnTo>
                <a:close/>
              </a:path>
              <a:path fill="darken" w="27228" h="21600">
                <a:moveTo>
                  <a:pt x="27228" y="0"/>
                </a:moveTo>
                <a:lnTo>
                  <a:pt x="27228" y="21600"/>
                </a:lnTo>
                <a:lnTo>
                  <a:pt x="25828" y="20200"/>
                </a:lnTo>
                <a:lnTo>
                  <a:pt x="25828" y="1400"/>
                </a:lnTo>
                <a:close/>
              </a:path>
              <a:path fill="darkenLess" w="27228" h="21600">
                <a:moveTo>
                  <a:pt x="27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28" y="20200"/>
                </a:lnTo>
                <a:close/>
              </a:path>
              <a:path fill="lighten" w="27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28" h="21600">
                <a:moveTo>
                  <a:pt x="6607" y="7493"/>
                </a:moveTo>
                <a:lnTo>
                  <a:pt x="10115" y="7493"/>
                </a:lnTo>
                <a:lnTo>
                  <a:pt x="10115" y="12828"/>
                </a:lnTo>
                <a:cubicBezTo>
                  <a:pt x="10115" y="13751"/>
                  <a:pt x="10916" y="14482"/>
                  <a:pt x="11952" y="14482"/>
                </a:cubicBezTo>
                <a:lnTo>
                  <a:pt x="13614" y="14482"/>
                </a:lnTo>
                <a:cubicBezTo>
                  <a:pt x="14650" y="14482"/>
                  <a:pt x="15450" y="13751"/>
                  <a:pt x="15450" y="12828"/>
                </a:cubicBezTo>
                <a:lnTo>
                  <a:pt x="15450" y="7493"/>
                </a:lnTo>
                <a:lnTo>
                  <a:pt x="13614" y="7493"/>
                </a:lnTo>
                <a:lnTo>
                  <a:pt x="17122" y="3985"/>
                </a:lnTo>
                <a:lnTo>
                  <a:pt x="20794" y="7493"/>
                </a:lnTo>
                <a:lnTo>
                  <a:pt x="18958" y="7493"/>
                </a:lnTo>
                <a:lnTo>
                  <a:pt x="18958" y="12828"/>
                </a:lnTo>
                <a:cubicBezTo>
                  <a:pt x="18958" y="15596"/>
                  <a:pt x="16382" y="18155"/>
                  <a:pt x="13614" y="18155"/>
                </a:cubicBezTo>
                <a:lnTo>
                  <a:pt x="11952" y="18155"/>
                </a:lnTo>
                <a:cubicBezTo>
                  <a:pt x="9184" y="18155"/>
                  <a:pt x="6607" y="15596"/>
                  <a:pt x="6607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28"/>
          <p:cNvSpPr txBox="1"/>
          <p:nvPr/>
        </p:nvSpPr>
        <p:spPr>
          <a:xfrm>
            <a:off x="324000" y="260280"/>
            <a:ext cx="316836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II ту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708360" y="549360"/>
          <a:ext cx="5267520" cy="1006560"/>
        </p:xfrm>
        <a:graphic>
          <a:graphicData uri="http://schemas.openxmlformats.org/drawingml/2006/table">
            <a:tbl>
              <a:tblPr/>
              <a:tblGrid>
                <a:gridCol w="750960"/>
                <a:gridCol w="752400"/>
                <a:gridCol w="750960"/>
                <a:gridCol w="754200"/>
                <a:gridCol w="752400"/>
                <a:gridCol w="755640"/>
                <a:gridCol w="75096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" name="Rectangle 47"/>
          <p:cNvSpPr/>
          <p:nvPr/>
        </p:nvSpPr>
        <p:spPr>
          <a:xfrm>
            <a:off x="6108840" y="600120"/>
            <a:ext cx="57132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8"/>
          <p:cNvSpPr/>
          <p:nvPr/>
        </p:nvSpPr>
        <p:spPr>
          <a:xfrm>
            <a:off x="6788160" y="600120"/>
            <a:ext cx="6732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7523280" y="617400"/>
            <a:ext cx="64764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5324400" y="600120"/>
            <a:ext cx="50508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1"/>
          <p:cNvSpPr/>
          <p:nvPr/>
        </p:nvSpPr>
        <p:spPr>
          <a:xfrm>
            <a:off x="8283600" y="633240"/>
            <a:ext cx="677880" cy="8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2"/>
          <p:cNvSpPr/>
          <p:nvPr/>
        </p:nvSpPr>
        <p:spPr>
          <a:xfrm>
            <a:off x="3859200" y="689040"/>
            <a:ext cx="50472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3"/>
          <p:cNvSpPr/>
          <p:nvPr/>
        </p:nvSpPr>
        <p:spPr>
          <a:xfrm>
            <a:off x="4568760" y="631800"/>
            <a:ext cx="5666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6"/>
          <p:cNvGrpSpPr/>
          <p:nvPr/>
        </p:nvGrpSpPr>
        <p:grpSpPr>
          <a:xfrm>
            <a:off x="8604360" y="115920"/>
            <a:ext cx="394920" cy="404280"/>
            <a:chOff x="8604360" y="115920"/>
            <a:chExt cx="394920" cy="404280"/>
          </a:xfrm>
        </p:grpSpPr>
        <p:sp>
          <p:nvSpPr>
            <p:cNvPr id="112" name="Rectangle 57">
              <a:hlinkClick r:id="" action="ppaction://hlinkshowjump?jump=endshow"/>
            </p:cNvPr>
            <p:cNvSpPr/>
            <p:nvPr/>
          </p:nvSpPr>
          <p:spPr>
            <a:xfrm>
              <a:off x="8604360" y="115920"/>
              <a:ext cx="394920" cy="404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WordArt 58"/>
            <p:cNvSpPr txBox="1"/>
            <p:nvPr/>
          </p:nvSpPr>
          <p:spPr>
            <a:xfrm>
              <a:off x="8682840" y="196200"/>
              <a:ext cx="238320" cy="244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comb dir="horz"/>
    <p:sndAc>
      <p:stSnd>
        <p:snd r:embed="rId8" name="cashreg.wav"/>
      </p:stSnd>
    </p:sndAc>
  </p:transition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3940000">
                                      <p:cBhvr>
                                        <p:cTn id="108" dur="10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6660000">
                                      <p:cBhvr>
                                        <p:cTn id="112" dur="10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20260000">
                                      <p:cBhvr>
                                        <p:cTn id="116" dur="10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0500000">
                                      <p:cBhvr>
                                        <p:cTn id="120" dur="10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54800000">
                                      <p:cBhvr>
                                        <p:cTn id="124" dur="10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3340000">
                                      <p:cBhvr>
                                        <p:cTn id="128" dur="10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59420000">
                                      <p:cBhvr>
                                        <p:cTn id="132" dur="10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8680000">
                                      <p:cBhvr>
                                        <p:cTn id="136" dur="10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8680000">
                                      <p:cBhvr>
                                        <p:cTn id="140" dur="10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8680000">
                                      <p:cBhvr>
                                        <p:cTn id="144" dur="10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90040000">
                                      <p:cBhvr>
                                        <p:cTn id="148" dur="10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82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417080" cy="525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6" descr="бараба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4932360" cy="493236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7"/>
          <p:cNvSpPr/>
          <p:nvPr/>
        </p:nvSpPr>
        <p:spPr>
          <a:xfrm rot="18351600">
            <a:off x="4375080" y="5670360"/>
            <a:ext cx="79200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5219640" y="1700280"/>
            <a:ext cx="3745080" cy="2846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ПРОС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ин, следящий за возможным приближением вра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24"/>
          <p:cNvGrpSpPr/>
          <p:nvPr/>
        </p:nvGrpSpPr>
        <p:grpSpPr>
          <a:xfrm>
            <a:off x="6156360" y="5661000"/>
            <a:ext cx="1944720" cy="836640"/>
            <a:chOff x="6156360" y="5661000"/>
            <a:chExt cx="1944720" cy="836640"/>
          </a:xfrm>
        </p:grpSpPr>
        <p:sp>
          <p:nvSpPr>
            <p:cNvPr id="119" name="AutoShape 25">
              <a:hlinkClick r:id="rId4" action="ppaction://hlinksldjump"/>
            </p:cNvPr>
            <p:cNvSpPr/>
            <p:nvPr/>
          </p:nvSpPr>
          <p:spPr>
            <a:xfrm>
              <a:off x="6156360" y="5661000"/>
              <a:ext cx="1944720" cy="836640"/>
            </a:xfrm>
            <a:custGeom>
              <a:avLst/>
              <a:gdLst>
                <a:gd name="textAreaLeft" fmla="*/ 54000 w 1944720"/>
                <a:gd name="textAreaRight" fmla="*/ 1890720 w 1944720"/>
                <a:gd name="textAreaTop" fmla="*/ 54000 h 836640"/>
                <a:gd name="textAreaBottom" fmla="*/ 782640 h 836640"/>
              </a:gdLst>
              <a:ahLst/>
              <a:rect l="textAreaLeft" t="textAreaTop" r="textAreaRight" b="textAreaBottom"/>
              <a:pathLst>
                <a:path w="50196" h="21600">
                  <a:moveTo>
                    <a:pt x="0" y="0"/>
                  </a:moveTo>
                  <a:lnTo>
                    <a:pt x="50196" y="0"/>
                  </a:lnTo>
                  <a:lnTo>
                    <a:pt x="50196" y="21600"/>
                  </a:lnTo>
                  <a:lnTo>
                    <a:pt x="0" y="21600"/>
                  </a:lnTo>
                  <a:close/>
                </a:path>
                <a:path fill="lightenLess" w="50196" h="21600">
                  <a:moveTo>
                    <a:pt x="0" y="0"/>
                  </a:moveTo>
                  <a:lnTo>
                    <a:pt x="50196" y="0"/>
                  </a:lnTo>
                  <a:lnTo>
                    <a:pt x="48796" y="1400"/>
                  </a:lnTo>
                  <a:lnTo>
                    <a:pt x="1400" y="1400"/>
                  </a:lnTo>
                  <a:close/>
                </a:path>
                <a:path fill="darken" w="50196" h="21600">
                  <a:moveTo>
                    <a:pt x="50196" y="0"/>
                  </a:moveTo>
                  <a:lnTo>
                    <a:pt x="50196" y="21600"/>
                  </a:lnTo>
                  <a:lnTo>
                    <a:pt x="48796" y="20200"/>
                  </a:lnTo>
                  <a:lnTo>
                    <a:pt x="48796" y="1400"/>
                  </a:lnTo>
                  <a:close/>
                </a:path>
                <a:path fill="darkenLess" w="50196" h="21600">
                  <a:moveTo>
                    <a:pt x="50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796" y="20200"/>
                  </a:lnTo>
                  <a:close/>
                </a:path>
                <a:path fill="lighten" w="50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ec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6">
              <a:hlinkClick r:id="" action="ppaction://hlinkshowjump?jump=nextslide"/>
            </p:cNvPr>
            <p:cNvSpPr/>
            <p:nvPr/>
          </p:nvSpPr>
          <p:spPr>
            <a:xfrm>
              <a:off x="6229440" y="573264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ФИНА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AutoShape 27">
            <a:hlinkClick r:id="rId5" action="ppaction://hlinksldjump"/>
          </p:cNvPr>
          <p:cNvSpPr/>
          <p:nvPr/>
        </p:nvSpPr>
        <p:spPr>
          <a:xfrm>
            <a:off x="8101080" y="5661000"/>
            <a:ext cx="1042920" cy="827280"/>
          </a:xfrm>
          <a:custGeom>
            <a:avLst/>
            <a:gdLst>
              <a:gd name="textAreaLeft" fmla="*/ 53640 w 1042920"/>
              <a:gd name="textAreaRight" fmla="*/ 989280 w 104292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27228" h="21600">
                <a:moveTo>
                  <a:pt x="0" y="0"/>
                </a:moveTo>
                <a:lnTo>
                  <a:pt x="27228" y="0"/>
                </a:lnTo>
                <a:lnTo>
                  <a:pt x="27228" y="21600"/>
                </a:lnTo>
                <a:lnTo>
                  <a:pt x="0" y="21600"/>
                </a:lnTo>
                <a:close/>
              </a:path>
              <a:path fill="lightenLess" w="27228" h="21600">
                <a:moveTo>
                  <a:pt x="0" y="0"/>
                </a:moveTo>
                <a:lnTo>
                  <a:pt x="27228" y="0"/>
                </a:lnTo>
                <a:lnTo>
                  <a:pt x="25828" y="1400"/>
                </a:lnTo>
                <a:lnTo>
                  <a:pt x="1400" y="1400"/>
                </a:lnTo>
                <a:close/>
              </a:path>
              <a:path fill="darken" w="27228" h="21600">
                <a:moveTo>
                  <a:pt x="27228" y="0"/>
                </a:moveTo>
                <a:lnTo>
                  <a:pt x="27228" y="21600"/>
                </a:lnTo>
                <a:lnTo>
                  <a:pt x="25828" y="20200"/>
                </a:lnTo>
                <a:lnTo>
                  <a:pt x="25828" y="1400"/>
                </a:lnTo>
                <a:close/>
              </a:path>
              <a:path fill="darkenLess" w="27228" h="21600">
                <a:moveTo>
                  <a:pt x="27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28" y="20200"/>
                </a:lnTo>
                <a:close/>
              </a:path>
              <a:path fill="lighten" w="27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28" h="21600">
                <a:moveTo>
                  <a:pt x="6607" y="7493"/>
                </a:moveTo>
                <a:lnTo>
                  <a:pt x="10115" y="7493"/>
                </a:lnTo>
                <a:lnTo>
                  <a:pt x="10115" y="12828"/>
                </a:lnTo>
                <a:cubicBezTo>
                  <a:pt x="10115" y="13751"/>
                  <a:pt x="10916" y="14482"/>
                  <a:pt x="11952" y="14482"/>
                </a:cubicBezTo>
                <a:lnTo>
                  <a:pt x="13614" y="14482"/>
                </a:lnTo>
                <a:cubicBezTo>
                  <a:pt x="14650" y="14482"/>
                  <a:pt x="15450" y="13751"/>
                  <a:pt x="15450" y="12828"/>
                </a:cubicBezTo>
                <a:lnTo>
                  <a:pt x="15450" y="7493"/>
                </a:lnTo>
                <a:lnTo>
                  <a:pt x="13614" y="7493"/>
                </a:lnTo>
                <a:lnTo>
                  <a:pt x="17122" y="3985"/>
                </a:lnTo>
                <a:lnTo>
                  <a:pt x="20794" y="7493"/>
                </a:lnTo>
                <a:lnTo>
                  <a:pt x="18958" y="7493"/>
                </a:lnTo>
                <a:lnTo>
                  <a:pt x="18958" y="12828"/>
                </a:lnTo>
                <a:cubicBezTo>
                  <a:pt x="18958" y="15596"/>
                  <a:pt x="16382" y="18155"/>
                  <a:pt x="13614" y="18155"/>
                </a:cubicBezTo>
                <a:lnTo>
                  <a:pt x="11952" y="18155"/>
                </a:lnTo>
                <a:cubicBezTo>
                  <a:pt x="9184" y="18155"/>
                  <a:pt x="6607" y="15596"/>
                  <a:pt x="6607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28"/>
          <p:cNvSpPr txBox="1"/>
          <p:nvPr/>
        </p:nvSpPr>
        <p:spPr>
          <a:xfrm>
            <a:off x="324000" y="260280"/>
            <a:ext cx="324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III ту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780000" y="549360"/>
          <a:ext cx="5113080" cy="1006560"/>
        </p:xfrm>
        <a:graphic>
          <a:graphicData uri="http://schemas.openxmlformats.org/drawingml/2006/table">
            <a:tbl>
              <a:tblPr/>
              <a:tblGrid>
                <a:gridCol w="637920"/>
                <a:gridCol w="638280"/>
                <a:gridCol w="638280"/>
                <a:gridCol w="639720"/>
                <a:gridCol w="639720"/>
                <a:gridCol w="638280"/>
                <a:gridCol w="642960"/>
                <a:gridCol w="6379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4" name="Rectangle 51"/>
          <p:cNvSpPr/>
          <p:nvPr/>
        </p:nvSpPr>
        <p:spPr>
          <a:xfrm>
            <a:off x="8265960" y="601560"/>
            <a:ext cx="57960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7"/>
          <p:cNvSpPr/>
          <p:nvPr/>
        </p:nvSpPr>
        <p:spPr>
          <a:xfrm>
            <a:off x="5707080" y="644400"/>
            <a:ext cx="59364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8"/>
          <p:cNvSpPr/>
          <p:nvPr/>
        </p:nvSpPr>
        <p:spPr>
          <a:xfrm>
            <a:off x="6375240" y="620640"/>
            <a:ext cx="576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9"/>
          <p:cNvSpPr/>
          <p:nvPr/>
        </p:nvSpPr>
        <p:spPr>
          <a:xfrm>
            <a:off x="7050240" y="603360"/>
            <a:ext cx="50292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0"/>
          <p:cNvSpPr/>
          <p:nvPr/>
        </p:nvSpPr>
        <p:spPr>
          <a:xfrm>
            <a:off x="7653240" y="574560"/>
            <a:ext cx="59220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1"/>
          <p:cNvSpPr/>
          <p:nvPr/>
        </p:nvSpPr>
        <p:spPr>
          <a:xfrm>
            <a:off x="3816360" y="620640"/>
            <a:ext cx="5349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2"/>
          <p:cNvSpPr/>
          <p:nvPr/>
        </p:nvSpPr>
        <p:spPr>
          <a:xfrm>
            <a:off x="4454640" y="652320"/>
            <a:ext cx="56520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3"/>
          <p:cNvSpPr/>
          <p:nvPr/>
        </p:nvSpPr>
        <p:spPr>
          <a:xfrm>
            <a:off x="5130720" y="638280"/>
            <a:ext cx="50976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69"/>
          <p:cNvGrpSpPr/>
          <p:nvPr/>
        </p:nvGrpSpPr>
        <p:grpSpPr>
          <a:xfrm>
            <a:off x="8604360" y="115920"/>
            <a:ext cx="394920" cy="404280"/>
            <a:chOff x="8604360" y="115920"/>
            <a:chExt cx="394920" cy="404280"/>
          </a:xfrm>
        </p:grpSpPr>
        <p:sp>
          <p:nvSpPr>
            <p:cNvPr id="133" name="Rectangle 70">
              <a:hlinkClick r:id="" action="ppaction://hlinkshowjump?jump=endshow"/>
            </p:cNvPr>
            <p:cNvSpPr/>
            <p:nvPr/>
          </p:nvSpPr>
          <p:spPr>
            <a:xfrm>
              <a:off x="8604360" y="115920"/>
              <a:ext cx="394920" cy="404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WordArt 71"/>
            <p:cNvSpPr txBox="1"/>
            <p:nvPr/>
          </p:nvSpPr>
          <p:spPr>
            <a:xfrm>
              <a:off x="8682840" y="196200"/>
              <a:ext cx="238320" cy="244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comb dir="horz"/>
    <p:sndAc>
      <p:stSnd>
        <p:snd r:embed="rId8" name="cashreg.wav"/>
      </p:stSnd>
    </p:sndAc>
  </p:transition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3340000">
                                      <p:cBhvr>
                                        <p:cTn id="210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54800000">
                                      <p:cBhvr>
                                        <p:cTn id="214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59420000">
                                      <p:cBhvr>
                                        <p:cTn id="218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0500000">
                                      <p:cBhvr>
                                        <p:cTn id="222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8680000">
                                      <p:cBhvr>
                                        <p:cTn id="226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8680000">
                                      <p:cBhvr>
                                        <p:cTn id="230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8680000">
                                      <p:cBhvr>
                                        <p:cTn id="234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90040000">
                                      <p:cBhvr>
                                        <p:cTn id="238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3940000">
                                      <p:cBhvr>
                                        <p:cTn id="242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6660000">
                                      <p:cBhvr>
                                        <p:cTn id="246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20260000">
                                      <p:cBhvr>
                                        <p:cTn id="250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"/>
          <p:cNvPicPr/>
          <p:nvPr/>
        </p:nvPicPr>
        <p:blipFill>
          <a:blip r:embed="rId1"/>
          <a:stretch/>
        </p:blipFill>
        <p:spPr>
          <a:xfrm>
            <a:off x="1238400" y="928800"/>
            <a:ext cx="6667200" cy="500040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6" descr="бараба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4932360" cy="49323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7"/>
          <p:cNvSpPr/>
          <p:nvPr/>
        </p:nvSpPr>
        <p:spPr>
          <a:xfrm rot="18351600">
            <a:off x="4375080" y="5670360"/>
            <a:ext cx="79200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5219640" y="1700280"/>
            <a:ext cx="3745080" cy="2359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ПРОС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евнее орудие для разрушения крепостных ст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4"/>
          <p:cNvGrpSpPr/>
          <p:nvPr/>
        </p:nvGrpSpPr>
        <p:grpSpPr>
          <a:xfrm>
            <a:off x="5364000" y="5661000"/>
            <a:ext cx="2771640" cy="836640"/>
            <a:chOff x="5364000" y="5661000"/>
            <a:chExt cx="2771640" cy="836640"/>
          </a:xfrm>
        </p:grpSpPr>
        <p:sp>
          <p:nvSpPr>
            <p:cNvPr id="140" name="AutoShape 25">
              <a:hlinkClick r:id="" action="ppaction://hlinkshowjump?jump=nextslide"/>
            </p:cNvPr>
            <p:cNvSpPr/>
            <p:nvPr/>
          </p:nvSpPr>
          <p:spPr>
            <a:xfrm>
              <a:off x="5364000" y="5661000"/>
              <a:ext cx="2771640" cy="836640"/>
            </a:xfrm>
            <a:custGeom>
              <a:avLst/>
              <a:gdLst>
                <a:gd name="textAreaLeft" fmla="*/ 54000 w 2771640"/>
                <a:gd name="textAreaRight" fmla="*/ 2717640 w 2771640"/>
                <a:gd name="textAreaTop" fmla="*/ 54000 h 836640"/>
                <a:gd name="textAreaBottom" fmla="*/ 782640 h 836640"/>
              </a:gdLst>
              <a:ahLst/>
              <a:rect l="textAreaLeft" t="textAreaTop" r="textAreaRight" b="textAreaBottom"/>
              <a:pathLst>
                <a:path w="71535" h="21600">
                  <a:moveTo>
                    <a:pt x="0" y="0"/>
                  </a:moveTo>
                  <a:lnTo>
                    <a:pt x="71535" y="0"/>
                  </a:lnTo>
                  <a:lnTo>
                    <a:pt x="71535" y="21600"/>
                  </a:lnTo>
                  <a:lnTo>
                    <a:pt x="0" y="21600"/>
                  </a:lnTo>
                  <a:close/>
                </a:path>
                <a:path fill="lightenLess" w="71535" h="21600">
                  <a:moveTo>
                    <a:pt x="0" y="0"/>
                  </a:moveTo>
                  <a:lnTo>
                    <a:pt x="71535" y="0"/>
                  </a:lnTo>
                  <a:lnTo>
                    <a:pt x="70136" y="1400"/>
                  </a:lnTo>
                  <a:lnTo>
                    <a:pt x="1400" y="1400"/>
                  </a:lnTo>
                  <a:close/>
                </a:path>
                <a:path fill="darken" w="71535" h="21600">
                  <a:moveTo>
                    <a:pt x="71535" y="0"/>
                  </a:moveTo>
                  <a:lnTo>
                    <a:pt x="71535" y="21600"/>
                  </a:lnTo>
                  <a:lnTo>
                    <a:pt x="70136" y="20200"/>
                  </a:lnTo>
                  <a:lnTo>
                    <a:pt x="70136" y="1400"/>
                  </a:lnTo>
                  <a:close/>
                </a:path>
                <a:path fill="darkenLess" w="71535" h="21600">
                  <a:moveTo>
                    <a:pt x="7153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0136" y="20200"/>
                  </a:lnTo>
                  <a:close/>
                </a:path>
                <a:path fill="lighten" w="7153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ec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6">
              <a:hlinkClick r:id="rId4" action="ppaction://hlinksldjump"/>
            </p:cNvPr>
            <p:cNvSpPr/>
            <p:nvPr/>
          </p:nvSpPr>
          <p:spPr>
            <a:xfrm>
              <a:off x="5435280" y="5732640"/>
              <a:ext cx="27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СУПЕР ИГ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AutoShape 27">
            <a:hlinkClick r:id="rId5" action="ppaction://hlinksldjump"/>
          </p:cNvPr>
          <p:cNvSpPr/>
          <p:nvPr/>
        </p:nvSpPr>
        <p:spPr>
          <a:xfrm>
            <a:off x="8101080" y="5661000"/>
            <a:ext cx="1042920" cy="827280"/>
          </a:xfrm>
          <a:custGeom>
            <a:avLst/>
            <a:gdLst>
              <a:gd name="textAreaLeft" fmla="*/ 53640 w 1042920"/>
              <a:gd name="textAreaRight" fmla="*/ 989280 w 104292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27228" h="21600">
                <a:moveTo>
                  <a:pt x="0" y="0"/>
                </a:moveTo>
                <a:lnTo>
                  <a:pt x="27228" y="0"/>
                </a:lnTo>
                <a:lnTo>
                  <a:pt x="27228" y="21600"/>
                </a:lnTo>
                <a:lnTo>
                  <a:pt x="0" y="21600"/>
                </a:lnTo>
                <a:close/>
              </a:path>
              <a:path fill="lightenLess" w="27228" h="21600">
                <a:moveTo>
                  <a:pt x="0" y="0"/>
                </a:moveTo>
                <a:lnTo>
                  <a:pt x="27228" y="0"/>
                </a:lnTo>
                <a:lnTo>
                  <a:pt x="25828" y="1400"/>
                </a:lnTo>
                <a:lnTo>
                  <a:pt x="1400" y="1400"/>
                </a:lnTo>
                <a:close/>
              </a:path>
              <a:path fill="darken" w="27228" h="21600">
                <a:moveTo>
                  <a:pt x="27228" y="0"/>
                </a:moveTo>
                <a:lnTo>
                  <a:pt x="27228" y="21600"/>
                </a:lnTo>
                <a:lnTo>
                  <a:pt x="25828" y="20200"/>
                </a:lnTo>
                <a:lnTo>
                  <a:pt x="25828" y="1400"/>
                </a:lnTo>
                <a:close/>
              </a:path>
              <a:path fill="darkenLess" w="27228" h="21600">
                <a:moveTo>
                  <a:pt x="27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28" y="20200"/>
                </a:lnTo>
                <a:close/>
              </a:path>
              <a:path fill="lighten" w="27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28" h="21600">
                <a:moveTo>
                  <a:pt x="6607" y="7493"/>
                </a:moveTo>
                <a:lnTo>
                  <a:pt x="10115" y="7493"/>
                </a:lnTo>
                <a:lnTo>
                  <a:pt x="10115" y="12828"/>
                </a:lnTo>
                <a:cubicBezTo>
                  <a:pt x="10115" y="13751"/>
                  <a:pt x="10916" y="14482"/>
                  <a:pt x="11952" y="14482"/>
                </a:cubicBezTo>
                <a:lnTo>
                  <a:pt x="13614" y="14482"/>
                </a:lnTo>
                <a:cubicBezTo>
                  <a:pt x="14650" y="14482"/>
                  <a:pt x="15450" y="13751"/>
                  <a:pt x="15450" y="12828"/>
                </a:cubicBezTo>
                <a:lnTo>
                  <a:pt x="15450" y="7493"/>
                </a:lnTo>
                <a:lnTo>
                  <a:pt x="13614" y="7493"/>
                </a:lnTo>
                <a:lnTo>
                  <a:pt x="17122" y="3985"/>
                </a:lnTo>
                <a:lnTo>
                  <a:pt x="20794" y="7493"/>
                </a:lnTo>
                <a:lnTo>
                  <a:pt x="18958" y="7493"/>
                </a:lnTo>
                <a:lnTo>
                  <a:pt x="18958" y="12828"/>
                </a:lnTo>
                <a:cubicBezTo>
                  <a:pt x="18958" y="15596"/>
                  <a:pt x="16382" y="18155"/>
                  <a:pt x="13614" y="18155"/>
                </a:cubicBezTo>
                <a:lnTo>
                  <a:pt x="11952" y="18155"/>
                </a:lnTo>
                <a:cubicBezTo>
                  <a:pt x="9184" y="18155"/>
                  <a:pt x="6607" y="15596"/>
                  <a:pt x="6607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28"/>
          <p:cNvSpPr txBox="1"/>
          <p:nvPr/>
        </p:nvSpPr>
        <p:spPr>
          <a:xfrm>
            <a:off x="250920" y="260280"/>
            <a:ext cx="3240000" cy="11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Финал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0" y="476280"/>
          <a:ext cx="3760920" cy="1006560"/>
        </p:xfrm>
        <a:graphic>
          <a:graphicData uri="http://schemas.openxmlformats.org/drawingml/2006/table">
            <a:tbl>
              <a:tblPr/>
              <a:tblGrid>
                <a:gridCol w="750960"/>
                <a:gridCol w="752400"/>
                <a:gridCol w="750960"/>
                <a:gridCol w="753840"/>
                <a:gridCol w="75276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Rectangle 47"/>
          <p:cNvSpPr/>
          <p:nvPr/>
        </p:nvSpPr>
        <p:spPr>
          <a:xfrm>
            <a:off x="6111720" y="558720"/>
            <a:ext cx="63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8"/>
          <p:cNvSpPr/>
          <p:nvPr/>
        </p:nvSpPr>
        <p:spPr>
          <a:xfrm>
            <a:off x="7701120" y="598320"/>
            <a:ext cx="54612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1"/>
          <p:cNvSpPr/>
          <p:nvPr/>
        </p:nvSpPr>
        <p:spPr>
          <a:xfrm>
            <a:off x="6921360" y="546120"/>
            <a:ext cx="61452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2"/>
          <p:cNvSpPr/>
          <p:nvPr/>
        </p:nvSpPr>
        <p:spPr>
          <a:xfrm>
            <a:off x="4721400" y="546120"/>
            <a:ext cx="5000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3"/>
          <p:cNvSpPr/>
          <p:nvPr/>
        </p:nvSpPr>
        <p:spPr>
          <a:xfrm>
            <a:off x="5364000" y="550800"/>
            <a:ext cx="6480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6"/>
          <p:cNvGrpSpPr/>
          <p:nvPr/>
        </p:nvGrpSpPr>
        <p:grpSpPr>
          <a:xfrm>
            <a:off x="8604360" y="115920"/>
            <a:ext cx="394920" cy="404280"/>
            <a:chOff x="8604360" y="115920"/>
            <a:chExt cx="394920" cy="404280"/>
          </a:xfrm>
        </p:grpSpPr>
        <p:sp>
          <p:nvSpPr>
            <p:cNvPr id="151" name="Rectangle 57">
              <a:hlinkClick r:id="" action="ppaction://hlinkshowjump?jump=endshow"/>
            </p:cNvPr>
            <p:cNvSpPr/>
            <p:nvPr/>
          </p:nvSpPr>
          <p:spPr>
            <a:xfrm>
              <a:off x="8604360" y="115920"/>
              <a:ext cx="394920" cy="404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WordArt 58"/>
            <p:cNvSpPr txBox="1"/>
            <p:nvPr/>
          </p:nvSpPr>
          <p:spPr>
            <a:xfrm>
              <a:off x="8682840" y="196200"/>
              <a:ext cx="238320" cy="244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comb dir="horz"/>
    <p:sndAc>
      <p:stSnd>
        <p:snd r:embed="rId8" name="cashreg.wav"/>
      </p:stSnd>
    </p:sndAc>
  </p:transition>
  <p:timing>
    <p:tnLst>
      <p:par>
        <p:cTn id="315" dur="indefinite" restart="never" nodeType="tmRoot">
          <p:childTnLst>
            <p:seq>
              <p:cTn id="31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8680000">
                                      <p:cBhvr>
                                        <p:cTn id="320" dur="10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20260000">
                                      <p:cBhvr>
                                        <p:cTn id="324" dur="10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54800000">
                                      <p:cBhvr>
                                        <p:cTn id="328" dur="10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3340000">
                                      <p:cBhvr>
                                        <p:cTn id="332" dur="10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8680000">
                                      <p:cBhvr>
                                        <p:cTn id="336" dur="10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8680000">
                                      <p:cBhvr>
                                        <p:cTn id="340" dur="10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90040000">
                                      <p:cBhvr>
                                        <p:cTn id="344" dur="10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3940000">
                                      <p:cBhvr>
                                        <p:cTn id="348" dur="10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6660000">
                                      <p:cBhvr>
                                        <p:cTn id="352" dur="10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0500000">
                                      <p:cBhvr>
                                        <p:cTn id="356" dur="10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59420000">
                                      <p:cBhvr>
                                        <p:cTn id="360" dur="10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62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70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94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6:52:10Z</dcterms:created>
  <dc:creator>Admin</dc:creator>
  <dc:description/>
  <dc:language>en-US</dc:language>
  <cp:lastModifiedBy>СВОИ</cp:lastModifiedBy>
  <dcterms:modified xsi:type="dcterms:W3CDTF">2014-04-17T20:41:46Z</dcterms:modified>
  <cp:revision>44</cp:revision>
  <dc:subject/>
  <dc:title>Слайд 1</dc:title>
</cp:coreProperties>
</file>