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C4EB-8747-47DA-8E07-4C618026D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37E-0DF8-4958-9898-0303CA7858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614E-398A-4449-AD47-3B6270990B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2FA-EEC7-4D9A-923E-C4F9830513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A6A3-81BA-4AD8-BD65-BF6F1CBE60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CD4F-06A4-4B73-8F03-314331339F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038-2254-40D7-AE61-5EB3D6E236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FC5-8584-457D-9E0C-1443373332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8F8-A014-43AF-B441-B09CDAC008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1EBC-17DB-4D54-9FAA-7E92E516EB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3B8-366C-461E-A6B4-631B11C43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9B86-6E90-42E6-AC6E-017F0907D4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719-253F-4A83-A571-10989F74E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A9C-7A6B-4723-8183-F93198228B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A53-3834-416F-8C4B-668A5B900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015-2EB6-456A-9610-FA9CC50F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E6E-A977-49AC-B4B1-E32C139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853-3824-4406-8742-1E46D379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5F8-367D-41E9-A19E-9450C0E1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638-4B08-424C-A44D-552579B6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137-5BE2-4502-A4BE-16AEE054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DB4-BB2E-49D6-A10A-C6E8DA9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FA4-CF35-4BDE-A9E2-9B4D8CC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187-9DFE-4516-8D6A-7B0D413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49E-4C13-4C21-BE8C-0160361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F27-4450-4B18-B8A2-40959C8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F47-4AF2-42B1-AD07-102CCDEA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273-5B79-4366-B2EE-E3C958B9D5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547640" y="1125360"/>
            <a:ext cx="640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.С.Турген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386080" y="4797360"/>
            <a:ext cx="65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Витт Викт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. Тула Школа № 63 5 Г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маны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«Отцы и дети», «Дворянское гнездо», «Рудин»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86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i?id=227332259-04"/>
          <p:cNvPicPr/>
          <p:nvPr/>
        </p:nvPicPr>
        <p:blipFill>
          <a:blip r:embed="rId1"/>
          <a:stretch/>
        </p:blipFill>
        <p:spPr>
          <a:xfrm>
            <a:off x="395280" y="1989000"/>
            <a:ext cx="2549520" cy="415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i?id=226040864-04"/>
          <p:cNvPicPr/>
          <p:nvPr/>
        </p:nvPicPr>
        <p:blipFill>
          <a:blip r:embed="rId2"/>
          <a:stretch/>
        </p:blipFill>
        <p:spPr>
          <a:xfrm>
            <a:off x="2928960" y="2000160"/>
            <a:ext cx="258912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128916523-02"/>
          <p:cNvPicPr/>
          <p:nvPr/>
        </p:nvPicPr>
        <p:blipFill>
          <a:blip r:embed="rId3"/>
          <a:stretch/>
        </p:blipFill>
        <p:spPr>
          <a:xfrm>
            <a:off x="5500800" y="2000160"/>
            <a:ext cx="2589120" cy="4032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ллюстрации к рассказа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уму»                      «Бежин лу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i?id=134110592-00"/>
          <p:cNvPicPr/>
          <p:nvPr/>
        </p:nvPicPr>
        <p:blipFill>
          <a:blip r:embed="rId1"/>
          <a:stretch/>
        </p:blipFill>
        <p:spPr>
          <a:xfrm>
            <a:off x="468360" y="2781360"/>
            <a:ext cx="2903400" cy="38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?id=14463397-03"/>
          <p:cNvPicPr/>
          <p:nvPr/>
        </p:nvPicPr>
        <p:blipFill>
          <a:blip r:embed="rId2"/>
          <a:stretch/>
        </p:blipFill>
        <p:spPr>
          <a:xfrm>
            <a:off x="5148360" y="3013200"/>
            <a:ext cx="3254400" cy="384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611280" y="3871080"/>
            <a:ext cx="793440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8000" rIns="90000" tIns="187200" bIns="81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Спасское-Лутовиново: дух русской класс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0"/>
                </a:solidFill>
                <a:latin typeface="Verdana"/>
              </a:rPr>
              <a:t>Это единственный в России мемориальный музей великого русского писател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0"/>
                </a:solidFill>
                <a:latin typeface="Verdana"/>
              </a:rPr>
              <a:t>история которого насчитывает почти сто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0"/>
                </a:solidFill>
                <a:latin typeface="Verdana"/>
              </a:rPr>
              <a:t>Спасское-Лутовиново – это целый мир, пропитанный традициями и преданиями старин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0"/>
                </a:solidFill>
                <a:latin typeface="Verdana"/>
              </a:rPr>
              <a:t>хранящий семейные реликвии и быт русской дворян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Спасское-Лутовиново: дух русской классики"/>
          <p:cNvPicPr/>
          <p:nvPr/>
        </p:nvPicPr>
        <p:blipFill>
          <a:blip r:embed="rId1"/>
          <a:stretch/>
        </p:blipFill>
        <p:spPr>
          <a:xfrm>
            <a:off x="2124000" y="614520"/>
            <a:ext cx="5040360" cy="3313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50920" y="3643200"/>
            <a:ext cx="8893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Государственный музей И.С. Тургенева в Ор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ей был основан в ноябре 1918 года в честь 100-летия со дня рождения писате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Государственный музей И.С. Тургенева в Орле"/>
          <p:cNvPicPr/>
          <p:nvPr/>
        </p:nvPicPr>
        <p:blipFill>
          <a:blip r:embed="rId1"/>
          <a:stretch/>
        </p:blipFill>
        <p:spPr>
          <a:xfrm>
            <a:off x="324000" y="272880"/>
            <a:ext cx="8351640" cy="48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гила И.С.Тургене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11512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i?id=61278797-03"/>
          <p:cNvPicPr/>
          <p:nvPr/>
        </p:nvPicPr>
        <p:blipFill>
          <a:blip r:embed="rId1"/>
          <a:stretch/>
        </p:blipFill>
        <p:spPr>
          <a:xfrm>
            <a:off x="681120" y="1916280"/>
            <a:ext cx="3012840" cy="403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?id=5044630-05"/>
          <p:cNvPicPr/>
          <p:nvPr/>
        </p:nvPicPr>
        <p:blipFill>
          <a:blip r:embed="rId2"/>
          <a:stretch/>
        </p:blipFill>
        <p:spPr>
          <a:xfrm>
            <a:off x="5533920" y="1628640"/>
            <a:ext cx="2881440" cy="4448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Иван Сергеевич Турген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ликий русский пис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i?id=207876856-06"/>
          <p:cNvPicPr/>
          <p:nvPr/>
        </p:nvPicPr>
        <p:blipFill>
          <a:blip r:embed="rId1"/>
          <a:stretch/>
        </p:blipFill>
        <p:spPr>
          <a:xfrm>
            <a:off x="395280" y="3429000"/>
            <a:ext cx="3949560" cy="2700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?id=149927652-04"/>
          <p:cNvPicPr/>
          <p:nvPr/>
        </p:nvPicPr>
        <p:blipFill>
          <a:blip r:embed="rId1"/>
          <a:stretch/>
        </p:blipFill>
        <p:spPr>
          <a:xfrm>
            <a:off x="25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4862520" y="1773360"/>
            <a:ext cx="410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ван Сергеевич Турген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ился 28 октябр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371560" y="32090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рл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5076720" y="41356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дворянской семь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40464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тец, Сергей Николаевич, отставной гусарский офице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происходил из старинного дворянского р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292720" y="47592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мать, Варвара Петровна,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из богатой помещичьей семьи Лутовинов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27" descr="papa"/>
          <p:cNvPicPr/>
          <p:nvPr/>
        </p:nvPicPr>
        <p:blipFill>
          <a:blip r:embed="rId1"/>
          <a:stretch/>
        </p:blipFill>
        <p:spPr>
          <a:xfrm>
            <a:off x="395280" y="1773360"/>
            <a:ext cx="4048200" cy="508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mama"/>
          <p:cNvPicPr/>
          <p:nvPr/>
        </p:nvPicPr>
        <p:blipFill>
          <a:blip r:embed="rId2"/>
          <a:stretch/>
        </p:blipFill>
        <p:spPr>
          <a:xfrm>
            <a:off x="4802040" y="1773360"/>
            <a:ext cx="4173840" cy="5084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340200"/>
            <a:ext cx="435456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b6cd"/>
                </a:solidFill>
                <a:latin typeface="Arial"/>
              </a:rPr>
              <a:t>  </a:t>
            </a:r>
            <a:r>
              <a:rPr b="0" lang="ru-RU" sz="15000" spc="-1" strike="noStrike">
                <a:solidFill>
                  <a:srgbClr val="a2b6cd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a2b6cd"/>
                </a:solidFill>
                <a:latin typeface="Arial"/>
              </a:rPr>
              <a:t>     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щите имеющем голубое поле изображены три золотые шестиугольные звезды и серебряный единорог, имеющий золотые рог и копыта. Щит увенчан дворянскими шлемом и короной с тремя страусовыми перьями. Намет на щите голубой, подложен серебр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 внесен в Общий гербовник дворянских родов Российской империи,</a:t>
            </a:r>
            <a:r>
              <a:rPr b="0" lang="ru-RU" sz="1800" spc="-1" strike="noStrike">
                <a:solidFill>
                  <a:srgbClr val="a2b6cd"/>
                </a:solidFill>
                <a:latin typeface="Arial"/>
              </a:rPr>
              <a:t>          </a:t>
            </a:r>
            <a:br>
              <a:rPr sz="1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Герб рода Тургеневых</a:t>
            </a:r>
            <a:r>
              <a:rPr b="0" lang="ru-RU" sz="1100" spc="-1" strike="noStrike">
                <a:solidFill>
                  <a:srgbClr val="a2b6cd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Turgenev_v4_p53"/>
          <p:cNvPicPr/>
          <p:nvPr/>
        </p:nvPicPr>
        <p:blipFill>
          <a:blip r:embed="rId1"/>
          <a:stretch/>
        </p:blipFill>
        <p:spPr>
          <a:xfrm>
            <a:off x="4554360" y="333360"/>
            <a:ext cx="4403880" cy="6191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ств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ургене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шло в родовом имении Спасском-Лутовинов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Спасское-Лутовиново: дух русской классики"/>
          <p:cNvPicPr/>
          <p:nvPr/>
        </p:nvPicPr>
        <p:blipFill>
          <a:blip r:embed="rId1"/>
          <a:stretch/>
        </p:blipFill>
        <p:spPr>
          <a:xfrm>
            <a:off x="755640" y="1628640"/>
            <a:ext cx="7489800" cy="4924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еба И.С.Тургене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переездом семьи в Москву в 1827 будущий писатель был отдан в пансион, провел там около двух с половиной лет. Дальнейшее образование продолжал под руководством частных учителей. С детства он знал французский, немецкий, английский язык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63680" y="3924360"/>
            <a:ext cx="86803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енью 1833, не достигнув пятнадцатилетнего возрас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упил в Московский университе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в следующем году перевелся в Петербургский университе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ый окончил в 1936 по словесному отделению философского факультета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181800"/>
            <a:ext cx="887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ворческий путь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Ивана Сергеевича Тургенева, автора романов, повестей и др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ьзующихся мировой славой, начался с поэтических произвед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которые в основном были написаны в 1837-1848 год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закончился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"Стихотворениями в прозе"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((1877-1882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i?id=17530341-04"/>
          <p:cNvPicPr/>
          <p:nvPr/>
        </p:nvPicPr>
        <p:blipFill>
          <a:blip r:embed="rId1"/>
          <a:stretch/>
        </p:blipFill>
        <p:spPr>
          <a:xfrm>
            <a:off x="755640" y="3716280"/>
            <a:ext cx="1876320" cy="29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Иван Тургенев - А/к. Свидание. Стихи в прозе обложка книги"/>
          <p:cNvPicPr/>
          <p:nvPr/>
        </p:nvPicPr>
        <p:blipFill>
          <a:blip r:embed="rId2"/>
          <a:stretch/>
        </p:blipFill>
        <p:spPr>
          <a:xfrm>
            <a:off x="6300720" y="342900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i?id=175875835-03"/>
          <p:cNvPicPr/>
          <p:nvPr/>
        </p:nvPicPr>
        <p:blipFill>
          <a:blip r:embed="rId3"/>
          <a:stretch/>
        </p:blipFill>
        <p:spPr>
          <a:xfrm rot="20469000">
            <a:off x="2987280" y="4005000"/>
            <a:ext cx="2984400" cy="2030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сказ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8296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1" descr="i?id=110889985-02"/>
          <p:cNvPicPr/>
          <p:nvPr/>
        </p:nvPicPr>
        <p:blipFill>
          <a:blip r:embed="rId1"/>
          <a:stretch/>
        </p:blipFill>
        <p:spPr>
          <a:xfrm>
            <a:off x="3071880" y="1928880"/>
            <a:ext cx="2649600" cy="378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i?id=227282748-04"/>
          <p:cNvPicPr/>
          <p:nvPr/>
        </p:nvPicPr>
        <p:blipFill>
          <a:blip r:embed="rId2"/>
          <a:stretch/>
        </p:blipFill>
        <p:spPr>
          <a:xfrm>
            <a:off x="244440" y="2000160"/>
            <a:ext cx="2803680" cy="3786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i?id=46243414-01"/>
          <p:cNvPicPr/>
          <p:nvPr/>
        </p:nvPicPr>
        <p:blipFill>
          <a:blip r:embed="rId3"/>
          <a:stretch/>
        </p:blipFill>
        <p:spPr>
          <a:xfrm>
            <a:off x="5715000" y="2344680"/>
            <a:ext cx="2214720" cy="329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i?id=116593343-03"/>
          <p:cNvPicPr/>
          <p:nvPr/>
        </p:nvPicPr>
        <p:blipFill>
          <a:blip r:embed="rId4"/>
          <a:stretch/>
        </p:blipFill>
        <p:spPr>
          <a:xfrm rot="796800">
            <a:off x="6732720" y="260280"/>
            <a:ext cx="1920600" cy="292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4:12:27Z</dcterms:created>
  <dc:creator>Света</dc:creator>
  <dc:description/>
  <dc:language>en-US</dc:language>
  <cp:lastModifiedBy>викторович</cp:lastModifiedBy>
  <dcterms:modified xsi:type="dcterms:W3CDTF">2014-12-03T18:47:49Z</dcterms:modified>
  <cp:revision>6</cp:revision>
  <dc:subject/>
  <dc:title>Иван Сергеевич Тургенев</dc:title>
</cp:coreProperties>
</file>