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38C-6E63-493B-A811-FDC3B5A3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5BC-38F0-49BD-8AD5-229E38F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57B-0446-4CF8-A7A7-AB605C34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D61-2E7E-43C9-ADD3-5619D226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7E3-D528-4CAF-A8F7-3EA836B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A63-7B89-4A6A-B3A5-7635B084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57D-8AC7-495F-8B0B-400F3A9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A47-2C95-42BC-B3D0-5C54F39D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0AB-DE22-475B-A0ED-F2D7855E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E7E-C453-488C-BAB4-8610419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DDB-036D-47EC-9033-7470C99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786-3E7E-4595-8CAD-8431B41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834-8567-459D-8AD2-1B500BD82FC9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437600" cy="3608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307040" y="4357800"/>
            <a:ext cx="375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алгебры 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ГКО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Ш 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2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харченко Е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1052640"/>
            <a:ext cx="48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ем больш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ловой коэффициент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м больш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ол, образованный графиком функции с осью 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0" descr="bodypart52.jpg"/>
          <p:cNvPicPr/>
          <p:nvPr/>
        </p:nvPicPr>
        <p:blipFill>
          <a:blip r:embed="rId2"/>
          <a:stretch/>
        </p:blipFill>
        <p:spPr>
          <a:xfrm>
            <a:off x="1714680" y="5000760"/>
            <a:ext cx="954000" cy="14443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bodypart52.jpg"/>
          <p:cNvPicPr/>
          <p:nvPr/>
        </p:nvPicPr>
        <p:blipFill>
          <a:blip r:embed="rId3"/>
          <a:stretch/>
        </p:blipFill>
        <p:spPr>
          <a:xfrm>
            <a:off x="7451640" y="1341360"/>
            <a:ext cx="939960" cy="1444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5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7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Прямая соединительная линия 9"/>
          <p:cNvSpPr/>
          <p:nvPr/>
        </p:nvSpPr>
        <p:spPr>
          <a:xfrm flipV="1">
            <a:off x="2428920" y="1356840"/>
            <a:ext cx="5286240" cy="371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8199000" y="3214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ирог 14"/>
          <p:cNvSpPr/>
          <p:nvPr/>
        </p:nvSpPr>
        <p:spPr>
          <a:xfrm rot="19053600">
            <a:off x="3774960" y="1851120"/>
            <a:ext cx="2880000" cy="2565360"/>
          </a:xfrm>
          <a:custGeom>
            <a:avLst/>
            <a:gdLst>
              <a:gd name="textAreaLeft" fmla="*/ 421560 w 2880000"/>
              <a:gd name="textAreaRight" fmla="*/ 2458440 w 288000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2863469" y="1474901"/>
                </a:moveTo>
                <a:lnTo>
                  <a:pt x="2863469" y="1474901"/>
                </a:lnTo>
                <a:arcTo wR="1439863" hR="1282700" stAng="461340" swAng="210341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4286160" y="3571920"/>
            <a:ext cx="48578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авая рука  выше левой, то угловой коэффициент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олож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 знак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лю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2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Прямая соединительная линия 4"/>
          <p:cNvSpPr/>
          <p:nvPr/>
        </p:nvSpPr>
        <p:spPr>
          <a:xfrm flipH="1" flipV="1">
            <a:off x="1500120" y="2000160"/>
            <a:ext cx="4929120" cy="264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ирог 10"/>
          <p:cNvSpPr/>
          <p:nvPr/>
        </p:nvSpPr>
        <p:spPr>
          <a:xfrm rot="19053600">
            <a:off x="2131560" y="1850760"/>
            <a:ext cx="2879640" cy="2565360"/>
          </a:xfrm>
          <a:custGeom>
            <a:avLst/>
            <a:gdLst>
              <a:gd name="textAreaLeft" fmla="*/ 421560 w 2879640"/>
              <a:gd name="textAreaRight" fmla="*/ 2458080 w 287964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996663" y="62277"/>
                </a:moveTo>
                <a:lnTo>
                  <a:pt x="996663" y="62277"/>
                </a:lnTo>
                <a:arcTo wR="1439863" hR="1282700" stAng="-6597514" swAng="916227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1" descr="bodypart52.jpg"/>
          <p:cNvPicPr/>
          <p:nvPr/>
        </p:nvPicPr>
        <p:blipFill>
          <a:blip r:embed="rId2"/>
          <a:stretch/>
        </p:blipFill>
        <p:spPr>
          <a:xfrm>
            <a:off x="6215040" y="471492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bodypart52.jpg"/>
          <p:cNvPicPr/>
          <p:nvPr/>
        </p:nvPicPr>
        <p:blipFill>
          <a:blip r:embed="rId3"/>
          <a:stretch/>
        </p:blipFill>
        <p:spPr>
          <a:xfrm>
            <a:off x="684360" y="1989000"/>
            <a:ext cx="928440" cy="1444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3"/>
          <p:cNvSpPr/>
          <p:nvPr/>
        </p:nvSpPr>
        <p:spPr>
          <a:xfrm>
            <a:off x="0" y="4643280"/>
            <a:ext cx="592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евая рука  выше правой, то угловой коэффициент отрицательный  (знак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ину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928800" y="357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ик параллелен оси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2"/>
          <p:cNvCxnSpPr/>
          <p:nvPr/>
        </p:nvCxnSpPr>
        <p:spPr>
          <a:xfrm flipV="1">
            <a:off x="4142160" y="1285560"/>
            <a:ext cx="2520" cy="2929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Прямая соединительная линия 4"/>
          <p:cNvSpPr/>
          <p:nvPr/>
        </p:nvSpPr>
        <p:spPr>
          <a:xfrm flipH="1" flipV="1">
            <a:off x="428400" y="2071800"/>
            <a:ext cx="80722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7" descr="bodypart52.jpg"/>
          <p:cNvPicPr/>
          <p:nvPr/>
        </p:nvPicPr>
        <p:blipFill>
          <a:blip r:embed="rId2"/>
          <a:stretch/>
        </p:blipFill>
        <p:spPr>
          <a:xfrm>
            <a:off x="8204040" y="214308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bodypart52.jpg"/>
          <p:cNvPicPr/>
          <p:nvPr/>
        </p:nvPicPr>
        <p:blipFill>
          <a:blip r:embed="rId3"/>
          <a:stretch/>
        </p:blipFill>
        <p:spPr>
          <a:xfrm>
            <a:off x="0" y="2214720"/>
            <a:ext cx="928800" cy="14443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9"/>
          <p:cNvSpPr/>
          <p:nvPr/>
        </p:nvSpPr>
        <p:spPr>
          <a:xfrm>
            <a:off x="3053520" y="4429080"/>
            <a:ext cx="23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7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070000" y="642960"/>
            <a:ext cx="7074000" cy="6215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0" y="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х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ик 4"/>
          <p:cNvSpPr/>
          <p:nvPr/>
        </p:nvSpPr>
        <p:spPr>
          <a:xfrm>
            <a:off x="0" y="21430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3000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Прямоугольник 7"/>
          <p:cNvSpPr/>
          <p:nvPr/>
        </p:nvSpPr>
        <p:spPr>
          <a:xfrm>
            <a:off x="0" y="45007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у = -х -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927360" y="7142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92556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1641240" y="642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185652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"/>
          <p:cNvSpPr/>
          <p:nvPr/>
        </p:nvSpPr>
        <p:spPr>
          <a:xfrm>
            <a:off x="4643280" y="1071720"/>
            <a:ext cx="142920" cy="142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3"/>
          <p:cNvSpPr/>
          <p:nvPr/>
        </p:nvSpPr>
        <p:spPr>
          <a:xfrm>
            <a:off x="5500800" y="1928880"/>
            <a:ext cx="142920" cy="14292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4"/>
          <p:cNvSpPr/>
          <p:nvPr/>
        </p:nvSpPr>
        <p:spPr>
          <a:xfrm>
            <a:off x="4214880" y="235728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5"/>
          <p:cNvSpPr/>
          <p:nvPr/>
        </p:nvSpPr>
        <p:spPr>
          <a:xfrm>
            <a:off x="5500800" y="364320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6"/>
          <p:cNvSpPr/>
          <p:nvPr/>
        </p:nvSpPr>
        <p:spPr>
          <a:xfrm>
            <a:off x="292896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7"/>
          <p:cNvSpPr/>
          <p:nvPr/>
        </p:nvSpPr>
        <p:spPr>
          <a:xfrm>
            <a:off x="55008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9"/>
          <p:cNvSpPr/>
          <p:nvPr/>
        </p:nvSpPr>
        <p:spPr>
          <a:xfrm flipH="1" flipV="1">
            <a:off x="4285800" y="713880"/>
            <a:ext cx="4643640" cy="47149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927000" y="29289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855360" y="3643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1705680" y="2928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1834920" y="357192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5"/>
          <p:cNvSpPr/>
          <p:nvPr/>
        </p:nvSpPr>
        <p:spPr>
          <a:xfrm flipH="1" flipV="1">
            <a:off x="2571840" y="785880"/>
            <a:ext cx="592920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6"/>
          <p:cNvSpPr/>
          <p:nvPr/>
        </p:nvSpPr>
        <p:spPr>
          <a:xfrm>
            <a:off x="927000" y="528624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853200" y="585792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1726920" y="5214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1797480" y="5929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1"/>
          <p:cNvSpPr/>
          <p:nvPr/>
        </p:nvSpPr>
        <p:spPr>
          <a:xfrm flipH="1" flipV="1">
            <a:off x="2214360" y="2428560"/>
            <a:ext cx="4214520" cy="442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87280" y="1628640"/>
            <a:ext cx="726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Если у линейных функций угловой коэффициент одинаковый, то их графики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2314440" y="857160"/>
            <a:ext cx="6829560" cy="60008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137520" y="0"/>
            <a:ext cx="25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3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07172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7" name="Прямоугольник 4"/>
          <p:cNvSpPr/>
          <p:nvPr/>
        </p:nvSpPr>
        <p:spPr>
          <a:xfrm>
            <a:off x="-71640" y="24289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-83160" y="46432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2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321480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8"/>
          <p:cNvSpPr/>
          <p:nvPr/>
        </p:nvSpPr>
        <p:spPr>
          <a:xfrm>
            <a:off x="928080" y="1071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99792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749240" y="107172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177408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2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4"/>
          <p:cNvSpPr/>
          <p:nvPr/>
        </p:nvSpPr>
        <p:spPr>
          <a:xfrm>
            <a:off x="5214960" y="857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5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6"/>
          <p:cNvSpPr/>
          <p:nvPr/>
        </p:nvSpPr>
        <p:spPr>
          <a:xfrm>
            <a:off x="6429240" y="128592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7"/>
          <p:cNvSpPr/>
          <p:nvPr/>
        </p:nvSpPr>
        <p:spPr>
          <a:xfrm>
            <a:off x="6000840" y="12859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8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 flipV="1">
            <a:off x="5336640" y="877680"/>
            <a:ext cx="1878120" cy="5979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928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92664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1774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5"/>
          <p:cNvSpPr/>
          <p:nvPr/>
        </p:nvSpPr>
        <p:spPr>
          <a:xfrm>
            <a:off x="178596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7"/>
          <p:cNvSpPr/>
          <p:nvPr/>
        </p:nvSpPr>
        <p:spPr>
          <a:xfrm flipV="1">
            <a:off x="2357280" y="999720"/>
            <a:ext cx="4500720" cy="442908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107100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99792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0"/>
          <p:cNvSpPr/>
          <p:nvPr/>
        </p:nvSpPr>
        <p:spPr>
          <a:xfrm>
            <a:off x="180972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1"/>
          <p:cNvSpPr/>
          <p:nvPr/>
        </p:nvSpPr>
        <p:spPr>
          <a:xfrm>
            <a:off x="178596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3"/>
          <p:cNvSpPr/>
          <p:nvPr/>
        </p:nvSpPr>
        <p:spPr>
          <a:xfrm flipV="1">
            <a:off x="3357720" y="928800"/>
            <a:ext cx="2928960" cy="5929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137560" y="142884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Прямая со стрелкой 36"/>
          <p:cNvCxnSpPr/>
          <p:nvPr/>
        </p:nvCxnSpPr>
        <p:spPr>
          <a:xfrm flipH="1" flipV="1">
            <a:off x="2571480" y="499320"/>
            <a:ext cx="271512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Прямая со стрелкой 38"/>
          <p:cNvCxnSpPr>
            <a:endCxn id="197" idx="3"/>
          </p:cNvCxnSpPr>
          <p:nvPr/>
        </p:nvCxnSpPr>
        <p:spPr>
          <a:xfrm flipH="1">
            <a:off x="1996200" y="2070720"/>
            <a:ext cx="3218760" cy="71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5" name="Прямая со стрелкой 40"/>
          <p:cNvCxnSpPr/>
          <p:nvPr/>
        </p:nvCxnSpPr>
        <p:spPr>
          <a:xfrm flipH="1">
            <a:off x="2214360" y="2071440"/>
            <a:ext cx="307224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785880" y="428760"/>
            <a:ext cx="778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 линейной функции пересекает ось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в то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(0;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b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0" y="264312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 =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,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x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 ·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1143000"/>
            <a:ext cx="7358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Функция вида </a:t>
            </a:r>
            <a:r>
              <a:rPr b="1" i="1" lang="en-US" sz="4400" spc="-1" strike="noStrike">
                <a:solidFill>
                  <a:srgbClr val="ff0000"/>
                </a:solidFill>
                <a:latin typeface="Constantia"/>
              </a:rPr>
              <a:t>y = kx +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 где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числа, а 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переменные, называется линейной функ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83520" y="3714840"/>
            <a:ext cx="917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езависимая переменная (арг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зависимая переменная (функ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631600" y="1071720"/>
            <a:ext cx="339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х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8440" y="221472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269440" y="2143080"/>
            <a:ext cx="403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185000" y="2143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497240" y="22147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031440" y="20718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0 +3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214800" y="30718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(0 ;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531360" y="442908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198160" y="4357800"/>
            <a:ext cx="40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549080" y="4429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4113720" y="4429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141240" y="428616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4+3 =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3458880" y="5429160"/>
            <a:ext cx="17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(2 ;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357120" y="357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в  значение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аргумента), можно легко вычислить значение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фун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0044 L 0.30538 -0.00602 E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1 0.00671 L 0.27621 0.00671 E">
                                      <p:cBhvr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35712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ом линейной функции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y = kx + b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428840"/>
          <a:ext cx="8072280" cy="11588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400"/>
                <a:gridCol w="1344600"/>
                <a:gridCol w="1346040"/>
                <a:gridCol w="134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Прямоугольник 3"/>
          <p:cNvSpPr/>
          <p:nvPr/>
        </p:nvSpPr>
        <p:spPr>
          <a:xfrm>
            <a:off x="280080" y="3143160"/>
            <a:ext cx="25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 = 3x +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346560" y="2643120"/>
            <a:ext cx="4797360" cy="4214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139480" y="200016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6"/>
          <p:cNvSpPr/>
          <p:nvPr/>
        </p:nvSpPr>
        <p:spPr>
          <a:xfrm>
            <a:off x="507204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542916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564372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600084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628668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3570120" y="20718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95324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 flipH="1">
            <a:off x="6357960" y="192888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763200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8"/>
          <p:cNvSpPr/>
          <p:nvPr/>
        </p:nvSpPr>
        <p:spPr>
          <a:xfrm flipH="1">
            <a:off x="4857480" y="2714760"/>
            <a:ext cx="1428840" cy="414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8.33333E-007 0.19953 E">
                                      <p:cBhvr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0313 0.08033 E">
                                      <p:cBhvr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4.44444E-006 -0.0419 E">
                                      <p:cBhvr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4.72222E-006 -0.16111 E">
                                      <p:cBhvr>
                                        <p:cTn id="17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26 -0.28727 E">
                                      <p:cBhvr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143000" y="50004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Через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две  точки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можно  провести только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одну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прямую  ли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"/>
          <p:cNvSpPr/>
          <p:nvPr/>
        </p:nvSpPr>
        <p:spPr>
          <a:xfrm>
            <a:off x="264312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"/>
          <p:cNvSpPr/>
          <p:nvPr/>
        </p:nvSpPr>
        <p:spPr>
          <a:xfrm>
            <a:off x="5715000" y="30718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 flipV="1">
            <a:off x="357120" y="2214720"/>
            <a:ext cx="8286840" cy="264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71680" y="5429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построения графика линейной функции достаточно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двух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т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1" name="Прямоугольник 4"/>
          <p:cNvSpPr/>
          <p:nvPr/>
        </p:nvSpPr>
        <p:spPr>
          <a:xfrm>
            <a:off x="-123120" y="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2х 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640880" y="92880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005480" y="164304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17658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9"/>
          <p:cNvSpPr/>
          <p:nvPr/>
        </p:nvSpPr>
        <p:spPr>
          <a:xfrm>
            <a:off x="55008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0"/>
          <p:cNvSpPr/>
          <p:nvPr/>
        </p:nvSpPr>
        <p:spPr>
          <a:xfrm>
            <a:off x="4643280" y="121428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H="1" flipV="1">
            <a:off x="4285800" y="428760"/>
            <a:ext cx="3000600" cy="60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3"/>
          <p:cNvSpPr/>
          <p:nvPr/>
        </p:nvSpPr>
        <p:spPr>
          <a:xfrm>
            <a:off x="-84240" y="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2х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63640" y="9288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851760" y="157176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7910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5500800" y="5429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671508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3"/>
          <p:cNvSpPr/>
          <p:nvPr/>
        </p:nvSpPr>
        <p:spPr>
          <a:xfrm flipV="1">
            <a:off x="5142960" y="428760"/>
            <a:ext cx="2928600" cy="5929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7176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-облако 4"/>
          <p:cNvSpPr/>
          <p:nvPr/>
        </p:nvSpPr>
        <p:spPr>
          <a:xfrm>
            <a:off x="684360" y="476280"/>
            <a:ext cx="8100720" cy="5734080"/>
          </a:xfrm>
          <a:prstGeom prst="cloudCallout">
            <a:avLst>
              <a:gd name="adj1" fmla="val -28523"/>
              <a:gd name="adj2" fmla="val 2712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1" i="1" lang="ru-RU" sz="4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аз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угловым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коэффици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28576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500076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6"/>
          <p:cNvSpPr/>
          <p:nvPr/>
        </p:nvSpPr>
        <p:spPr>
          <a:xfrm>
            <a:off x="-78480" y="0"/>
            <a:ext cx="21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0,5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-65520" y="22147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009900"/>
                </a:solidFill>
                <a:latin typeface="Constanti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-59400" y="4357800"/>
            <a:ext cx="15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93600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98820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85364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185364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3"/>
          <p:cNvSpPr/>
          <p:nvPr/>
        </p:nvSpPr>
        <p:spPr>
          <a:xfrm>
            <a:off x="7143840" y="164304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4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6"/>
          <p:cNvSpPr/>
          <p:nvPr/>
        </p:nvSpPr>
        <p:spPr>
          <a:xfrm flipV="1">
            <a:off x="2143080" y="856800"/>
            <a:ext cx="678672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100728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988200" y="35719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74960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1786680" y="35002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2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22"/>
          <p:cNvSpPr/>
          <p:nvPr/>
        </p:nvSpPr>
        <p:spPr>
          <a:xfrm>
            <a:off x="5857920" y="7858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 flipV="1">
            <a:off x="4571280" y="500040"/>
            <a:ext cx="150012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100728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105984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183924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184140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0"/>
          <p:cNvSpPr/>
          <p:nvPr/>
        </p:nvSpPr>
        <p:spPr>
          <a:xfrm>
            <a:off x="6715080" y="1214280"/>
            <a:ext cx="214200" cy="214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3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3"/>
          <p:cNvSpPr/>
          <p:nvPr/>
        </p:nvSpPr>
        <p:spPr>
          <a:xfrm flipV="1">
            <a:off x="2571840" y="356760"/>
            <a:ext cx="5143320" cy="50720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7473960" y="142884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nstantia"/>
              </a:rPr>
              <a:t>k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5"/>
          <p:cNvSpPr/>
          <p:nvPr/>
        </p:nvSpPr>
        <p:spPr>
          <a:xfrm>
            <a:off x="4197240" y="7858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nstantia"/>
              </a:rPr>
              <a:t>k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6"/>
          <p:cNvSpPr/>
          <p:nvPr/>
        </p:nvSpPr>
        <p:spPr>
          <a:xfrm>
            <a:off x="7308000" y="5716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onstantia"/>
              </a:rPr>
              <a:t>k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ирог 37"/>
          <p:cNvSpPr/>
          <p:nvPr/>
        </p:nvSpPr>
        <p:spPr>
          <a:xfrm rot="19046400">
            <a:off x="316080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04504" y="831391"/>
                </a:moveTo>
                <a:lnTo>
                  <a:pt x="1504504" y="831391"/>
                </a:lnTo>
                <a:arcTo wR="769144" hR="642938" stAng="862445" swAng="1688179"/>
                <a:lnTo>
                  <a:pt x="769144" y="64293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ирог 38"/>
          <p:cNvSpPr/>
          <p:nvPr/>
        </p:nvSpPr>
        <p:spPr>
          <a:xfrm rot="19046400">
            <a:off x="38750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36990" y="605611"/>
                </a:moveTo>
                <a:lnTo>
                  <a:pt x="1536990" y="605611"/>
                </a:lnTo>
                <a:arcTo wR="769144" hR="642938" stAng="-166982" swAng="2717612"/>
                <a:lnTo>
                  <a:pt x="769144" y="642938"/>
                </a:lnTo>
                <a:close/>
              </a:path>
            </a:pathLst>
          </a:custGeom>
          <a:solidFill>
            <a:srgbClr val="0070c0">
              <a:alpha val="49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ирог 39"/>
          <p:cNvSpPr/>
          <p:nvPr/>
        </p:nvSpPr>
        <p:spPr>
          <a:xfrm rot="19046400">
            <a:off x="45896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368661" y="240169"/>
                </a:moveTo>
                <a:lnTo>
                  <a:pt x="1368661" y="240169"/>
                </a:lnTo>
                <a:arcTo wR="769144" hR="642938" stAng="-2033639" swAng="4584270"/>
                <a:lnTo>
                  <a:pt x="769144" y="642938"/>
                </a:lnTo>
                <a:close/>
              </a:path>
            </a:pathLst>
          </a:custGeom>
          <a:solidFill>
            <a:srgbClr val="009900">
              <a:alpha val="36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-0.03055 L 0.15816 0.36852 E">
                                      <p:cBhvr>
                                        <p:cTn id="43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-0.03055 L 0.23629 0.36852 E">
                                      <p:cBhvr>
                                        <p:cTn id="44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-0.02013 L 0.31441 0.36852 E">
                                      <p:cBhvr>
                                        <p:cTn id="44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6:44:02Z</dcterms:created>
  <dc:creator>3</dc:creator>
  <dc:description/>
  <dc:language>en-US</dc:language>
  <cp:lastModifiedBy>1</cp:lastModifiedBy>
  <dcterms:modified xsi:type="dcterms:W3CDTF">2015-01-13T16:07:16Z</dcterms:modified>
  <cp:revision>31</cp:revision>
  <dc:subject/>
  <dc:title>Слайд 1</dc:title>
</cp:coreProperties>
</file>