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9CF-6A35-4DE9-BCD6-28C3B5BC10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9985-0B25-4FBC-B9E3-38D3628ED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A2B-7012-479D-BDF5-7FF8046677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254-02FC-4A45-B357-C9ADC6E66A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753-716D-4E48-BB70-0E6BE269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914-2ACE-46B0-93E8-F8789F8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B84-2A12-4EAE-800E-ABAAAD4A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D16-3609-471B-888B-9E940418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7340-1070-4AE8-B90F-E8E78678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2546-F5A3-42D5-AA79-E76F70E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E72F-46B3-4F6C-AF0D-2F53F8D7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F96B-54D6-47DA-BA57-E1FD7778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4B1-ACB9-46FA-A731-78B9C38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0E83-86D7-41E8-BC15-7AF3349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172F-5D14-4804-B383-F5DE46E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680-2DDD-48BF-B73A-75F651D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C008-20AC-454C-A346-8949720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C7A3-C4A3-465E-8BFB-EC5B731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A9B-6DBD-45B7-9BE3-F2D18958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1D3-AE08-4473-8B9D-6C23B548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38B-DD55-4B1F-A01C-50F5B5EA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EAAC-DBC6-4E0E-BE28-570D6E63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1D3D-464F-46B5-9864-19114AA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9610-0522-47F9-9EDB-B4ED6537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E2AB-820F-43D1-BB0D-C26B6757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499D-BA96-40AD-B07B-42F9AED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A11-E6A9-4AF7-97F5-9C1D7E5B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8FA6-0E57-4C7C-948F-F01412C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8A0F-6CF4-46B4-A6A8-2527E75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C4F2-1909-489E-A5C3-3AD7DA8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5F2A-77CF-45CA-B2DA-2CA12FC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0756-EC77-4E59-918C-3B1509F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59E5-7FC3-4C38-B371-D45D61D2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CDFC-A11F-4E8E-AC98-BF881724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78D0-535E-41CD-8243-A5EC80B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70C4-EEDF-457C-98EC-1B11CFE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98F5-49FE-4BBE-B6F8-149AFC9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E55-4BA1-4465-8775-4D91D8CB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F630-2DF6-4563-942C-08FAE6E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C5B0-9F35-40C6-BA33-3734AD88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DCC8-AD8F-4F03-8006-D4C1B4A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3FA4-5A7D-4028-80ED-7C0D0C0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2F88-4CF2-4311-8C6C-996D387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D48F-241D-4CF0-9B67-DD60D08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C49D-9FB7-445A-A1DF-07DD7736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333D-3F88-4B7C-8A8F-5E72D460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E448-C993-4036-AB2B-4C145C1A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2B6-322C-435F-9C0A-65814C16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77A-0B4A-4AD4-B148-49B37FA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8CF-0D86-45BB-9F1F-2EA98F48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3C4-730D-4DD8-BE90-7932243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460-ECEA-47D3-87B1-7FAE9BD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8B44-4C7F-4BB1-8E0F-4EE95DF97D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696-B755-4E43-8423-77A82EE1B7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770-9E9A-46C0-939F-148C6B4E35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A17-3F56-46F0-91C7-2CAAF756524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378000" y="444600"/>
            <a:ext cx="7345080" cy="2774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1\Desktop\profesii.jpg"/>
          <p:cNvPicPr/>
          <p:nvPr/>
        </p:nvPicPr>
        <p:blipFill>
          <a:blip r:embed="rId2"/>
          <a:stretch/>
        </p:blipFill>
        <p:spPr>
          <a:xfrm>
            <a:off x="4576680" y="2997360"/>
            <a:ext cx="42530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176040"/>
            <a:ext cx="8667720" cy="1796760"/>
          </a:xfrm>
          <a:prstGeom prst="rect">
            <a:avLst/>
          </a:prstGeom>
          <a:ln w="0">
            <a:noFill/>
          </a:ln>
        </p:spPr>
      </p:pic>
      <p:pic>
        <p:nvPicPr>
          <p:cNvPr id="224" name="Овал 3" descr=""/>
          <p:cNvPicPr/>
          <p:nvPr/>
        </p:nvPicPr>
        <p:blipFill>
          <a:blip r:embed="rId2"/>
          <a:stretch/>
        </p:blipFill>
        <p:spPr>
          <a:xfrm>
            <a:off x="3511440" y="3346560"/>
            <a:ext cx="2260800" cy="1536480"/>
          </a:xfrm>
          <a:prstGeom prst="rect">
            <a:avLst/>
          </a:prstGeom>
          <a:ln w="0">
            <a:noFill/>
          </a:ln>
        </p:spPr>
      </p:pic>
      <p:sp>
        <p:nvSpPr>
          <p:cNvPr id="225" name="Овал 6"/>
          <p:cNvSpPr/>
          <p:nvPr/>
        </p:nvSpPr>
        <p:spPr>
          <a:xfrm>
            <a:off x="6659640" y="5553000"/>
            <a:ext cx="2089080" cy="6476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n office work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3857760" y="5000760"/>
            <a:ext cx="1857240" cy="6998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bodyguar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Овал 12"/>
          <p:cNvSpPr/>
          <p:nvPr/>
        </p:nvSpPr>
        <p:spPr>
          <a:xfrm>
            <a:off x="1979640" y="5084640"/>
            <a:ext cx="1584360" cy="57636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lawy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Овал 13"/>
          <p:cNvSpPr/>
          <p:nvPr/>
        </p:nvSpPr>
        <p:spPr>
          <a:xfrm>
            <a:off x="2627280" y="5877000"/>
            <a:ext cx="2143080" cy="6476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sportsm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Овал 14"/>
          <p:cNvSpPr/>
          <p:nvPr/>
        </p:nvSpPr>
        <p:spPr>
          <a:xfrm>
            <a:off x="5076720" y="6021360"/>
            <a:ext cx="1798920" cy="5032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teach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Овал 15"/>
          <p:cNvSpPr/>
          <p:nvPr/>
        </p:nvSpPr>
        <p:spPr>
          <a:xfrm>
            <a:off x="7143840" y="4221000"/>
            <a:ext cx="2000160" cy="6368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housewif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Овал 20"/>
          <p:cNvSpPr/>
          <p:nvPr/>
        </p:nvSpPr>
        <p:spPr>
          <a:xfrm>
            <a:off x="571680" y="1500120"/>
            <a:ext cx="2160360" cy="8650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computer programm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Овал 21"/>
          <p:cNvSpPr/>
          <p:nvPr/>
        </p:nvSpPr>
        <p:spPr>
          <a:xfrm>
            <a:off x="611280" y="2781360"/>
            <a:ext cx="1873080" cy="5032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librari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Овал 22"/>
          <p:cNvSpPr/>
          <p:nvPr/>
        </p:nvSpPr>
        <p:spPr>
          <a:xfrm>
            <a:off x="6443640" y="2492280"/>
            <a:ext cx="1584360" cy="43200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nurs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Овал 23"/>
          <p:cNvSpPr/>
          <p:nvPr/>
        </p:nvSpPr>
        <p:spPr>
          <a:xfrm>
            <a:off x="1000080" y="3573360"/>
            <a:ext cx="2059200" cy="5698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denti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Овал 24"/>
          <p:cNvSpPr/>
          <p:nvPr/>
        </p:nvSpPr>
        <p:spPr>
          <a:xfrm>
            <a:off x="428760" y="4365720"/>
            <a:ext cx="2198520" cy="6350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businessm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Овал 25"/>
          <p:cNvSpPr/>
          <p:nvPr/>
        </p:nvSpPr>
        <p:spPr>
          <a:xfrm>
            <a:off x="6443640" y="3573360"/>
            <a:ext cx="1819440" cy="5032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firem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Овал 26"/>
          <p:cNvSpPr/>
          <p:nvPr/>
        </p:nvSpPr>
        <p:spPr>
          <a:xfrm>
            <a:off x="7451640" y="2924280"/>
            <a:ext cx="1152720" cy="50472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ve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Овал 27"/>
          <p:cNvSpPr/>
          <p:nvPr/>
        </p:nvSpPr>
        <p:spPr>
          <a:xfrm>
            <a:off x="5364000" y="1413000"/>
            <a:ext cx="2016360" cy="57600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shop assist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Овал 28"/>
          <p:cNvSpPr/>
          <p:nvPr/>
        </p:nvSpPr>
        <p:spPr>
          <a:xfrm>
            <a:off x="3851280" y="2133720"/>
            <a:ext cx="1555920" cy="5032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driv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0" name="Прямая со стрелкой 30"/>
          <p:cNvCxnSpPr>
            <a:stCxn id="224" idx="0"/>
            <a:endCxn id="239" idx="4"/>
          </p:cNvCxnSpPr>
          <p:nvPr/>
        </p:nvCxnSpPr>
        <p:spPr>
          <a:xfrm flipH="1" flipV="1">
            <a:off x="4628520" y="2636640"/>
            <a:ext cx="1476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Прямая со стрелкой 32"/>
          <p:cNvCxnSpPr/>
          <p:nvPr/>
        </p:nvCxnSpPr>
        <p:spPr>
          <a:xfrm flipV="1">
            <a:off x="4859280" y="1989000"/>
            <a:ext cx="155016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Прямая со стрелкой 34"/>
          <p:cNvCxnSpPr/>
          <p:nvPr/>
        </p:nvCxnSpPr>
        <p:spPr>
          <a:xfrm flipH="1" flipV="1">
            <a:off x="2285640" y="2356560"/>
            <a:ext cx="151344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Прямая со стрелкой 36"/>
          <p:cNvCxnSpPr/>
          <p:nvPr/>
        </p:nvCxnSpPr>
        <p:spPr>
          <a:xfrm flipV="1">
            <a:off x="5406840" y="2707560"/>
            <a:ext cx="103716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38"/>
          <p:cNvCxnSpPr>
            <a:endCxn id="237" idx="2"/>
          </p:cNvCxnSpPr>
          <p:nvPr/>
        </p:nvCxnSpPr>
        <p:spPr>
          <a:xfrm flipV="1">
            <a:off x="5435640" y="3175920"/>
            <a:ext cx="2016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Прямая со стрелкой 40"/>
          <p:cNvCxnSpPr/>
          <p:nvPr/>
        </p:nvCxnSpPr>
        <p:spPr>
          <a:xfrm>
            <a:off x="5724360" y="3753000"/>
            <a:ext cx="72000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Прямая со стрелкой 42"/>
          <p:cNvCxnSpPr/>
          <p:nvPr/>
        </p:nvCxnSpPr>
        <p:spPr>
          <a:xfrm>
            <a:off x="5364000" y="3933720"/>
            <a:ext cx="17805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44"/>
          <p:cNvCxnSpPr/>
          <p:nvPr/>
        </p:nvCxnSpPr>
        <p:spPr>
          <a:xfrm>
            <a:off x="5407200" y="3981600"/>
            <a:ext cx="1559520" cy="166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46"/>
          <p:cNvCxnSpPr/>
          <p:nvPr/>
        </p:nvCxnSpPr>
        <p:spPr>
          <a:xfrm>
            <a:off x="5076360" y="4005360"/>
            <a:ext cx="100368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48"/>
          <p:cNvCxnSpPr/>
          <p:nvPr/>
        </p:nvCxnSpPr>
        <p:spPr>
          <a:xfrm>
            <a:off x="4715280" y="4076640"/>
            <a:ext cx="14220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Прямая со стрелкой 50"/>
          <p:cNvCxnSpPr>
            <a:endCxn id="228" idx="0"/>
          </p:cNvCxnSpPr>
          <p:nvPr/>
        </p:nvCxnSpPr>
        <p:spPr>
          <a:xfrm flipH="1">
            <a:off x="3698280" y="4076280"/>
            <a:ext cx="657720" cy="18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Прямая со стрелкой 52"/>
          <p:cNvCxnSpPr/>
          <p:nvPr/>
        </p:nvCxnSpPr>
        <p:spPr>
          <a:xfrm flipH="1">
            <a:off x="3203280" y="4005000"/>
            <a:ext cx="79272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Прямая со стрелкой 54"/>
          <p:cNvCxnSpPr>
            <a:endCxn id="235" idx="6"/>
          </p:cNvCxnSpPr>
          <p:nvPr/>
        </p:nvCxnSpPr>
        <p:spPr>
          <a:xfrm flipH="1">
            <a:off x="2626560" y="3933720"/>
            <a:ext cx="108180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Прямая со стрелкой 56"/>
          <p:cNvCxnSpPr>
            <a:stCxn id="224" idx="2"/>
            <a:endCxn id="234" idx="6"/>
          </p:cNvCxnSpPr>
          <p:nvPr/>
        </p:nvCxnSpPr>
        <p:spPr>
          <a:xfrm flipH="1">
            <a:off x="3058920" y="3751920"/>
            <a:ext cx="50544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Прямая со стрелкой 58"/>
          <p:cNvCxnSpPr>
            <a:stCxn id="224" idx="1"/>
            <a:endCxn id="232" idx="6"/>
          </p:cNvCxnSpPr>
          <p:nvPr/>
        </p:nvCxnSpPr>
        <p:spPr>
          <a:xfrm flipH="1" flipV="1">
            <a:off x="2484360" y="3033000"/>
            <a:ext cx="13957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Прямая со стрелкой 49"/>
          <p:cNvCxnSpPr/>
          <p:nvPr/>
        </p:nvCxnSpPr>
        <p:spPr>
          <a:xfrm flipH="1">
            <a:off x="1571400" y="4000680"/>
            <a:ext cx="2286720" cy="14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Овал 53"/>
          <p:cNvSpPr/>
          <p:nvPr/>
        </p:nvSpPr>
        <p:spPr>
          <a:xfrm>
            <a:off x="142920" y="5500800"/>
            <a:ext cx="1857240" cy="57132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farm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57" name="Прямая со стрелкой 55"/>
          <p:cNvCxnSpPr/>
          <p:nvPr/>
        </p:nvCxnSpPr>
        <p:spPr>
          <a:xfrm>
            <a:off x="5572080" y="4000680"/>
            <a:ext cx="20008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Овал 61"/>
          <p:cNvSpPr/>
          <p:nvPr/>
        </p:nvSpPr>
        <p:spPr>
          <a:xfrm>
            <a:off x="7000920" y="5000760"/>
            <a:ext cx="2143080" cy="50328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policem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59" name="Прямая со стрелкой 62"/>
          <p:cNvCxnSpPr/>
          <p:nvPr/>
        </p:nvCxnSpPr>
        <p:spPr>
          <a:xfrm flipH="1" flipV="1">
            <a:off x="3499920" y="1928160"/>
            <a:ext cx="65664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Овал 65"/>
          <p:cNvSpPr/>
          <p:nvPr/>
        </p:nvSpPr>
        <p:spPr>
          <a:xfrm>
            <a:off x="2786040" y="1143000"/>
            <a:ext cx="2000160" cy="714240"/>
          </a:xfrm>
          <a:prstGeom prst="ellipse">
            <a:avLst/>
          </a:prstGeom>
          <a:gradFill rotWithShape="0">
            <a:gsLst>
              <a:gs pos="0">
                <a:srgbClr val="dcc5e2"/>
              </a:gs>
              <a:gs pos="100000">
                <a:srgbClr val="ba94c4"/>
              </a:gs>
            </a:gsLst>
            <a:lin ang="5400000"/>
          </a:gradFill>
          <a:ln w="9360">
            <a:solidFill>
              <a:srgbClr val="ac66bb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postm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023 - Unit 3, Exercise 22.mp3" descr=""/>
          <p:cNvPicPr/>
          <p:nvPr/>
        </p:nvPicPr>
        <p:blipFill>
          <a:blip r:embed="rId3"/>
          <a:stretch/>
        </p:blipFill>
        <p:spPr>
          <a:xfrm>
            <a:off x="7929720" y="135720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20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480" y="285840"/>
            <a:ext cx="871524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reat sick people/animals –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лечить больных людей (животных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give books –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давать книг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sell goods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продавать товар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stop a fire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останавливать огонь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know laws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знать законы 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otect people’s lifes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защищать жизни людей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ork on computer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работать на компьютере</a:t>
            </a: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ake care of children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заботиться о детя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drive a car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водить машину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bring letters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разносить письм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ight crime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бороться с преступникам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5" descr="126"/>
          <p:cNvPicPr/>
          <p:nvPr/>
        </p:nvPicPr>
        <p:blipFill>
          <a:blip r:embed="rId1"/>
          <a:stretch/>
        </p:blipFill>
        <p:spPr>
          <a:xfrm>
            <a:off x="6072120" y="1071720"/>
            <a:ext cx="2428920" cy="1738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760753720533102720"/>
          <p:cNvPicPr/>
          <p:nvPr/>
        </p:nvPicPr>
        <p:blipFill>
          <a:blip r:embed="rId2"/>
          <a:stretch/>
        </p:blipFill>
        <p:spPr>
          <a:xfrm>
            <a:off x="7000920" y="4214880"/>
            <a:ext cx="1882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777520" cy="1528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571400" y="1571760"/>
            <a:ext cx="742932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treats the sick animals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gives books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sells goods in a big shop is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se job is to stop a fire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knows all laws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protects people’s lifes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works on computers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Who takes care of children is a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3500280"/>
            <a:ext cx="18572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 pers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6" descr=""/>
          <p:cNvPicPr/>
          <p:nvPr/>
        </p:nvPicPr>
        <p:blipFill>
          <a:blip r:embed="rId1"/>
          <a:stretch/>
        </p:blipFill>
        <p:spPr>
          <a:xfrm>
            <a:off x="201600" y="-133200"/>
            <a:ext cx="9028080" cy="160164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8" descr=""/>
          <p:cNvPicPr/>
          <p:nvPr/>
        </p:nvPicPr>
        <p:blipFill>
          <a:blip r:embed="rId2"/>
          <a:stretch/>
        </p:blipFill>
        <p:spPr>
          <a:xfrm>
            <a:off x="725400" y="1335240"/>
            <a:ext cx="7643880" cy="40226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85840" y="571500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 …. should be…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85480" y="285840"/>
            <a:ext cx="871524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ello! My name is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I am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I have got a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My mother is a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My father is a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And I am going to be a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I think I am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I want to 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8" descr="760753720533102720"/>
          <p:cNvPicPr/>
          <p:nvPr/>
        </p:nvPicPr>
        <p:blipFill>
          <a:blip r:embed="rId1"/>
          <a:stretch/>
        </p:blipFill>
        <p:spPr>
          <a:xfrm>
            <a:off x="6572160" y="3857760"/>
            <a:ext cx="2311560" cy="27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vet_service_dog"/>
          <p:cNvPicPr/>
          <p:nvPr/>
        </p:nvPicPr>
        <p:blipFill>
          <a:blip r:embed="rId2"/>
          <a:stretch/>
        </p:blipFill>
        <p:spPr>
          <a:xfrm>
            <a:off x="6143760" y="50004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57120" y="214200"/>
            <a:ext cx="8429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Hello! (Hello!) My name is …. and what is your name? (My name is…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- How old are you? (I am ...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- Have you got any brothers or sisters? (Yes, I have./No, I haven't.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- What do your parents do? (My mother is a… My father is a…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What are you going to be? (I am going to be a…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Why are going to be a …? (I am … and I want to …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Oh! That’s great! And I am going to be a … because I am … and I want to …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- Thanks a lot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8:09:22Z</dcterms:created>
  <dc:creator>1</dc:creator>
  <dc:description/>
  <dc:language>en-US</dc:language>
  <cp:lastModifiedBy>XTreme.ws</cp:lastModifiedBy>
  <dcterms:modified xsi:type="dcterms:W3CDTF">2015-01-13T17:27:24Z</dcterms:modified>
  <cp:revision>57</cp:revision>
  <dc:subject/>
  <dc:title>Слайд 1</dc:title>
</cp:coreProperties>
</file>