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23F-3AA9-4783-B843-12F321F9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5EB-7AE4-49EE-A107-7658233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42D-A2C1-4D36-9E4F-803D69AC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BC7-C5DB-4BB8-A5DC-57463D0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D785-2784-470C-81EF-08F4FBE0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8290-4DC2-4EFE-BA86-F68571C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EB8D-0CA7-43D3-881B-AEE015BE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9AD-D7B0-49FE-87F9-A49A682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904-222F-478D-92AF-6A57316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226-250E-498C-9539-9157712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989-55D3-4E5B-B042-CC84413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BB6-D3BF-406C-8D84-046AB66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4CD-327B-4DCD-AAE1-591ED44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C198-AC5F-4DD4-A4AD-122D62D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6CE-D208-4D91-8A27-3A2F663C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28E-83B1-49F1-96ED-ED668906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DBC-5FC8-4DBB-98E0-179EDBD5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48B-F85F-4DD8-9461-3556DA0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C18-C3E0-4BB6-862B-CEB91A1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630-A925-4A1D-99A0-EFD68D7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ECD-6B73-4A11-9910-94002576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251-64F8-4524-BAA4-813467F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DF9-CC8D-42C7-9B68-F50C24E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7B2-469C-4433-B602-0262718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D0FF-F4BD-406F-B236-7547619DF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D88-1C6E-41E6-BBB5-101112D9D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64600" y="855720"/>
            <a:ext cx="55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ч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.С.Есенин. Поёт зима, аукает…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330720" y="1628640"/>
            <a:ext cx="3606480" cy="522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8920" y="2080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-я стро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78720" y="2080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«Надеж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760" y="927000"/>
            <a:ext cx="47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Не вечна зима, придёт врем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И воробышков, и людей согре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расавица весна. Надо терп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и жд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5280" y="3303720"/>
            <a:ext cx="242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С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Звукоп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89600" y="2349360"/>
            <a:ext cx="4103640" cy="450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485640"/>
            <a:ext cx="4105440" cy="4178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248000" cy="3191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64600" y="75564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Что вы узнали о поэте, написавшем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Стихотвор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21680" y="24400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оэт зимой ждёт вес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жалеет пти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н добр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9840" y="49536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Пла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вый сн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32120" y="0"/>
            <a:ext cx="52797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8720" y="42372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.Граб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враль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зу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116160" cy="4535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19640" y="692280"/>
            <a:ext cx="58672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        </a:t>
            </a: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Серг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     </a:t>
            </a: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Александрович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         </a:t>
            </a:r>
            <a:r>
              <a:rPr b="0" lang="en-US" sz="4400" spc="-1" strike="noStrike">
                <a:solidFill>
                  <a:srgbClr val="080808"/>
                </a:solidFill>
                <a:latin typeface="Bookman Old Style"/>
              </a:rPr>
              <a:t>Есен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797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1895 - 19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76176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Русский народный поэт. Родился в 1895 году в селе Константиново на берегу красивой реки Оки. Поэт очень любил русскую природу и воспевал её в своих стихах. Стихи Есенина полны звуков, запахов, красок. Раздаётся «белый перезвон берёз», «вызванивают ивы», «шумят тростники». Слушая, стихи мы представляем прекрасный русский пейзаж. Он писал, что его песня отзовётся и останется в людских сердц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95640" y="1405080"/>
            <a:ext cx="4221000" cy="5452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65952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.Есенин свои первые стихи создал в 9 лет. И костёр зари, и плеск волны, и серебристая луна, и шелест тростника, и необъятная небесная синь, и голубая гладь озёр – вся красота родного края с годами отлилась в стихи, полные любви к русской земле. Он сумел взять у природы даже черты своей внешности: чарующую синеву очей – у бездонных рек и голубых небес, золотые волосы – у российских нив; мягкие кудри – у крон родных берёз. А главное, что поэт взял у родины, у бескрайней России – глубокую и необъятную ду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94360" y="4237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-я стро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3280" y="8557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З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88920" y="35100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«Глубокая тос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6040" y="1503360"/>
            <a:ext cx="34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АУКАЕТ – баЮК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лубОКОЮ - далЁК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6520" y="27273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тоЗвоном СоСня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3840" y="3303720"/>
            <a:ext cx="43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Ы-ЛЕ-ЛА; ПЛЫвут в стра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даЛЁкую сед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920" y="4311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Звукоп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4743360"/>
            <a:ext cx="24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975200" y="692280"/>
            <a:ext cx="4168800" cy="540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560" y="2080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-я стро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5080" y="208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«Тревог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1800" y="11430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С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3120" y="1935000"/>
            <a:ext cx="38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Снег –гладкий шёл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овё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6920" y="2800440"/>
            <a:ext cx="38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Воробышки –сиротли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д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716360" cy="630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560" y="2793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-я стро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3640" y="279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«Жалост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280" y="1071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720" y="1647720"/>
            <a:ext cx="47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 –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тучит по Ставням Свешен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И Злится вСё Силь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Т- Т – 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ТучиТ по Ставням свешен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0400" y="4240080"/>
            <a:ext cx="350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З – Ш –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ПриЖались у ок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зябли птаШки мал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олодные уСтал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И Жмутся поплотн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924360" cy="5505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6:07:55Z</dcterms:created>
  <dc:creator>Пользователь</dc:creator>
  <dc:description/>
  <dc:language>en-US</dc:language>
  <cp:lastModifiedBy>Пользователь</cp:lastModifiedBy>
  <dcterms:modified xsi:type="dcterms:W3CDTF">2012-01-24T18:52:53Z</dcterms:modified>
  <cp:revision>4</cp:revision>
  <dc:subject/>
  <dc:title>Слайд 1</dc:title>
</cp:coreProperties>
</file>