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4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13C70-BCA9-457C-A02F-EAE6B377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F55E6-E05F-4B8C-A3BF-EF1B3D03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8BEB7-0A34-4847-8C3B-13993124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DBD4D-A2DA-403A-ABCD-D2295647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C9A6-4AF0-40E0-8998-A0367923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19C3-5E19-4BF8-8BB6-D9FB116B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6AFD-46FA-41F6-A0C6-7AF3482F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6A23-7C44-4717-9CAA-0E1D19E0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D1F7-7D6D-4896-BD71-D0388600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945B-A304-429B-A39B-85C14AC7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DEF8-2764-4C87-B307-35BC5C91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5A8BD-081A-4B82-B49B-DF7E7D97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2054-EB3C-4E42-AA14-4B5E23C1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1B0A-08E4-42A6-832D-4850C7C6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4FD1-DDA4-4439-ADC6-B9928BA3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2360-03D6-4BBB-B8A5-5D6E2560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5832-FEA8-4BF9-8C4E-9F518C01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9211E-986C-433A-A656-DE7FE92D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8A3B0-6FB4-4B59-BB54-4A12BECD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38EC6-E853-415B-B673-E693CC05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62B03-A825-4FB8-AABC-8D9AFB4A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14C6D-B69F-48BF-B71B-C9B78B49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68A06-79B1-4F92-9A20-C791BA0D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C9722-F208-4B57-8373-6F3CAD21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AB3D-E196-4B91-A9BD-998F914464B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5B27-338F-4961-9569-6C4D18180F0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69138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500720" y="189000"/>
            <a:ext cx="3384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Владим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438360" y="1125360"/>
            <a:ext cx="351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Семёно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835280" y="2492280"/>
            <a:ext cx="3241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Высоц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254160" y="4092480"/>
            <a:ext cx="51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25 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января любимому многими барду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поэту и актёру исполнилось бы 74 года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50920" y="60480"/>
            <a:ext cx="8569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16 апреля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1980 года состоялась последняя съёмка концерта Высоцкого в Ленинградском БДТ, где он исполнял песни «Кони привередливые», «Купола», «Охота на волков» и рассказывал о своём творчеств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22 июня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1980 года состоялся один из последних концертов Высоцкого (в Калининграде), на котором ему стало плох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3 июля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1980 года состоялось выступление Высоцкого в Люберецком городском дворце культуры в Московской области, где, по словам очевидцев, он выглядел нездоровым, говорил, что неважно себя чувствует, но на сцене держался бодро и, вместо полутора запланированных часов, отыграл двухчасовой концер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16 июля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он провёл свой последний концерт в подмосковном Калининграде (ныне Королёв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18 июля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1980 года Высоцкий последний раз появился в своей самой известной роли в Театре на Таганке, в роли Гамлета в одноимённой постановке по Шекспир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25 июля 1980 года Высоцкий скончался во сне в своей московской кварти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6454800" cy="6197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11280" y="58053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Владимир Семёнович был похоронен 28 июля 1980 года на Ваганьковском кладбищ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86280" cy="5715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71880" y="981000"/>
            <a:ext cx="5172120" cy="5877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5760" y="272880"/>
            <a:ext cx="686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е верьте, что незаменимых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а нашей земле не быв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ысоцкий - один из великих дет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х в схватках-мучениях будничных дн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ечасто Россия рожд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34000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1284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4000" y="189000"/>
            <a:ext cx="81356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Дата рождения: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5 января 193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Место рождения: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осква, РСФСР, ССС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Дата смерти:</a:t>
            </a: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 июля 1980 (42 год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Место смерти: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осква, РСФСР, ССС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Гражданство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СС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Род деятельности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втор-исполнитель, поэт, прозаи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ктё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еатра и кино, пев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Годы творчеств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959—19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Язык произведени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ус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Премии: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лади́мир Семёнович Высо́цкий (25 января 1938, Москва — 25 июля 1980, Москва) — выдающийся поэт и автор-исполнитель, актёр, автор прозаических произведений. Лауреат Государственной премии СССР (1987 — посмертн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174920" cy="37544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03640" y="115920"/>
            <a:ext cx="5616360" cy="5616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99080" y="1050840"/>
            <a:ext cx="55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ладимир Высоцкий вошёл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сторию как автор-исполни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воих песен под акуистическу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емиструнную «русскую» гитар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97200" y="417600"/>
            <a:ext cx="696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ысоцкого стих, как призывный наба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ак воздух, которым мы дыш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н сам наша совесть, друг верный и бр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1909800"/>
            <a:ext cx="6193080" cy="4948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700360" y="2349360"/>
            <a:ext cx="6121440" cy="4303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98240" y="344520"/>
            <a:ext cx="727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ладимир Высоцкий поэт и актё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н шёл по нехоженным троп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 душой необъятной , как русский простор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 с сердцем ранимым…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148360" y="189000"/>
            <a:ext cx="3705120" cy="6048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22280" y="235080"/>
            <a:ext cx="79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ысоцкий дал более 1000 концертов в СССР и за рубеж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5680" y="1125360"/>
            <a:ext cx="2782800" cy="3095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124000" y="400068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38240"/>
            <a:ext cx="896472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1963800"/>
            <a:ext cx="7369200" cy="4894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189000"/>
            <a:ext cx="88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июле 1967 года Владимир Высоцкий познакомился с французской актрисой русского происхождения Мариной Влади (Мариной Владимировной Поляковой), ставшей его третьей женой (декабрь 1970 год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июне 1968 года В.Высоцкий послал письмо в ЦК КПСС в связи с резкой критикой его ранних песен в центральных газетах. В том же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году вышла его первая авторская грампластинка «Песни из кинофильма „Вертикаль“». Летом 1969 года у Высоцкого был тяжелый приступ, и тогда он выжил только благодаря Марине Вла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6028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друг оказался вдр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не друг, и не враг — а так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сразу не разбереш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лох он или хорош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арня в горы тяни — рискни! 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 бросай одного ег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усть он в связке одной с тобой 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ам поймешь, кто та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парень в горах — не а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сразу раскис — и вниз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Шаг ступил на ледник — и сни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ступился — и в кри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начит рядом с тобой — чуж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ы его не брани — гон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верх таких не берут, и т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 таких не пою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67280" y="260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ж он не стонал, не ны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усть он хмур был и зол, но ше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 когда ты упал со ска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н стонал, но держа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шел он с тобой, как в б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 вершине стоял хмельн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начит, как на себя самог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ложись на н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859280" y="2492280"/>
            <a:ext cx="3240000" cy="3962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8:18:08Z</dcterms:created>
  <dc:creator>Пользователь</dc:creator>
  <dc:description/>
  <dc:language>en-US</dc:language>
  <cp:lastModifiedBy>Пользователь</cp:lastModifiedBy>
  <dcterms:modified xsi:type="dcterms:W3CDTF">2012-02-01T16:58:08Z</dcterms:modified>
  <cp:revision>5</cp:revision>
  <dc:subject/>
  <dc:title>Слайд 1</dc:title>
</cp:coreProperties>
</file>