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52C3-C36C-4BA5-9D14-65D50DBB7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D999-1050-456E-8958-49883ABBD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0E3C-5E9E-4BD9-A87A-DE7057AB3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6D6D-56A1-41CB-9723-62028ADCE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0210-DA2B-4A8A-BD8E-956373C10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F111-9162-41EE-9653-DCD61F6D2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A494-76AD-4429-92D6-87AC560BE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5F80-B180-4EE3-AC22-6BC4ADBE2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12D1-DAEB-44C6-88D1-72E506AA0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485A-E42A-4E0E-98D3-14550D04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7F9D-2466-4267-A010-B1B6DD080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9123-16A1-4636-A003-8B6BB2B3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CB8B5-CF35-4073-8759-887036AE1E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40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4" descr="незнайка 2.png"/>
          <p:cNvPicPr/>
          <p:nvPr/>
        </p:nvPicPr>
        <p:blipFill>
          <a:blip r:embed="rId1"/>
          <a:stretch/>
        </p:blipFill>
        <p:spPr>
          <a:xfrm>
            <a:off x="2048040" y="49320"/>
            <a:ext cx="4760640" cy="68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город-пространства-и-врем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4" descr="незнайка 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7" descr="незнайка.jpeg"/>
          <p:cNvPicPr/>
          <p:nvPr/>
        </p:nvPicPr>
        <p:blipFill>
          <a:blip r:embed="rId1"/>
          <a:stretch/>
        </p:blipFill>
        <p:spPr>
          <a:xfrm>
            <a:off x="0" y="-642960"/>
            <a:ext cx="9144000" cy="728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дорога-с-машинам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40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светофорик"/>
          <p:cNvPicPr/>
          <p:nvPr/>
        </p:nvPicPr>
        <p:blipFill>
          <a:blip r:embed="rId1"/>
          <a:stretch/>
        </p:blipFill>
        <p:spPr>
          <a:xfrm>
            <a:off x="1474920" y="0"/>
            <a:ext cx="619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конспект мероприятия по правилам дорожного движения в детском саду - Планета Детства"/>
          <p:cNvPicPr/>
          <p:nvPr/>
        </p:nvPicPr>
        <p:blipFill>
          <a:blip r:embed="rId1"/>
          <a:stretch/>
        </p:blipFill>
        <p:spPr>
          <a:xfrm>
            <a:off x="611280" y="189000"/>
            <a:ext cx="7993080" cy="64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автобус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автобус"/>
          <p:cNvPicPr/>
          <p:nvPr/>
        </p:nvPicPr>
        <p:blipFill>
          <a:blip r:embed="rId1"/>
          <a:stretch/>
        </p:blipFill>
        <p:spPr>
          <a:xfrm>
            <a:off x="0" y="-3571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звук автобуса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1798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Город-Числоград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6" descr="утка-с-утятам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6" descr="мальчики-играют-в-футбол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картинки--для-задачк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автобус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звук автобуса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81798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городок-с-домами"/>
          <p:cNvPicPr/>
          <p:nvPr/>
        </p:nvPicPr>
        <p:blipFill>
          <a:blip r:embed="rId1"/>
          <a:stretch/>
        </p:blipFill>
        <p:spPr>
          <a:xfrm>
            <a:off x="108000" y="0"/>
            <a:ext cx="9036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автобус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звук автобуса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81798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7:35:04Z</dcterms:created>
  <dc:creator>Первый</dc:creator>
  <dc:description/>
  <dc:language>en-US</dc:language>
  <cp:lastModifiedBy>сокол</cp:lastModifiedBy>
  <dcterms:modified xsi:type="dcterms:W3CDTF">2014-12-10T03:43:19Z</dcterms:modified>
  <cp:revision>12</cp:revision>
  <dc:subject/>
  <dc:title>Слайд 1</dc:title>
</cp:coreProperties>
</file>