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85E-33B1-40B2-8E58-98DCD8D9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176-9E09-46A3-8081-4E69D48B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632-6678-47FD-A801-E829749F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321-AA12-4555-8CA7-A589849D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6B4C-822E-4A02-BDF3-43AFA6EB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C6F3-1044-4F84-AD55-B1A5F04E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5522-3031-4B7A-9A1E-4C6ACAC0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AF36-F887-4B7C-BBE3-93FF6BA9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D032-CF39-44AD-9894-B3C51AE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FA8B-9E20-4E6E-A83B-810069D3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0D19-503C-4792-AAFE-0F5EEA6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08D-DD33-47B7-8EBE-2486B3A2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4A10-64AE-4CF3-926B-97D7C461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8A80-105A-493F-88E4-5056F7F4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D3F0-4FF2-4592-B2C4-04EF8B22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390A-B082-4CFA-BE52-B3547F03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B29B-EBF7-4CA1-843B-5F1D697E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609-4DD1-4D7B-B542-892277A0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EAF-0250-4BD2-860D-801B94E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2A0-71FC-4194-8F7A-90EB06BB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434-A1AF-407B-92A1-A69AE8C1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948-2A1C-42C2-B356-0901D001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616-AFB7-4B92-8E83-770DE5EF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9D5-9F8F-49F6-A7EB-01C0560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CE35-276B-4675-9B38-7F2E1AC8D68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4012-1E3C-4E32-A839-58C015D2B4D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ипы подчинительной связ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Определите тип связи (согласование, управление, примыкание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FKai-SB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DFKai-SB"/>
              </a:rPr>
              <a:t>Интересная книга, написать изложение, встречаться изредка, уехать на юг, уединенное место, каждый ученик, войдя в комнату, советы родителей, писать быстро, писать карандашом, любовь к родине, предложить сесть, заниматься по плану, проснуться рано, последние известия, подплыть к берегу, готовый услужить, достойный похвалы, стремление к знаниям, желание учиться, вытереть насухо, говорить по-английски, контроль над исполнением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Трудные случаи соглас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63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мя существительное, которому предшествуют несколько определений ставиться в форме единственного числа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существительное в форме множественного числа не употребляется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научный и технический прогрес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существительное во множественном числе имеет иное значение, чем в единственном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молодежное и студенческое движение – движения ру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между определениями стоят противительные, разделительные или сопоставительные союзы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латинский или готический шриф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перечисляемые разновидности предметов или явлений внутренне связанные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перное и балетное искусств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Трудные случаи соглас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мя существительное ставиться во множественном числе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подчеркивается наличие нескольких предметов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биологические и химические метод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имеется предшествующее определение в форме множественного числа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новый мировой и отечественный рекорд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Трудные случаи соглас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ределение относящееся к двум или нескольким существительным – однородным членам, ставиться в форме единственного числ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по смыслу сочетаний ясно, что определение относится не только к ближайшему существительному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школьная успеваемость и дисципли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между определяемыми существительными стоит разделительный союз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написать интересный роман или повес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рудные случаи соглас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ределение ставится в форме множественного числ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по смыслу сочетания при единственном числе было бы неясно, связано ли определение с ближайшим существительным или со всем рядом однородных членов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способные ученик и учениц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определение постпозитивно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мужской и женский род, отличающиеся своими формам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7:57:50Z</dcterms:created>
  <dc:creator>Джон</dc:creator>
  <dc:description/>
  <dc:language>en-US</dc:language>
  <cp:lastModifiedBy>EVGEN</cp:lastModifiedBy>
  <dcterms:modified xsi:type="dcterms:W3CDTF">2015-01-13T18:36:20Z</dcterms:modified>
  <cp:revision>2</cp:revision>
  <dc:subject/>
  <dc:title>Типы подчинительной связи</dc:title>
</cp:coreProperties>
</file>