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AC0-7ED2-4FE0-A147-D11EBBE4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9E0-958D-4E96-8E60-5F13F180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7A7-71A1-4457-A9A8-2EEF903D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464-E61C-47E1-AAC3-D15C190E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8B23-02A9-4DD9-8928-AB4EF3E5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BED4-9419-4EF0-BE8A-D689BB5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895-8D0D-4E35-BD7E-1DBFCB5E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8354-2C2D-4FD1-A479-B9675EF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920C-8C8B-422D-8A50-2938CA7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8058-07AA-4854-9DB1-C1DADCD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6ED-F957-4EF6-8630-C100A68D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639-0079-4D47-9CCB-7FD935D2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A1A-58A6-4AC6-99CD-5918C4F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285B-92F2-4137-B421-82CA621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9EF-FD20-456B-9B18-C949D5A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C656-5445-4B45-B68D-1999B8C6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BAEA-39D6-4EC8-8081-BD698339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B0F-4F7C-4067-9965-9B21311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D34-5D55-414B-87C2-5A8AF52D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DAE-C73C-4CA9-B818-E3324FC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422-BEEA-4A90-8233-87A06E5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861-595D-4527-8996-8124141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474-3B2B-430B-B235-B9990A3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DF0-FE33-45D8-84DA-C5D4260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403-3B48-4606-B945-9302CD77B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0A7-B76C-4DBF-A02B-6969ABE86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рок-практикум по решению задач по генетик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4194000"/>
                <a:gridCol w="4194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челов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: близорукость, фенилкетонур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близору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фенилкетону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вероятность рождения ребёнка с нормальным зрением и без заболевания фенилкетонурие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аа ВВ х  Аа в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АаВ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аа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 вероятность составляет 50%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8388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нилкетонурия- наследственное заболевание обмена веществ- наблюдается дефицит ферментов, катализирующих превращение аминокислот (фенилаланина в тирозин). Недостаточное количество этих ферментов приводит к накоплению фенилаланина в клетках в токсических концентрациях, что вызывает поражение нервной системы и приводит к слабоумию. Современная диагностика в первые дни жизни новорождённого и перевод его на специальную диету, лишённую фенилаланина, предотвращает развитие заболевания  (наиболее часто встречаемое генное  заболевание: так в России встречается до 10 случаев на 10 тысяч человек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Второй блок задач: «Генетика пола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 кошек ген чёрной и ген рыжей окраски сцеплены с полом, находятся в Х- хромосоме и дают неполное доминирование. При их сочетании получается черепаховая окраска шерсти. Каких котят можно ожидать от скрещи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шки с черепаховой окраской с чёрным ко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шки с черепаховой окраской с рыжим  ко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 ли появление котов с черепаховой окраской шерсти,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380880"/>
          <a:ext cx="8229600" cy="69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кош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: окраска шер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чё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рыж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- черепах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Фенотипы потом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Р   ХВХв  х  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ёрная , ХВ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епаховая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чёрный, 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рыжи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Р   ХВХв  х  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Хв – черепаховая, ХвХв – рыжая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чёрный, Х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рыж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 появление котов с черепаховой окраской невозможно, так как для этого необходимо сочетание доминантного и рецессивного генов, но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хромосома не имеет аллельных генов. Поэтому котята (коты) при таком скрещивании могут быть только рыжие и чёрны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8388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-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 одного из океанических видов рыб ген В определяет развитие коричневой окраски тела, ген в – голубой. Гены локализованы в Х- хромосоме и сцеплены с полом. Какого потомства можно ожидать от скрещивания самки с коричневой окраской тела (гетерозиготная) с самцом, имеющим голубую окраску тела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4194000"/>
                <a:gridCol w="4194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рыб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: окраска т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коричне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голуб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фенотипы потом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  ХВХв  х  Х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Хв - коричнев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Хв – голуб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коричнев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голуб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380880"/>
          <a:ext cx="8229600" cy="6153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1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-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ДАН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челов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: дальтон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альтон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процент вероятности рождения больного ребён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 БРАКА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х   Х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??????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4194000"/>
                <a:gridCol w="4194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: дальтон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н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альтон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процент вероятности рождения больного ребён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х   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нор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дальтониз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нор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дальтониз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 50%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«Множественные аллели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921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784080"/>
          <a:ext cx="8388000" cy="5311800"/>
        </p:xfrm>
        <a:graphic>
          <a:graphicData uri="http://schemas.openxmlformats.org/drawingml/2006/table">
            <a:tbl>
              <a:tblPr/>
              <a:tblGrid>
                <a:gridCol w="8388000"/>
              </a:tblGrid>
              <a:tr h="53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одильном доме перепутали двух мальчиков. У одного ребёнка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крови, а у второго-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. Анализ показал, что одна супружеская пара имеет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у, а другая-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ы. Определите, какой супружеской паре принадлежит тот или иной ребёнок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бщить знания учащихся по теме «Генетика», обосновав место и роль биологических знаний в практической деятельност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ть познавательный интерес, интеллектуальные и творческие способности в процессе изучения биологии, путём применения метода решения генетических задач, имеющих место и роль в практической деятельност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ывать убеждённость в возможности познания живой природы, необходимости уважения мнения оппонента при обсуждении биологических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380880"/>
          <a:ext cx="8229600" cy="6516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о условию задачи первая супружеская пара может иметь детей 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ми крови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   00  х  А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0, 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ая супружеская пара может иметь детей со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ми крови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   А0  х  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0, АВ, В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 супружеские пары могут иметь детей со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ой, но, ребёнок 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ой крови принадлежит первой супружеской паре, так как у второй супружеской пары не возможно рождение ребёнка 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руппой крови. Им принадлежит ребёнок со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руппой кров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биологического диктан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Совокупность всех взаимодействующих генов организма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Элементарная единица наследственности, представленная отрезком молекулы ДНК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ара генов, определяющих развитие альтернативных признаков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ризнак, проявляющийся у всех гибридов первого поколения при скрещивании чистых линий………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Наука о закономерностях наследственности и изменчивости…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ать определения поняти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утосомы – это…………………………………………………………………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ецессвный признак – это…………………………………………………………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Гомозиготное состояние-………………………………………………………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Гетерозиготное состояние-…………………………………………………………………………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Гомогаметный и гетерогаметный пол- …………………………………………………………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b7"/>
                </a:solidFill>
                <a:uFillTx/>
                <a:latin typeface="Arial Black"/>
              </a:rPr>
              <a:t>Первый блок задач: «Моногенное аутосомное наследование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А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У человека карий цвет глаз (В) и способность лучше владеть правой рукой (Н) наследуются как доминантные признаки. Голубой цвет глаз (в) и способность лучше владеть левой рукой (н) – как рецессивные. Гены, определяющие оба признака, находятся в разных парах хромос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Кареглазый юноша, лучше владеющий правой рукой, гомозиготный по обоим признакам, женится на голубоглазой лев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 Кареглазый юноша, лучше владеющий правой рукой, гетерозиготный по обоим признакам, женится на голубоглазой лев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прос: Определите в каждом случае, каких детей по фенотипу можно ожидать в таких семья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4194000"/>
                <a:gridCol w="4194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: цвет глаз, преобладание развития р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карие гл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голубые гл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- правору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левору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фенотипы родителей и дете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Р  ВВНН х вв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Н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карие глаза с преобладанием правой рук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Р   ВвН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х вв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Н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карие глаза, праворукость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h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карие глаза, леворукость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Н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голубые глаза,праворукость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h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голубые глаза, леворукость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8388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ормальный рост у овса доминирует над гигантизмом, а раннеспелость – над позднеспелостью. Гены обоих признаков находятся в разных парах хромосом. Какими признаками будут обладать гибриды, полученные от скрещивания гетерозиготных по обоим признакам родителей? Каков фенотип родительских особей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77840" y="274680"/>
          <a:ext cx="7689600" cy="5820840"/>
        </p:xfrm>
        <a:graphic>
          <a:graphicData uri="http://schemas.openxmlformats.org/drawingml/2006/table">
            <a:tbl>
              <a:tblPr/>
              <a:tblGrid>
                <a:gridCol w="3845160"/>
                <a:gridCol w="3844440"/>
              </a:tblGrid>
              <a:tr h="58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овё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: рост, особенности созревания пл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н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гиган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раннеспел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позднеспел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фенотипы родителей и потом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  АаВв  х  АаВ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 9 норма, раннеспел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норма, позднеспел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гиганты, раннеспел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гиганты, позднеспелы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а родителя имели фенотип: нормальные раннеспелые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244440"/>
          <a:ext cx="8388000" cy="5851080"/>
        </p:xfrm>
        <a:graphic>
          <a:graphicData uri="http://schemas.openxmlformats.org/drawingml/2006/table">
            <a:tbl>
              <a:tblPr/>
              <a:tblGrid>
                <a:gridCol w="83880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ДАН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: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: близорукость, фенилкетонур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близору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- н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н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- фенилкетону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- вероятность рождения ребёнка с нормальным зрением и без заболевания фенилкетонурие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 БРАКА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аа ВВ х  Аа в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?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54:57Z</dcterms:created>
  <dc:creator>Роман</dc:creator>
  <dc:description/>
  <dc:language>en-US</dc:language>
  <cp:lastModifiedBy>Роман</cp:lastModifiedBy>
  <dcterms:modified xsi:type="dcterms:W3CDTF">2015-01-09T13:32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