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7B06-8770-4D47-9975-F07A4081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5A0-3EB7-4513-A981-26625930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2EFA-E2BE-46FF-8FE3-CEEF049C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DC0-A01C-42DE-BBD7-18985D15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8269-D809-4E39-9464-5A6CCF21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634F-0AFD-4FDB-AA55-E45B738E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4F8C-5825-4083-B9A9-FA20D4E5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BF1C-B99B-40CE-95D8-5BFEEDA7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EDC9-23A5-4985-870B-209D88CC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8415-ABD0-4F5E-BF52-78B62DDB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4FA8-2FD9-4DA4-A48B-75EB210B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B38E-1909-45A5-AB18-AC9C8E43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C716-E574-40A5-B127-B41EC453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A6A2-A6DB-48DC-9178-1078534C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38C4-7DB2-4972-B122-4D4E31E4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FCA0-2522-4E41-8F95-16542219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7CFC-5B16-4FB1-A8BB-341FCFF5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5A6-0E18-4807-B93F-10CABA5C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A4E-C4CB-4BCD-B683-991F21A3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8107-68C4-4B59-B5B8-4C70021D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0D7C-C2A3-44B8-BE6E-F60CF6F0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4FE-3F06-4D48-9B72-989D262E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CD5-3A1A-4E49-B11C-718DAD2D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E7A2-72AA-48EA-B0A8-C15DD594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AB14-FB31-4F3B-AB40-1353C1503A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A612-265C-483D-9455-FA2758634D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ДОГОВОР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7238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АРЕНДЫ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Обязанности арендодател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21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редоставить арендатору имущество в состоянии, соответствующем условиям договора и назначению имуще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редоставить имущество со всеми его принадлежностями и документами, если иное не предусмотрено договоро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редоставить имущество в обусловленный срок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редупредить арендатора о правах третьих лиц на сдаваемое в аренду имущество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роизводить за свой счет капитальный ремонт, если иное не предусмотрено договором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6666"/>
                </a:solidFill>
                <a:uFillTx/>
                <a:latin typeface="Arial"/>
              </a:rPr>
              <a:t>Обязанности арендатора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5640" y="1557000"/>
            <a:ext cx="75675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воевременное внесение арендной платы за пользование имущество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ользоваться арендованным имуществом в соответствии с условиями договор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оддерживать имущество в исправном состоянии, производить за свой счет текущий ремонт и нести расходы на содержание имущества, если иное на предусмотрено договоро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ернуть арендодателю при прекращении договора имущество в том же состоянии, в котором он его получил, с учетом нормального износ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Основания прекращения договора аренды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90560" y="1746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мерть гражданина арендующего недвижимое или движимое имущество, если заключение договора было обусловлено личными качествами арендатор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Ликвидация юридического лица, являющейся одной из сторон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Решение суда о прекращении договора по требованию одной из сторон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тороны вправе установить в договоре другие основания расторжения договора по их инициативе или исключить названные выш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                 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Общая характеристика отдельных видов договора аренд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Виды договора аренды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813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Договор прокат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Договор аренды транспортного средства с экипажем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Договор арены транспортного средства без экипаж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Договор аренды зданий и сооружений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Договор аренды предприяти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Договор финансовой аренды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1. Договор проката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7835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это соглашение, по которому арендодатель, осуществляющий сдачу имущества в аренду в качестве постоянной предпринимательской деятельности, обязуется предоставить арендатору движимое имущество за плату во временное владение и пользование (ст.626 ГК РФ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6666"/>
                </a:solidFill>
                <a:uFillTx/>
                <a:latin typeface="Arial"/>
              </a:rPr>
              <a:t>Признаки договора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Реальный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Публичный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оговор присоедин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6666"/>
                </a:solidFill>
                <a:uFillTx/>
                <a:latin typeface="Arial"/>
              </a:rPr>
              <a:t>Стороны договора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385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Арендодатель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коммерческая организация, осуществляющая сдачу имущества в аренду в качестве основной предпринимательской деятельност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Арендатор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физическое или юридическое лицо, использующее имущество в личных целях, а не для извлечения прибыл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Существенные условия договор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6741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Предмет договора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движимое имущество, не потребляемое, которое используется в домашних, личных целях, а не для извлечения прибыл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Срок договора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- не может превышать один год. Истечение указанного срока влечет прекращение договор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Особенности содержание договор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820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Арендодатель обязан в присутствии арендатора проверить качество вещи, ознакомить с правилами эксплуатации или передать техническую документацию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Арендодатель обязан осуществлять текущий и капитальный ремонт имущества и устранять вскрывшиеся недостатки в течении 10 дней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Арендатор не вправе сдавать имущество в субаренду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Арендатор не имеет преимущественного права на перезаключение договор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9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онятие, элементы договора аренды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9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одержание договора аренды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9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Общая характеристика отдельных видов договора аренды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6666"/>
                </a:solidFill>
                <a:uFillTx/>
                <a:latin typeface="Arial"/>
              </a:rPr>
              <a:t>2. Договор аренды транспортного средства с экипажем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307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это договор, в силу которого арендодатель предоставляет арендатору транспортное средство за плату во временное владение и пользование и оказывает своими силами услуги по управлению им и по его технической эксплуат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948360" y="5300640"/>
          <a:ext cx="541440" cy="1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5300640"/>
                    <a:ext cx="541440" cy="1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Особенности договор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8209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рендодатель оказывает услуги по управлению и технической эксплуатации транспортного средства, несет дополнительные расходы, связанные с содержанием членов экипажа и оплатой их услуг, обязан страховать транспортное средство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рендатор несет расходы по коммерческой эксплуат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рендодатель несет ответственность перед третьими лицами за вред, причиненный транспортным средством или его механизм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6666"/>
                </a:solidFill>
                <a:uFillTx/>
                <a:latin typeface="Arial"/>
              </a:rPr>
              <a:t>3. Договор аренды транспортного средства без экипаж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это соглашение, по которому арендодатель предоставляет транспортное средство за плату во временное владение и пользование без оказания услуг по управлению им и его технической эксплуат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Особенности договор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856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се расходы на содержание транспортного средства, включая его страхование, возлагаются на арендатор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тветственность за вред, причиненный транспортным средством или его механизмами третьим  лицам, несет арендатор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Текущий и капитальный ремонт проводится арендатором, если иное не предусмотрено договором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4. Договор аренды зданий и сооружен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это соглашение, по которому арендодатель обязуется передать во временное владение и пользование арендатору здание или сооружение (ст.650 ГК РФ)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6666"/>
                </a:solidFill>
                <a:uFillTx/>
                <a:latin typeface="Arial"/>
              </a:rPr>
              <a:t>Форма договора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8548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оговор заключается в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письменной форм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в виде единого документа, подписанного обеими сторонами. Договор, заключаемый на срок более одного года, подлежит обязательной государственной регистр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Существенные услови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Предмет договора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здание или сооружение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Арендная плата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включает в себя плату за пользование земельным участком, передаваемым со зданием или сооружение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6666"/>
                </a:solidFill>
                <a:uFillTx/>
                <a:latin typeface="Arial"/>
              </a:rPr>
              <a:t>Особенности договора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7961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Арендатору предоставляется право на земельный участок, на котором находится объект договор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Изменение собственника земельного участка не влияет на права арендатор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Арендатор не вправе производить никаких капитальных преобразований, затрагивающих несущие конструкции, производить перепланировку без согласия арендодател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ередача здания или сооружения и их возврат производится по передаточному акту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6666"/>
                </a:solidFill>
                <a:uFillTx/>
                <a:latin typeface="Arial"/>
              </a:rPr>
              <a:t>5. Договор предприят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7835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это соглашение, по которому арендодатель обязуется предоставит арендатору за плату во временное владение или пользование предприятие в целом как имущественный комплекс, используемый для осуществления предпринимательской деятельности (ст.656 ГК РФ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Существенные услови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Предмет договора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предприятие как единый имущественный комплекс, относящийся к недвижимому имуществу и включающий в себя основные и оборотные средства, исключительные права, права требования и долг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Арендная плата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               </a:t>
            </a: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1.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Понятие, элементы договора аренды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6666"/>
                </a:solidFill>
                <a:uFillTx/>
                <a:latin typeface="Arial"/>
              </a:rPr>
              <a:t>Форма договора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оговор заключается в письменной форме, в виде единого документа, подписанного сторонами, подлежит государственной регистр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Особенности договор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280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ередача производится по передаточному акт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Арендатор обязан поддерживать предприятие в надлежащем состоянии, нести расходы по страхованию и эксплуатаци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Арендатор имеет право пользоваться, распоряжаться имуществом без согласия арендодателя при условии сохранения или повышения его стоимости, и вправе требовать возмещения стоимости неотделимых улучшений имуществ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6. Договор финансовой аренды (лизинг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7783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это соглашение сторон, в силу которого арендодатель обязуется приобрести в собственность указанное арендатором имущество у определенного им продавца и предоставить арендатору это имущество за плату во временное владение и пользование для предпринимательских целей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ст. 665 ГК РФ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Особенности договор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 договоре участвуют три стороны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Арендатор – лицо, в чьих интересах заключается договор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Арендодатель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Продавец имущества, его собственник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Договор лизинга включает в себя положения договора аренды, и договора купли-продаж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Содержание договор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19280" y="148428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родавец обязан передать имущество непосредственно арендатор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Арендатор обладает теми же правами и обязанностями, как и покупатель, за исключением оплаты товар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Арендодатель не вправе без согласия арендатора расторгать договор купли-продажи. Он выступает в роли солидарного кредитора перед продавцом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родавец обязан передать имущество арендатору в месте его нахожд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6666"/>
                </a:solidFill>
                <a:uFillTx/>
                <a:latin typeface="Arial"/>
              </a:rPr>
              <a:t>Договор аренды-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это соглашение, по которому арендодатель (наймодатель) обязуется предоставить арендатору (нанимателю) имущество за плату во временное владение и пользование или во временное пользование (ст.606 ГК РФ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Признаки договора: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онсенсуальный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заимный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озмездный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 пользу участнико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Имущественный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заимосогласованный, за исключением – прокат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6666"/>
                </a:solidFill>
                <a:uFillTx/>
                <a:latin typeface="Arial"/>
              </a:rPr>
              <a:t>Стороны договора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711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АРЕНДАТОР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- ЭТО СУБЪЕКТ, ПОЛУЧАЮЩИЙ ИМУЩЕСТВО ВО ВРЕМЕННОЕ ВЛАДЕНИЕ И ПОЛЬЗОВАНИЕ (ЛЮБОЙ СУБЪЕКТ ГРАЖДАНСКОГО ПРАВА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АРЕНДОДАТЕЛЬ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– СОБСТВЕННИК ИМУЩЕСТВА ИЛИ УПОЛНОМОЧЕННОЕ СОБСТВЕННИКОМ ЛИЦО НА СДАЧУ ИМУЩЕСТВА В АРЕНДУ ОТ СВОЕГО ИМЕНИ (ЛЮБОЙ СУБЪЕКТ ГРАЖДАНСКОГО ПРАВА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6666"/>
                </a:solidFill>
                <a:uFillTx/>
                <a:latin typeface="Arial"/>
              </a:rPr>
              <a:t>Форма договора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711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 соответствии со ст.609 ГК РФ договор аренды должен заключаться в письменной форме в следующих случаях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Если одна из сторон юридическое лицо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Если договор заключается на срок более одного год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Аренда недвижимости подлежит обязательной государственной регистраци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Существенные услови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84836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Предмет договора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вещи, не изъятые из оборота; движимые и недвижимые, которые не теряют своих свойств в процессе их использовани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Арендная плата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срок договора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могут быть названы в качестве существенных по желанию одной из сторон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388880" y="2259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6920" y="301320"/>
            <a:ext cx="749628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                 </a:t>
            </a: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2.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Содержание договора аренды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4:59:10Z</dcterms:created>
  <dc:creator>KIT</dc:creator>
  <dc:description/>
  <dc:language>en-US</dc:language>
  <cp:lastModifiedBy>KIT</cp:lastModifiedBy>
  <dcterms:modified xsi:type="dcterms:W3CDTF">2007-12-19T13:57:26Z</dcterms:modified>
  <cp:revision>3</cp:revision>
  <dc:subject/>
  <dc:title>ДОГОВОР</dc:title>
</cp:coreProperties>
</file>