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409A-CE03-491E-A2A1-08909A71C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9156-8946-46E9-A64D-89E24FBC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B5C8-CC0C-454C-9291-FD35DE258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0105-643A-492B-A150-11EEA31D9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1139-7F2E-4CE2-83EE-260F81B6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7AA1-5D28-4077-9649-9A1983E0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43E0-2665-4A25-AB98-8E67B9C9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6EB3-4D23-4FD7-846E-A623D284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EC02-6E0F-4AA6-8405-00962564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106C-E7D9-490C-A731-A077ED1B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A55B-6D4D-4A7F-B6FB-89D3E5FA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47A8-F159-462E-AC09-CA2F9FFC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8D00-8DA4-42F8-A183-02B0F0892D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4200" y="5572080"/>
            <a:ext cx="57866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 : Зимина М.В. Учитель географии и биологии МКОУ Сосновская СОШ имени М.Я.Бред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africa"/>
          <p:cNvPicPr/>
          <p:nvPr/>
        </p:nvPicPr>
        <p:blipFill>
          <a:blip r:embed="rId1"/>
          <a:stretch/>
        </p:blipFill>
        <p:spPr>
          <a:xfrm>
            <a:off x="3419640" y="476280"/>
            <a:ext cx="5357520" cy="5759280"/>
          </a:xfrm>
          <a:prstGeom prst="rect">
            <a:avLst/>
          </a:prstGeom>
          <a:ln w="0">
            <a:noFill/>
          </a:ln>
        </p:spPr>
      </p:pic>
      <p:sp>
        <p:nvSpPr>
          <p:cNvPr id="44" name="WordArt 6"/>
          <p:cNvSpPr txBox="1"/>
          <p:nvPr/>
        </p:nvSpPr>
        <p:spPr>
          <a:xfrm>
            <a:off x="468360" y="3573360"/>
            <a:ext cx="41050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фрика</a:t>
            </a:r>
            <a:endParaRPr b="1" lang="en-US" sz="4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фиоп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Shewula_Swaziland"/>
          <p:cNvPicPr/>
          <p:nvPr/>
        </p:nvPicPr>
        <p:blipFill>
          <a:blip r:embed="rId1"/>
          <a:stretch/>
        </p:blipFill>
        <p:spPr>
          <a:xfrm>
            <a:off x="1643040" y="1428840"/>
            <a:ext cx="583236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ЮА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picture"/>
          <p:cNvPicPr/>
          <p:nvPr/>
        </p:nvPicPr>
        <p:blipFill>
          <a:blip r:embed="rId1"/>
          <a:stretch/>
        </p:blipFill>
        <p:spPr>
          <a:xfrm>
            <a:off x="1835280" y="1773360"/>
            <a:ext cx="554508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99"/>
                </a:solidFill>
                <a:latin typeface="Arial"/>
              </a:rPr>
              <a:t>Знаешь ли карту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37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дписать на карте Африки географические объект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Третий лиш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Баобаб, акация, вельвич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Муха це-це, зебра, гори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Атласские, Эфиопское, Драконо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Замбези, Виктория, Тангань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Чад, Виктория, Тангань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аванны, пустыни, субэкваториа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Арабы, малагассийцы, берб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рокодил, слон, верблю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Лианы, бананы, ал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акао, кофе, шокол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51280" y="115920"/>
            <a:ext cx="476424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afrika1"/>
          <p:cNvPicPr/>
          <p:nvPr/>
        </p:nvPicPr>
        <p:blipFill>
          <a:blip r:embed="rId2"/>
          <a:stretch/>
        </p:blipFill>
        <p:spPr>
          <a:xfrm>
            <a:off x="179280" y="189000"/>
            <a:ext cx="2903760" cy="4362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32513729_af11"/>
          <p:cNvPicPr/>
          <p:nvPr/>
        </p:nvPicPr>
        <p:blipFill>
          <a:blip r:embed="rId3"/>
          <a:stretch/>
        </p:blipFill>
        <p:spPr>
          <a:xfrm>
            <a:off x="2928960" y="4429080"/>
            <a:ext cx="2679840" cy="2009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ruscdi03"/>
          <p:cNvPicPr/>
          <p:nvPr/>
        </p:nvPicPr>
        <p:blipFill>
          <a:blip r:embed="rId4"/>
          <a:stretch/>
        </p:blipFill>
        <p:spPr>
          <a:xfrm>
            <a:off x="6516720" y="3716280"/>
            <a:ext cx="2212920" cy="2957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DSC00173"/>
          <p:cNvPicPr/>
          <p:nvPr/>
        </p:nvPicPr>
        <p:blipFill>
          <a:blip r:embed="rId5"/>
          <a:stretch/>
        </p:blipFill>
        <p:spPr>
          <a:xfrm>
            <a:off x="4140360" y="915840"/>
            <a:ext cx="352728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Прямоугольник 3" descr=""/>
          <p:cNvPicPr/>
          <p:nvPr/>
        </p:nvPicPr>
        <p:blipFill>
          <a:blip r:embed="rId1"/>
          <a:stretch/>
        </p:blipFill>
        <p:spPr>
          <a:xfrm>
            <a:off x="706320" y="2762280"/>
            <a:ext cx="77248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Кто лучше знает Африку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 игре участвуют 2 коман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Выберите капитана и придумайте название коман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Игра начина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Разминка.</a:t>
            </a: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3300"/>
                </a:solidFill>
                <a:latin typeface="Arial"/>
              </a:rPr>
              <a:t>Географическое по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фрика по средине пересекается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фрику омывает …….оке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фрику пересекают северный и южный…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 севера материк омывает …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райняя южная точка мыс…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амый большой остров близ берегов Африки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Экзам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В каких полушариях расположен матери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Основная особенность рельеф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В каких климатических поясах расположена Афри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Почему Конго самая полноводная река Афри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Охарактеризуйте условия экваториального поя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Что такое оази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Почему Нил теряет много воды в среднем и нижнем теч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 Охарактеризуйте условия тропического поя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 Какие народы относятся к экваториальной рас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.Чем отличается климат субэкваториального пояса от экваториального и тропическог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Самый, самая, самое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africa"/>
          <p:cNvPicPr/>
          <p:nvPr/>
        </p:nvPicPr>
        <p:blipFill>
          <a:blip r:embed="rId1"/>
          <a:stretch/>
        </p:blipFill>
        <p:spPr>
          <a:xfrm>
            <a:off x="2484360" y="1341360"/>
            <a:ext cx="4621320" cy="4969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7855_3_o"/>
          <p:cNvPicPr/>
          <p:nvPr/>
        </p:nvPicPr>
        <p:blipFill>
          <a:blip r:embed="rId2"/>
          <a:stretch/>
        </p:blipFill>
        <p:spPr>
          <a:xfrm>
            <a:off x="250920" y="3429000"/>
            <a:ext cx="1824120" cy="2638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4931"/>
          <p:cNvPicPr/>
          <p:nvPr/>
        </p:nvPicPr>
        <p:blipFill>
          <a:blip r:embed="rId3"/>
          <a:stretch/>
        </p:blipFill>
        <p:spPr>
          <a:xfrm>
            <a:off x="6156360" y="4724280"/>
            <a:ext cx="2833560" cy="1890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7abd116120407f5264d446cd588840aa_big"/>
          <p:cNvPicPr/>
          <p:nvPr/>
        </p:nvPicPr>
        <p:blipFill>
          <a:blip r:embed="rId4"/>
          <a:stretch/>
        </p:blipFill>
        <p:spPr>
          <a:xfrm>
            <a:off x="6948360" y="1341360"/>
            <a:ext cx="1857600" cy="2971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00000147"/>
          <p:cNvPicPr/>
          <p:nvPr/>
        </p:nvPicPr>
        <p:blipFill>
          <a:blip r:embed="rId5"/>
          <a:stretch/>
        </p:blipFill>
        <p:spPr>
          <a:xfrm>
            <a:off x="179280" y="1484280"/>
            <a:ext cx="2413080" cy="1602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32513729_af11"/>
          <p:cNvPicPr/>
          <p:nvPr/>
        </p:nvPicPr>
        <p:blipFill>
          <a:blip r:embed="rId6"/>
          <a:stretch/>
        </p:blipFill>
        <p:spPr>
          <a:xfrm>
            <a:off x="2484360" y="5229360"/>
            <a:ext cx="201636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4"/>
          <p:cNvSpPr txBox="1"/>
          <p:nvPr/>
        </p:nvSpPr>
        <p:spPr>
          <a:xfrm>
            <a:off x="826920" y="1628640"/>
            <a:ext cx="770580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  ?  ?  ?  ?  ?</a:t>
            </a:r>
            <a:endParaRPr b="1" lang="en-US" sz="4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16480" y="333360"/>
            <a:ext cx="56275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аоба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539640" y="3860640"/>
            <a:ext cx="34560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1380046"/>
          <p:cNvPicPr/>
          <p:nvPr/>
        </p:nvPicPr>
        <p:blipFill>
          <a:blip r:embed="rId1"/>
          <a:stretch/>
        </p:blipFill>
        <p:spPr>
          <a:xfrm>
            <a:off x="684360" y="549360"/>
            <a:ext cx="6819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7:20:38Z</dcterms:created>
  <dc:creator>Zver</dc:creator>
  <dc:description/>
  <dc:language>en-US</dc:language>
  <cp:lastModifiedBy>Зимины</cp:lastModifiedBy>
  <dcterms:modified xsi:type="dcterms:W3CDTF">2015-01-14T08:06:28Z</dcterms:modified>
  <cp:revision>8</cp:revision>
  <dc:subject/>
  <dc:title>Слайд 1</dc:title>
</cp:coreProperties>
</file>