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ED28-0793-4974-B129-1F567C59F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82E7-BD04-4689-B6AE-84D86146F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B2AE-D8E7-4424-9C19-9D787B82E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679F-024E-4F6A-B198-22BCAFBD8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E12B9-F8F0-4E99-86B0-4097A8617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B9433-ACA2-4BF4-8BA2-9DD246EAA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1F3D1-7338-4164-AFBE-0DD82A60E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CB9C5-8DF3-4620-8B72-949E117C4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4542A-E393-404D-96D9-6A7D4D542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037B3-3D2A-4926-B3D0-45317B266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9532F-B9F1-4F17-98E6-67C4AC5B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02AF-2DEF-4640-9486-A5F239A48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8CA16-1490-4DAC-A3D0-EF868608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78D9C-5FDA-41CA-944E-4D71A353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C892A-886C-43AA-AE80-4E56DDFE0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F2004-2820-42E0-9163-8A7B62156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E0B66-D988-4131-8009-BFE3E617B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60D7-2E24-41B4-B9BB-89266255E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E461-972E-4636-BC44-1CB753E22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9C7F-273A-4221-BD58-BC79700C5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81CC-E3EF-48C0-9EC9-62CE4E685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A1F9-8E34-40BB-A9BB-AC1122FF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11B1-8C5A-4BDF-80BE-738BCA09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A75A-ADE3-4464-8B06-0AD556CE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ee7f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957FF-6D49-4BBC-B649-2AD53F76E8D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ee7f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AE3E8-7EFC-4F33-9B39-B4EBAC384D3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rezented.ru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prezented.ru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5"/>
          <p:cNvSpPr txBox="1"/>
          <p:nvPr/>
        </p:nvSpPr>
        <p:spPr>
          <a:xfrm>
            <a:off x="684360" y="333360"/>
            <a:ext cx="7488000" cy="150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British schoo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Подзаголовок 2"/>
          <p:cNvSpPr/>
          <p:nvPr/>
        </p:nvSpPr>
        <p:spPr>
          <a:xfrm>
            <a:off x="0" y="0"/>
            <a:ext cx="15127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996600"/>
                </a:solidFill>
                <a:uFillTx/>
                <a:latin typeface="Times New Roman"/>
                <a:hlinkClick r:id="rId2"/>
              </a:rPr>
              <a:t>Prezented.Ru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50000">
              <a:srgbClr val="fbeac7"/>
            </a:gs>
            <a:gs pos="100000">
              <a:srgbClr val="fee7f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 British cultur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British culture schools have names, such as Manchester School, Mary Hampden School, Abbey Ro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9280" y="4292280"/>
            <a:ext cx="4040280" cy="16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about your countr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bottom2"/>
          <p:cNvPicPr/>
          <p:nvPr/>
        </p:nvPicPr>
        <p:blipFill>
          <a:blip r:embed="rId1"/>
          <a:stretch/>
        </p:blipFill>
        <p:spPr>
          <a:xfrm>
            <a:off x="4788000" y="476280"/>
            <a:ext cx="362268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95280" y="333000"/>
            <a:ext cx="856944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Georgia"/>
              </a:rPr>
              <a:t>At English schools children call the male teachers Mr and the female teachers Miss/Mrs with the surname</a:t>
            </a:r>
            <a:r>
              <a:rPr b="0" lang="en-US" sz="2600" spc="-1" strike="noStrike">
                <a:solidFill>
                  <a:srgbClr val="0033cc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987640" y="1412640"/>
            <a:ext cx="561672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Georgia"/>
              </a:rPr>
              <a:t>What about your count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9" descr="teacher2"/>
          <p:cNvPicPr/>
          <p:nvPr/>
        </p:nvPicPr>
        <p:blipFill>
          <a:blip r:embed="rId1"/>
          <a:stretch/>
        </p:blipFill>
        <p:spPr>
          <a:xfrm>
            <a:off x="826920" y="1989000"/>
            <a:ext cx="749016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What do you know about British schools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468360" y="1268280"/>
            <a:ext cx="849636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812f"/>
                </a:solidFill>
                <a:latin typeface="Garamond"/>
                <a:ea typeface="Arial"/>
              </a:rPr>
              <a:t>Mark the following statements true or fal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hool day starts with assemb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ritish pupils go to school on Satur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 are schools only for boys and only for girls in Brit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ildren of your age can go to a grammar school in Engl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school year in Britain has four te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marking system in Britain is similar to that in Russ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ience includes  chemistry, physics, biology and mathematic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одзаголовок 2"/>
          <p:cNvSpPr/>
          <p:nvPr/>
        </p:nvSpPr>
        <p:spPr>
          <a:xfrm>
            <a:off x="0" y="6572160"/>
            <a:ext cx="15127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996600"/>
                </a:solidFill>
                <a:uFillTx/>
                <a:latin typeface="Times New Roman"/>
                <a:hlinkClick r:id="rId1"/>
              </a:rPr>
              <a:t>Prezented.Ru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213840"/>
            <a:ext cx="91440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school year in Britain star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Septembe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lessons last 40-45 minut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itish pupils wear a school uniform. The favourite colors are blue, grey, black and gre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first foreign language they learn at school is French. Sometimes they also learn a second foreign language: German, Spanish, Russia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itish students have Christmas holidays, Easter holidays and Summer holidays. Schools also have special half-term holidays in the middle of each term. These holidays last 2-3 days before or after a weeken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3" descr="picture.jpg"/>
          <p:cNvPicPr/>
          <p:nvPr/>
        </p:nvPicPr>
        <p:blipFill>
          <a:blip r:embed="rId1"/>
          <a:stretch/>
        </p:blipFill>
        <p:spPr>
          <a:xfrm>
            <a:off x="428760" y="285840"/>
            <a:ext cx="22860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7932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chool uniform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1" name="Picture 5" descr="british-school-girls"/>
          <p:cNvPicPr/>
          <p:nvPr/>
        </p:nvPicPr>
        <p:blipFill>
          <a:blip r:embed="rId1"/>
          <a:stretch/>
        </p:blipFill>
        <p:spPr>
          <a:xfrm>
            <a:off x="179280" y="119700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board"/>
          <p:cNvPicPr/>
          <p:nvPr/>
        </p:nvPicPr>
        <p:blipFill>
          <a:blip r:embed="rId2"/>
          <a:stretch/>
        </p:blipFill>
        <p:spPr>
          <a:xfrm>
            <a:off x="6372360" y="692280"/>
            <a:ext cx="2587320" cy="3601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article_image-image-article"/>
          <p:cNvPicPr/>
          <p:nvPr/>
        </p:nvPicPr>
        <p:blipFill>
          <a:blip r:embed="rId3"/>
          <a:stretch/>
        </p:blipFill>
        <p:spPr>
          <a:xfrm>
            <a:off x="3780000" y="1844640"/>
            <a:ext cx="2539800" cy="4343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1818387"/>
          <p:cNvPicPr/>
          <p:nvPr/>
        </p:nvPicPr>
        <p:blipFill>
          <a:blip r:embed="rId4"/>
          <a:stretch/>
        </p:blipFill>
        <p:spPr>
          <a:xfrm>
            <a:off x="539640" y="4335480"/>
            <a:ext cx="3168720" cy="2233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113353624751311"/>
          <p:cNvPicPr/>
          <p:nvPr/>
        </p:nvPicPr>
        <p:blipFill>
          <a:blip r:embed="rId5"/>
          <a:stretch/>
        </p:blipFill>
        <p:spPr>
          <a:xfrm>
            <a:off x="6407280" y="4437000"/>
            <a:ext cx="273672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hools in England and America use their own marks: letters or percent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90-100 -excellent 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80-89 – good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70-79 – satisfactory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60-69 bad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0-59 poo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5"/>
          <p:cNvSpPr txBox="1"/>
          <p:nvPr/>
        </p:nvSpPr>
        <p:spPr>
          <a:xfrm>
            <a:off x="2124000" y="333360"/>
            <a:ext cx="4824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rk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In Britain at the end of each term school sends a report to parents. It has the pupil’s marks in all the subjects and the teacher’s comments on the pupil’s prog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In Russ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during the term the pupils keep a homework diary. At the end of each term the form teacher puts all the final marks there. And the parents should sign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 the pupils have there own lockers (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пирающийся шкафчик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most British schools each pupils has two lockers: a gym locker and a hall locker. The lockers are important and guarantee the safety of the pupils’ belonging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lockers"/>
          <p:cNvPicPr/>
          <p:nvPr/>
        </p:nvPicPr>
        <p:blipFill>
          <a:blip r:embed="rId1"/>
          <a:stretch/>
        </p:blipFill>
        <p:spPr>
          <a:xfrm rot="20677200">
            <a:off x="468000" y="3573360"/>
            <a:ext cx="2870280" cy="2944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Electronic_Lockers"/>
          <p:cNvPicPr/>
          <p:nvPr/>
        </p:nvPicPr>
        <p:blipFill>
          <a:blip r:embed="rId2"/>
          <a:stretch/>
        </p:blipFill>
        <p:spPr>
          <a:xfrm rot="709800">
            <a:off x="4984560" y="3116160"/>
            <a:ext cx="3644640" cy="33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50000">
              <a:srgbClr val="fbeac7"/>
            </a:gs>
            <a:gs pos="100000">
              <a:srgbClr val="fee7f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6" descr="d6ab1da8471d"/>
          <p:cNvPicPr/>
          <p:nvPr/>
        </p:nvPicPr>
        <p:blipFill>
          <a:blip r:embed="rId1"/>
          <a:stretch/>
        </p:blipFill>
        <p:spPr>
          <a:xfrm>
            <a:off x="3851280" y="0"/>
            <a:ext cx="529272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Содержимое 3"/>
          <p:cNvSpPr/>
          <p:nvPr/>
        </p:nvSpPr>
        <p:spPr>
          <a:xfrm>
            <a:off x="395280" y="4437000"/>
            <a:ext cx="403848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Georgia"/>
              </a:rPr>
              <a:t>At the age of twelve Russian students go   to the sixth fo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одержимое 2"/>
          <p:cNvSpPr/>
          <p:nvPr/>
        </p:nvSpPr>
        <p:spPr>
          <a:xfrm>
            <a:off x="395280" y="62064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Georgia"/>
              </a:rPr>
              <a:t>In most English schools forms start only at the secondary school, at the age of elev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Georgia"/>
              </a:rPr>
              <a:t>So at the age of twelve British students go to the second fo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43588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Susan is 13. She goes to Earlham Comprehensive School. This is her timetable for Wednesday.</a:t>
            </a:r>
            <a:br>
              <a:rPr sz="3600"/>
            </a:br>
            <a:br>
              <a:rPr sz="3800"/>
            </a:b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360" y="2133360"/>
            <a:ext cx="4537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chool day starts with assembly. All schools orgonise a short daily meeting for the whole schools to give important information and give some form or religious worship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богослужение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648320" y="1600200"/>
          <a:ext cx="4038480" cy="4114800"/>
        </p:xfrm>
        <a:graphic>
          <a:graphicData uri="http://schemas.openxmlformats.org/drawingml/2006/table">
            <a:tbl>
              <a:tblPr/>
              <a:tblGrid>
                <a:gridCol w="1939680"/>
                <a:gridCol w="2098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00-9.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mb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15-10.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lis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10-10.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n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55-11.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10-11.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ienc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00-12.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45-1.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5-2.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ie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5-3.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king Clu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9000"/>
          </a:bodyPr>
          <a:p>
            <a:pPr marL="65160" indent="-65160">
              <a:lnSpc>
                <a:spcPct val="8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The five minutes between lessons is not a break. Pupils must use this time to move quickly to the next less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5160" indent="-65160">
              <a:lnSpc>
                <a:spcPct val="8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During the lunch hour pupils have time to do many things besides eating. They can also read in the library, participate in clubs or sport, and go ho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5160" indent="-65160">
              <a:lnSpc>
                <a:spcPct val="8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Some children go to Sunday school – classes giving religious instruction to children, organised by churches on Sunday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-6516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eorgia"/>
              </a:rPr>
              <a:t>ed by churches on Sunday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5T05:58:01Z</dcterms:created>
  <dc:creator>Учитель</dc:creator>
  <dc:description/>
  <dc:language>en-US</dc:language>
  <cp:lastModifiedBy>Inkognito</cp:lastModifiedBy>
  <dcterms:modified xsi:type="dcterms:W3CDTF">2012-11-28T18:04:17Z</dcterms:modified>
  <cp:revision>74</cp:revision>
  <dc:subject/>
  <dc:title>Слайд 1</dc:title>
</cp:coreProperties>
</file>