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7316-BDA3-492C-B37D-2450D0A04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EADC-645A-46C2-83CA-B5C68220D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B56E-22BA-453D-83C2-EE9B885D4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4411-B301-4001-BF45-55AE427DB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A24-6113-43B1-A3FB-044387723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E487-D718-491D-8D70-8F252AF56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8FCB-3D6D-4BA7-B1B3-E57C000C7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ожной информационно-насыщенной среде учащийся может преуспеть в том случае, если у ученика выработаны навыки самостоятельного обучения, стремление к использованию этого навыка, а также чувство ответственности и умения к самооценке (рефлексии).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мение читать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снова для обучения, личностного развития и удовольств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ая грамотность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фровая, визуальная, текстовая, технологическая)– основа для использования развивающихся технологий как важного средства обучения в настоящем и будущем.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ая культура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снова соблюдения этических норм при сборе, оценивании и использовании информации, ответственного и безопасного использования социальных сервисов и инструментов.По мнению ученых – эффективность обучения увеличивается при возможности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обучения и совместной учеб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еники должны развивать умение делиться знаниями и учиться вместе с другими, как при непосредственном общении, так и с помощью технологий, чему в настоящее время способствуют социальные сервисы Веб 2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3A00-646F-4DBD-80DE-10F0F59CF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FAF-A86C-4106-A916-00565704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3CA-4881-4F51-BA98-E94CBB79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AB9-EE02-4263-964F-4742709C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BBF-CACA-42CF-87A4-4C9C50B0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C21-2A0D-4106-85A5-D54A058E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D7F-B27F-4BF5-9599-25EBCBFF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141-5715-491A-9B68-7807DBC2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63F-3E9C-4A21-8376-E06E7FF1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5CE-24DE-47BA-AB90-93F8C591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B15-B0A4-4C7D-8DE0-C517E17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DCE-7C29-4C14-96CA-C83C229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623-CC1C-4684-8258-F8B5BB89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BA1C-0BE7-4533-BA81-F46AF8A80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7445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  <a:ea typeface="Arial"/>
              </a:rPr>
              <a:t>Библиотека 2.0.</a:t>
            </a:r>
            <a:br>
              <a:rPr sz="5400"/>
            </a:br>
            <a:r>
              <a:rPr b="1" lang="ru-RU" sz="5400" spc="-1" strike="noStrike">
                <a:solidFill>
                  <a:srgbClr val="0033cc"/>
                </a:solidFill>
                <a:latin typeface="Arial"/>
                <a:ea typeface="Arial"/>
              </a:rPr>
              <a:t>Основа современного образован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929200" y="4000680"/>
            <a:ext cx="28576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  <a:ea typeface="Arial"/>
              </a:rPr>
              <a:t>Библиотека - важный элемент для развития современного общества, основанного на знан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325666134177be125c81fbb40c349209357df157d3_b.jpg"/>
          <p:cNvPicPr/>
          <p:nvPr/>
        </p:nvPicPr>
        <p:blipFill>
          <a:blip r:embed="rId1"/>
          <a:stretch/>
        </p:blipFill>
        <p:spPr>
          <a:xfrm>
            <a:off x="6215040" y="2979720"/>
            <a:ext cx="2857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321.jpg"/>
          <p:cNvPicPr/>
          <p:nvPr/>
        </p:nvPicPr>
        <p:blipFill>
          <a:blip r:embed="rId1"/>
          <a:stretch/>
        </p:blipFill>
        <p:spPr>
          <a:xfrm>
            <a:off x="0" y="3000240"/>
            <a:ext cx="257184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Схема 3" descr=""/>
          <p:cNvPicPr/>
          <p:nvPr/>
        </p:nvPicPr>
        <p:blipFill>
          <a:blip r:embed="rId2"/>
          <a:stretch/>
        </p:blipFill>
        <p:spPr>
          <a:xfrm>
            <a:off x="60480" y="208080"/>
            <a:ext cx="9023040" cy="58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Группа 8"/>
          <p:cNvGrpSpPr/>
          <p:nvPr/>
        </p:nvGrpSpPr>
        <p:grpSpPr>
          <a:xfrm>
            <a:off x="4929120" y="3857760"/>
            <a:ext cx="3071880" cy="3000240"/>
            <a:chOff x="4929120" y="3857760"/>
            <a:chExt cx="3071880" cy="3000240"/>
          </a:xfrm>
        </p:grpSpPr>
        <p:pic>
          <p:nvPicPr>
            <p:cNvPr id="55" name="Рисунок 6" descr="0_6f684_5f1eef32_XL.jpg"/>
            <p:cNvPicPr/>
            <p:nvPr/>
          </p:nvPicPr>
          <p:blipFill>
            <a:blip r:embed="rId1"/>
            <a:stretch/>
          </p:blipFill>
          <p:spPr>
            <a:xfrm>
              <a:off x="4929120" y="3857760"/>
              <a:ext cx="307188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7"/>
            <p:cNvSpPr/>
            <p:nvPr/>
          </p:nvSpPr>
          <p:spPr>
            <a:xfrm>
              <a:off x="5737320" y="5279040"/>
              <a:ext cx="177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 2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Схема 3" descr=""/>
          <p:cNvPicPr/>
          <p:nvPr/>
        </p:nvPicPr>
        <p:blipFill>
          <a:blip r:embed="rId2"/>
          <a:stretch/>
        </p:blipFill>
        <p:spPr>
          <a:xfrm>
            <a:off x="268200" y="281160"/>
            <a:ext cx="8680680" cy="6010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896652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  <a:ea typeface="Arial"/>
              </a:rPr>
              <a:t>Что такое библиотека </a:t>
            </a:r>
            <a:r>
              <a:rPr b="1" i="1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2.0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3840" y="149976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ткрытый доступ к книга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истемы управления электронной подписко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дновременный поиск по всем электронным ресурса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аталог с возможностью добавления комментариев, подборки книг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ые новости библиоте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ое справочное обслуживани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Участие в дистанционных проекта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Библиотека имеет "пространство" в социальных сетях, создает и ведет свои блоги и ви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112680"/>
            <a:ext cx="8643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  <a:ea typeface="Arial"/>
              </a:rPr>
              <a:t>Основные признаки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Arial"/>
                <a:ea typeface="Arial"/>
              </a:rPr>
              <a:t> библиотеки </a:t>
            </a:r>
            <a:r>
              <a:rPr b="1" i="1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2.0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56760" y="135720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исы для редактирования текстов (Wiki, блог, микроблогги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исы хранения файлов (Doc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исы для хранения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исы для хранения фотограф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исы хранения подкас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исы интерактивного общения (ICQ,блог, Skyp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ые сети (Одноклассники, В Контак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исы для хранения закла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и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og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электронная почта, документы, календарь, переводчик, сайты, формы для опро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-144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Какие сервисы 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Web 2.0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 можно использовать в Библиотеке 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71857809_fe28167f.png"/>
          <p:cNvPicPr/>
          <p:nvPr/>
        </p:nvPicPr>
        <p:blipFill>
          <a:blip r:embed="rId1"/>
          <a:stretch/>
        </p:blipFill>
        <p:spPr>
          <a:xfrm>
            <a:off x="5786280" y="164304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  <a:ea typeface="Arial"/>
              </a:rPr>
              <a:t>Библиотеки школ – важная составляющая в системе обучения и образования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760400"/>
            <a:ext cx="857232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ение чит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основа для обучения, личностного развития и удоволь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формационная грамот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цифровая, визуальная, текстовая, технологическая) – основа для использования развивающихся технологий как важного средства обучения в настоящем и будущем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формационная культура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основа соблюдения этических норм при сборе, оценивании и использовании информации, ответственного и безопасного использования социальных сервисов и инстру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4360" y="59500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 rot="16200000">
            <a:off x="4174920" y="1591920"/>
            <a:ext cx="576360" cy="8424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219600 h 8424720"/>
              <a:gd name="textAreaBottom" fmla="*/ 8205120 h 84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1:58:42Z</dcterms:created>
  <dc:creator>Ирина</dc:creator>
  <dc:description/>
  <dc:language>en-US</dc:language>
  <cp:lastModifiedBy>Анна</cp:lastModifiedBy>
  <dcterms:modified xsi:type="dcterms:W3CDTF">2013-01-10T15:17:36Z</dcterms:modified>
  <cp:revision>126</cp:revision>
  <dc:subject/>
  <dc:title>Слайд 1</dc:title>
</cp:coreProperties>
</file>