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B0B-5FC3-4406-A65A-0DA57B08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B4C-A07B-4942-964C-7FC4BDEA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075-39AE-4D3C-8C67-8AEAAF2E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66E-AC8E-4143-9685-F40725BA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9293-65A6-4E75-8D92-06EA7FA4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12AB-CC86-460A-A085-067BC0D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6BA2-AAB4-4EE3-9619-7F0479B4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CACA-9355-4F51-87B3-2CE9E21D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D6F5-A4B5-4302-8C82-1C368FF9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18E6-B6C0-40BF-ACC6-8265FF7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A438-2570-47BF-9D03-4A56EE2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379-4870-4F6F-82A8-F7253A17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B3FA-CF90-4DFE-B481-732ECA0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AC54-6C69-438D-BE4C-FCF972A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958C-D4F2-4042-A6BA-9BCA8617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42E6-0888-481D-8E72-82DF7E03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135-DB5D-4F64-93C2-F7567E4C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4AB-D503-486E-8E55-5E5B209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20F-19A3-450D-AD08-6A415A26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71F-C114-45E3-ABE2-CA0EA0D8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8A6-F7B0-47E7-B190-F085B7C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19F-4F5B-4D06-A26C-F0C9CCB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749-1033-4B13-BF0E-0E92E78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BB1-DCCE-48B3-8B56-D6516AF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3EE-A02C-4855-87AF-EDEDE410F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4E6-A48A-482B-A29F-D4E01820C78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Права человек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2636640"/>
            <a:ext cx="6480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: Камышова Н.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частье_и_дети"/>
          <p:cNvPicPr/>
          <p:nvPr/>
        </p:nvPicPr>
        <p:blipFill>
          <a:blip r:embed="rId1"/>
          <a:stretch/>
        </p:blipFill>
        <p:spPr>
          <a:xfrm>
            <a:off x="361800" y="343080"/>
            <a:ext cx="84204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ссмотрите картинку и подумайте,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акая тема нашего урока?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deti-deti-2473260514260"/>
          <p:cNvPicPr/>
          <p:nvPr/>
        </p:nvPicPr>
        <p:blipFill>
          <a:blip r:embed="rId1"/>
          <a:stretch/>
        </p:blipFill>
        <p:spPr>
          <a:xfrm>
            <a:off x="468360" y="1413000"/>
            <a:ext cx="8496360" cy="4752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е мы разные, у нас разные вкусы, неодинаковые внешности, у каждого человека есть что-то своё, что отличает от остальных людей. Но мы понимаем друг друга, у нас есть что-то обще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Общее – это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щее – это права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ава человека есть у всех людей.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unicef_3"/>
          <p:cNvPicPr/>
          <p:nvPr/>
        </p:nvPicPr>
        <p:blipFill>
          <a:blip r:embed="rId1"/>
          <a:stretch/>
        </p:blipFill>
        <p:spPr>
          <a:xfrm>
            <a:off x="4702320" y="1916280"/>
            <a:ext cx="4262400" cy="4679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79280" y="2421000"/>
            <a:ext cx="4105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что такое права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кие права есть у тебя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0005-005-K-nim-otnosjatsja-pravo-na-zhizn-svobodu-sobstvennost-semju"/>
          <p:cNvPicPr/>
          <p:nvPr/>
        </p:nvPicPr>
        <p:blipFill>
          <a:blip r:embed="rId1"/>
          <a:stretch/>
        </p:blipFill>
        <p:spPr>
          <a:xfrm>
            <a:off x="468360" y="1989000"/>
            <a:ext cx="3970440" cy="410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1335987_html_ma398fc0"/>
          <p:cNvPicPr/>
          <p:nvPr/>
        </p:nvPicPr>
        <p:blipFill>
          <a:blip r:embed="rId1"/>
          <a:stretch/>
        </p:blipFill>
        <p:spPr>
          <a:xfrm>
            <a:off x="250920" y="3645000"/>
            <a:ext cx="4190760" cy="30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56921152_1269511172_Prava_rebenka_0003_novuyy_razmer"/>
          <p:cNvPicPr/>
          <p:nvPr/>
        </p:nvPicPr>
        <p:blipFill>
          <a:blip r:embed="rId2"/>
          <a:stretch/>
        </p:blipFill>
        <p:spPr>
          <a:xfrm>
            <a:off x="4643280" y="3573360"/>
            <a:ext cx="4248360" cy="3090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91969598_large_4979214_Prava_rebenka_0013_novii_razmer"/>
          <p:cNvPicPr/>
          <p:nvPr/>
        </p:nvPicPr>
        <p:blipFill>
          <a:blip r:embed="rId3"/>
          <a:stretch/>
        </p:blipFill>
        <p:spPr>
          <a:xfrm>
            <a:off x="3059280" y="189000"/>
            <a:ext cx="3216240" cy="3311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ава-ребенка-стр3"/>
          <p:cNvPicPr/>
          <p:nvPr/>
        </p:nvPicPr>
        <p:blipFill>
          <a:blip r:embed="rId1"/>
          <a:stretch/>
        </p:blipFill>
        <p:spPr>
          <a:xfrm>
            <a:off x="0" y="-3240"/>
            <a:ext cx="5003640" cy="3409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69818344_pravo_14"/>
          <p:cNvPicPr/>
          <p:nvPr/>
        </p:nvPicPr>
        <p:blipFill>
          <a:blip r:embed="rId2"/>
          <a:stretch/>
        </p:blipFill>
        <p:spPr>
          <a:xfrm>
            <a:off x="2050920" y="3424320"/>
            <a:ext cx="4753080" cy="34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91969576_large_4979214_Prava_rebenka_0004_novii_razmer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2288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к ты думаешь достаточно ли прав у детей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5" descr="klub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522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Блиц опр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права челове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рава есть у теб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аточно ли прав у дете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рава ты считаешь главными для челове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ты думаешь, есть ли особые права у детей? Как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6:31:08Z</dcterms:created>
  <dc:creator>SamSung</dc:creator>
  <dc:description/>
  <dc:language>en-US</dc:language>
  <cp:lastModifiedBy>Учитель</cp:lastModifiedBy>
  <dcterms:modified xsi:type="dcterms:W3CDTF">2015-01-14T14:44:37Z</dcterms:modified>
  <cp:revision>7</cp:revision>
  <dc:subject/>
  <dc:title>Интеграция ЭОР в образовательную деятельность учителя в условиях реализации ФГОС</dc:title>
</cp:coreProperties>
</file>