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1.gif" ContentType="image/gif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25.jpeg" ContentType="image/jpeg"/>
  <Override PartName="/ppt/media/image50.jpeg" ContentType="image/jpeg"/>
  <Override PartName="/ppt/media/image64.jpeg" ContentType="image/jpeg"/>
  <Override PartName="/ppt/media/image38.jpeg" ContentType="image/jpeg"/>
  <Override PartName="/ppt/media/image72.jpeg" ContentType="image/jpeg"/>
  <Override PartName="/ppt/media/image45.jpeg" ContentType="image/jpeg"/>
  <Override PartName="/ppt/media/image71.jpeg" ContentType="image/jpeg"/>
  <Override PartName="/ppt/media/image44.jpeg" ContentType="image/jpeg"/>
  <Override PartName="/ppt/media/image73.gif" ContentType="image/gif"/>
  <Override PartName="/ppt/media/image66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69.jpeg" ContentType="image/jpeg"/>
  <Override PartName="/ppt/media/image68.jpeg" ContentType="image/jpeg"/>
  <Override PartName="/ppt/media/image19.jpeg" ContentType="image/jpeg"/>
  <Override PartName="/ppt/media/image5.png" ContentType="image/png"/>
  <Override PartName="/ppt/media/image39.jpeg" ContentType="image/jpeg"/>
  <Override PartName="/ppt/media/image2.gif" ContentType="image/gif"/>
  <Override PartName="/ppt/media/image63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1.jpeg" ContentType="image/jpeg"/>
  <Override PartName="/ppt/media/image11.jpeg" ContentType="image/jpeg"/>
  <Override PartName="/ppt/media/image67.gif" ContentType="image/gif"/>
  <Override PartName="/ppt/media/image28.jpeg" ContentType="image/jpeg"/>
  <Override PartName="/ppt/media/image22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4.gif" ContentType="image/gif"/>
  <Override PartName="/ppt/media/image33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6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E21-AF47-4DE1-994C-591913F2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E27-976B-49D1-8EC6-1DB2105B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CCA-F212-4EA7-9760-CFCD8EEA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814-4B76-4471-BA79-E34067B2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F6C-0A29-4D2D-9CA9-A1DE520D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BA3-89A5-4900-A2BC-91E8F161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1AB-9A1D-4552-95B1-61EC2C4B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EFB-BE4B-4EE5-B869-2ACF08F4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D51-19AA-4DEB-9770-A2073314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6AA-7529-42F9-90EB-50B9E4E2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A49-5CE1-4D4E-9587-2A567C19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370-7ED0-43DE-9C16-E2F51A42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93D6-C294-4BE2-A196-20D4A95C4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urman.ru/flora/data/1200065.shtml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1341360"/>
            <a:ext cx="787716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натные   растения</a:t>
            </a:r>
            <a:endParaRPr b="1" i="1" lang="en-US" sz="66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6" descr="a7c13d27ef3f93ff6e1f9c41f31c31c7"/>
          <p:cNvPicPr/>
          <p:nvPr/>
        </p:nvPicPr>
        <p:blipFill>
          <a:blip r:embed="rId1"/>
          <a:stretch/>
        </p:blipFill>
        <p:spPr>
          <a:xfrm>
            <a:off x="324000" y="4005360"/>
            <a:ext cx="2388960" cy="254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f08081c2554d7a5cae51e931e0ae4bee"/>
          <p:cNvPicPr/>
          <p:nvPr/>
        </p:nvPicPr>
        <p:blipFill>
          <a:blip r:embed="rId2"/>
          <a:stretch/>
        </p:blipFill>
        <p:spPr>
          <a:xfrm>
            <a:off x="4859280" y="479736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f456b8fa1a6da062dba3441acb28e989"/>
          <p:cNvPicPr/>
          <p:nvPr/>
        </p:nvPicPr>
        <p:blipFill>
          <a:blip r:embed="rId3"/>
          <a:stretch/>
        </p:blipFill>
        <p:spPr>
          <a:xfrm>
            <a:off x="6535800" y="4005360"/>
            <a:ext cx="2033640" cy="23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flowers23"/>
          <p:cNvPicPr/>
          <p:nvPr/>
        </p:nvPicPr>
        <p:blipFill>
          <a:blip r:embed="rId4"/>
          <a:stretch/>
        </p:blipFill>
        <p:spPr>
          <a:xfrm>
            <a:off x="2771640" y="5075280"/>
            <a:ext cx="1800360" cy="141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3952472c479a07a7a7c09e206ef7f9e4"/>
          <p:cNvPicPr/>
          <p:nvPr/>
        </p:nvPicPr>
        <p:blipFill>
          <a:blip r:embed="rId5"/>
          <a:stretch/>
        </p:blipFill>
        <p:spPr>
          <a:xfrm>
            <a:off x="2195640" y="2924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3952472c479a07a7a7c09e206ef7f9e4"/>
          <p:cNvPicPr/>
          <p:nvPr/>
        </p:nvPicPr>
        <p:blipFill>
          <a:blip r:embed="rId6"/>
          <a:stretch/>
        </p:blipFill>
        <p:spPr>
          <a:xfrm>
            <a:off x="800100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3952472c479a07a7a7c09e206ef7f9e4"/>
          <p:cNvPicPr/>
          <p:nvPr/>
        </p:nvPicPr>
        <p:blipFill>
          <a:blip r:embed="rId7"/>
          <a:stretch/>
        </p:blipFill>
        <p:spPr>
          <a:xfrm>
            <a:off x="250920" y="189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3952472c479a07a7a7c09e206ef7f9e4"/>
          <p:cNvPicPr/>
          <p:nvPr/>
        </p:nvPicPr>
        <p:blipFill>
          <a:blip r:embed="rId8"/>
          <a:stretch/>
        </p:blipFill>
        <p:spPr>
          <a:xfrm>
            <a:off x="7451640" y="2637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3952472c479a07a7a7c09e206ef7f9e4"/>
          <p:cNvPicPr/>
          <p:nvPr/>
        </p:nvPicPr>
        <p:blipFill>
          <a:blip r:embed="rId9"/>
          <a:stretch/>
        </p:blipFill>
        <p:spPr>
          <a:xfrm>
            <a:off x="414036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" descr="8612979c6a4473757a9dcdd956742584"/>
          <p:cNvPicPr/>
          <p:nvPr/>
        </p:nvPicPr>
        <p:blipFill>
          <a:blip r:embed="rId10"/>
          <a:stretch/>
        </p:blipFill>
        <p:spPr>
          <a:xfrm>
            <a:off x="5148360" y="422100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3" descr="e4404eced2f23a5fde3f48c7232c2b30"/>
          <p:cNvPicPr/>
          <p:nvPr/>
        </p:nvPicPr>
        <p:blipFill>
          <a:blip r:embed="rId11"/>
          <a:stretch/>
        </p:blipFill>
        <p:spPr>
          <a:xfrm>
            <a:off x="3952800" y="257184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4" descr="e4404eced2f23a5fde3f48c7232c2b30"/>
          <p:cNvPicPr/>
          <p:nvPr/>
        </p:nvPicPr>
        <p:blipFill>
          <a:blip r:embed="rId12"/>
          <a:stretch/>
        </p:blipFill>
        <p:spPr>
          <a:xfrm>
            <a:off x="395280" y="249228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5" descr="e4404eced2f23a5fde3f48c7232c2b30"/>
          <p:cNvPicPr/>
          <p:nvPr/>
        </p:nvPicPr>
        <p:blipFill>
          <a:blip r:embed="rId13"/>
          <a:stretch/>
        </p:blipFill>
        <p:spPr>
          <a:xfrm>
            <a:off x="5435640" y="126828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" descr="e4404eced2f23a5fde3f48c7232c2b30"/>
          <p:cNvPicPr/>
          <p:nvPr/>
        </p:nvPicPr>
        <p:blipFill>
          <a:blip r:embed="rId14"/>
          <a:stretch/>
        </p:blipFill>
        <p:spPr>
          <a:xfrm>
            <a:off x="5724360" y="2997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e4404eced2f23a5fde3f48c7232c2b30"/>
          <p:cNvPicPr/>
          <p:nvPr/>
        </p:nvPicPr>
        <p:blipFill>
          <a:blip r:embed="rId15"/>
          <a:stretch/>
        </p:blipFill>
        <p:spPr>
          <a:xfrm>
            <a:off x="6227640" y="40464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e4404eced2f23a5fde3f48c7232c2b30"/>
          <p:cNvPicPr/>
          <p:nvPr/>
        </p:nvPicPr>
        <p:blipFill>
          <a:blip r:embed="rId16"/>
          <a:stretch/>
        </p:blipFill>
        <p:spPr>
          <a:xfrm>
            <a:off x="248436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9" descr="e4404eced2f23a5fde3f48c7232c2b30"/>
          <p:cNvPicPr/>
          <p:nvPr/>
        </p:nvPicPr>
        <p:blipFill>
          <a:blip r:embed="rId17"/>
          <a:stretch/>
        </p:blipFill>
        <p:spPr>
          <a:xfrm>
            <a:off x="3952800" y="257184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e4404eced2f23a5fde3f48c7232c2b30"/>
          <p:cNvPicPr/>
          <p:nvPr/>
        </p:nvPicPr>
        <p:blipFill>
          <a:blip r:embed="rId18"/>
          <a:stretch/>
        </p:blipFill>
        <p:spPr>
          <a:xfrm>
            <a:off x="3059280" y="278136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1" descr="e4404eced2f23a5fde3f48c7232c2b30"/>
          <p:cNvPicPr/>
          <p:nvPr/>
        </p:nvPicPr>
        <p:blipFill>
          <a:blip r:embed="rId19"/>
          <a:stretch/>
        </p:blipFill>
        <p:spPr>
          <a:xfrm>
            <a:off x="3419640" y="3645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2" descr="e4404eced2f23a5fde3f48c7232c2b30"/>
          <p:cNvPicPr/>
          <p:nvPr/>
        </p:nvPicPr>
        <p:blipFill>
          <a:blip r:embed="rId20"/>
          <a:stretch/>
        </p:blipFill>
        <p:spPr>
          <a:xfrm>
            <a:off x="7905600" y="5013360"/>
            <a:ext cx="1238400" cy="1714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26"/>
          <p:cNvSpPr/>
          <p:nvPr/>
        </p:nvSpPr>
        <p:spPr>
          <a:xfrm>
            <a:off x="4119480" y="2873520"/>
            <a:ext cx="47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ьялова Н.А.,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ДОУ д/с №69 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2340000" y="260280"/>
            <a:ext cx="64198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имиопсис Кирка,  лягуш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04920" y="2151000"/>
            <a:ext cx="403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 луковицы доч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треловидные листо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се они в веснуш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похожи летом на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яг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925080" y="616572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click?url=http%3A%2F%2Fra"/>
          <p:cNvPicPr/>
          <p:nvPr/>
        </p:nvPicPr>
        <p:blipFill>
          <a:blip r:embed="rId1"/>
          <a:stretch/>
        </p:blipFill>
        <p:spPr>
          <a:xfrm>
            <a:off x="179280" y="1557360"/>
            <a:ext cx="3629160" cy="482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68eec9364b304ab6cc2c46cdd72d50c"/>
          <p:cNvPicPr/>
          <p:nvPr/>
        </p:nvPicPr>
        <p:blipFill>
          <a:blip r:embed="rId2"/>
          <a:stretch/>
        </p:blipFill>
        <p:spPr>
          <a:xfrm>
            <a:off x="7380360" y="4005360"/>
            <a:ext cx="1438200" cy="1917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6012000" y="333360"/>
            <a:ext cx="2504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мин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68000" y="609300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Аравия, Ин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lick?url=http%3A%2F%2Fflamber"/>
          <p:cNvPicPr/>
          <p:nvPr/>
        </p:nvPicPr>
        <p:blipFill>
          <a:blip r:embed="rId1"/>
          <a:stretch/>
        </p:blipFill>
        <p:spPr>
          <a:xfrm>
            <a:off x="1547640" y="907920"/>
            <a:ext cx="511344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5940360" y="333360"/>
            <a:ext cx="25527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игокактус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477080" y="6237360"/>
            <a:ext cx="73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влажные тропические леса Брази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95280" y="404640"/>
            <a:ext cx="3787920" cy="5540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lick?url=http%3A%2F%2Fhome-flowers"/>
          <p:cNvPicPr/>
          <p:nvPr/>
        </p:nvPicPr>
        <p:blipFill>
          <a:blip r:embed="rId2"/>
          <a:stretch/>
        </p:blipFill>
        <p:spPr>
          <a:xfrm>
            <a:off x="5651640" y="98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lick?url=http%3A%2F%2Fwww"/>
          <p:cNvPicPr/>
          <p:nvPr/>
        </p:nvPicPr>
        <p:blipFill>
          <a:blip r:embed="rId3"/>
          <a:stretch/>
        </p:blipFill>
        <p:spPr>
          <a:xfrm>
            <a:off x="5219640" y="353700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6443640" y="260280"/>
            <a:ext cx="24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тусы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410920" y="5445000"/>
            <a:ext cx="441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е страшны нам жар и з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пасаемся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23280" y="6237360"/>
            <a:ext cx="83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пустыни и полупустыни Африки и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179280" y="189000"/>
            <a:ext cx="5472360" cy="515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lick?url=http%3A%2F%2Fwww"/>
          <p:cNvPicPr/>
          <p:nvPr/>
        </p:nvPicPr>
        <p:blipFill>
          <a:blip r:embed="rId2"/>
          <a:stretch/>
        </p:blipFill>
        <p:spPr>
          <a:xfrm>
            <a:off x="5867280" y="1768320"/>
            <a:ext cx="3025800" cy="259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03fe4782275c10fe42fe4943ddf72d50"/>
          <p:cNvPicPr/>
          <p:nvPr/>
        </p:nvPicPr>
        <p:blipFill>
          <a:blip r:embed="rId3"/>
          <a:stretch/>
        </p:blipFill>
        <p:spPr>
          <a:xfrm>
            <a:off x="7956720" y="4508640"/>
            <a:ext cx="9428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5724360" y="260280"/>
            <a:ext cx="2733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мнелом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797440" y="3500280"/>
            <a:ext cx="31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 горы на паути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висают пау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елёные пу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360" y="6093000"/>
            <a:ext cx="41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Восточн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Дерновинка цветущей камнеломки супротивнолистной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557360"/>
            <a:ext cx="5540400" cy="377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6300720" y="189000"/>
            <a:ext cx="24098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мпанул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356000" y="609300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Ита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644360" y="3860640"/>
            <a:ext cx="426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Цветочный перезв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лышится со всех сторо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с окна, и с пол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ьётся песней долг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324000" y="3333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lick?url=http%3A%2F%2Fmyplants"/>
          <p:cNvPicPr/>
          <p:nvPr/>
        </p:nvPicPr>
        <p:blipFill>
          <a:blip r:embed="rId2"/>
          <a:stretch/>
        </p:blipFill>
        <p:spPr>
          <a:xfrm>
            <a:off x="5580000" y="1074600"/>
            <a:ext cx="2879640" cy="212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click?url=http%3A%2F%2Fchihua1"/>
          <p:cNvPicPr/>
          <p:nvPr/>
        </p:nvPicPr>
        <p:blipFill>
          <a:blip r:embed="rId3"/>
          <a:stretch/>
        </p:blipFill>
        <p:spPr>
          <a:xfrm>
            <a:off x="468360" y="380376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6588000" y="260280"/>
            <a:ext cx="15526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ив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428720" y="609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ме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lick?url=http%3A%2F%2Fphotoregion"/>
          <p:cNvPicPr/>
          <p:nvPr/>
        </p:nvPicPr>
        <p:blipFill>
          <a:blip r:embed="rId1"/>
          <a:stretch/>
        </p:blipFill>
        <p:spPr>
          <a:xfrm>
            <a:off x="468360" y="1052640"/>
            <a:ext cx="6192720" cy="464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ick?url=http%3A%2F%2Fwww"/>
          <p:cNvPicPr/>
          <p:nvPr/>
        </p:nvPicPr>
        <p:blipFill>
          <a:blip r:embed="rId2"/>
          <a:stretch/>
        </p:blipFill>
        <p:spPr>
          <a:xfrm>
            <a:off x="6948360" y="3357720"/>
            <a:ext cx="186084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4788000" y="404640"/>
            <a:ext cx="4000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косовая пальм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342600" y="6165720"/>
            <a:ext cx="55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Родина – тропики   Юго – Восточной 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click?url=http%3A%2F%2Foml"/>
          <p:cNvPicPr/>
          <p:nvPr/>
        </p:nvPicPr>
        <p:blipFill>
          <a:blip r:embed="rId1"/>
          <a:stretch/>
        </p:blipFill>
        <p:spPr>
          <a:xfrm>
            <a:off x="324000" y="620640"/>
            <a:ext cx="41083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4932360" y="260280"/>
            <a:ext cx="3772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леус, крапив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364000" y="61657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остров Я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24000" y="981000"/>
            <a:ext cx="5760720" cy="4322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lick?url=http%3A%2F%2Ft"/>
          <p:cNvPicPr/>
          <p:nvPr/>
        </p:nvPicPr>
        <p:blipFill>
          <a:blip r:embed="rId2"/>
          <a:stretch/>
        </p:blipFill>
        <p:spPr>
          <a:xfrm>
            <a:off x="6372360" y="2565360"/>
            <a:ext cx="2558880" cy="3237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5003640" y="333360"/>
            <a:ext cx="37148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фейное дерево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436360" y="623736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Эфио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lick?url=http%3A%2F%2Fweb"/>
          <p:cNvPicPr/>
          <p:nvPr/>
        </p:nvPicPr>
        <p:blipFill>
          <a:blip r:embed="rId1"/>
          <a:stretch/>
        </p:blipFill>
        <p:spPr>
          <a:xfrm>
            <a:off x="5351400" y="2060640"/>
            <a:ext cx="3083040" cy="351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click?url=http%3A%2F%2Fwww"/>
          <p:cNvPicPr/>
          <p:nvPr/>
        </p:nvPicPr>
        <p:blipFill>
          <a:blip r:embed="rId2"/>
          <a:stretch/>
        </p:blipFill>
        <p:spPr>
          <a:xfrm>
            <a:off x="539640" y="765000"/>
            <a:ext cx="3646440" cy="554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974520" y="3068640"/>
            <a:ext cx="309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елёное ди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угом краси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пруго и ту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ёстко и мясис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гладко и кол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ерёдке метё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5280" y="5445000"/>
            <a:ext cx="85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одина – пустыни центральных районов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огда называют столетником. В комнатах дер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рликовые аг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6948360" y="333360"/>
            <a:ext cx="149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гав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" name="Picture 14" descr="click?url=http%3A%2F%2Fwww"/>
          <p:cNvPicPr/>
          <p:nvPr/>
        </p:nvPicPr>
        <p:blipFill>
          <a:blip r:embed="rId1"/>
          <a:stretch/>
        </p:blipFill>
        <p:spPr>
          <a:xfrm>
            <a:off x="4643280" y="1916280"/>
            <a:ext cx="3996000" cy="3044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agava"/>
          <p:cNvPicPr/>
          <p:nvPr/>
        </p:nvPicPr>
        <p:blipFill>
          <a:blip r:embed="rId2"/>
          <a:stretch/>
        </p:blipFill>
        <p:spPr>
          <a:xfrm>
            <a:off x="468360" y="260280"/>
            <a:ext cx="288144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6372360" y="260280"/>
            <a:ext cx="1409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мон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360" y="616572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24000" y="404640"/>
            <a:ext cx="4221000" cy="561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lick?url=http%3A%2F%2Fpressa"/>
          <p:cNvPicPr/>
          <p:nvPr/>
        </p:nvPicPr>
        <p:blipFill>
          <a:blip r:embed="rId2"/>
          <a:stretch/>
        </p:blipFill>
        <p:spPr>
          <a:xfrm>
            <a:off x="4932360" y="2997360"/>
            <a:ext cx="383544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6443640" y="333360"/>
            <a:ext cx="2247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нстер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09120" y="623736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ки Центральной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click?url=http%3A%2F%2Falbedo"/>
          <p:cNvPicPr/>
          <p:nvPr/>
        </p:nvPicPr>
        <p:blipFill>
          <a:blip r:embed="rId1"/>
          <a:stretch/>
        </p:blipFill>
        <p:spPr>
          <a:xfrm>
            <a:off x="5775480" y="2060640"/>
            <a:ext cx="2705040" cy="3597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ick?url=http%3A%2F%2Fwww"/>
          <p:cNvPicPr/>
          <p:nvPr/>
        </p:nvPicPr>
        <p:blipFill>
          <a:blip r:embed="rId2"/>
          <a:stretch/>
        </p:blipFill>
        <p:spPr>
          <a:xfrm>
            <a:off x="468360" y="333360"/>
            <a:ext cx="4545000" cy="554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6372360" y="333360"/>
            <a:ext cx="2409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леандр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364360" y="61657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Мал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95280" y="836640"/>
            <a:ext cx="5796000" cy="4348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click?url=http%3A%2F%2Flarulya"/>
          <p:cNvPicPr/>
          <p:nvPr/>
        </p:nvPicPr>
        <p:blipFill>
          <a:blip r:embed="rId2"/>
          <a:stretch/>
        </p:blipFill>
        <p:spPr>
          <a:xfrm>
            <a:off x="6588000" y="3716280"/>
            <a:ext cx="2384640" cy="20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788000" y="189000"/>
            <a:ext cx="4190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льма финикова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50560" y="616572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Северная Африка, Ассам,  Мьянма, Таил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179280" y="404640"/>
            <a:ext cx="4129200" cy="568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click?url=http%3A%2F%2Fkurmanof"/>
          <p:cNvPicPr/>
          <p:nvPr/>
        </p:nvPicPr>
        <p:blipFill>
          <a:blip r:embed="rId2"/>
          <a:stretch/>
        </p:blipFill>
        <p:spPr>
          <a:xfrm>
            <a:off x="4427640" y="1989000"/>
            <a:ext cx="4340160" cy="325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4427640" y="333360"/>
            <a:ext cx="4343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ларгония,  герань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717080" y="61657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64360" y="2565360"/>
            <a:ext cx="346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уст  - ок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балко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ист – пуш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душис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Он сборча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каёмча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А цветы на окн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ловно шапка в ог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click?url=http%3A%2F%2Frukh"/>
          <p:cNvPicPr/>
          <p:nvPr/>
        </p:nvPicPr>
        <p:blipFill>
          <a:blip r:embed="rId1"/>
          <a:stretch/>
        </p:blipFill>
        <p:spPr>
          <a:xfrm>
            <a:off x="324000" y="836640"/>
            <a:ext cx="4222440" cy="561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6659640" y="333360"/>
            <a:ext cx="1323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ющ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068000" y="42210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исток в орнаментах найдё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Он чёток и пригож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теной венок не оторвё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адонью не смахнё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835640" y="6165720"/>
            <a:ext cx="68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Европа, Северная Африка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0" y="476280"/>
            <a:ext cx="3983040" cy="5613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lick?url=http%3A%2F%2Fflorall"/>
          <p:cNvPicPr/>
          <p:nvPr/>
        </p:nvPicPr>
        <p:blipFill>
          <a:blip r:embed="rId2"/>
          <a:stretch/>
        </p:blipFill>
        <p:spPr>
          <a:xfrm>
            <a:off x="5076720" y="1197000"/>
            <a:ext cx="3114720" cy="2660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2843280" y="260280"/>
            <a:ext cx="5676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нсевиера, щучий хвост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085440" y="3429000"/>
            <a:ext cx="264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Щучий 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ошёл в ро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е в пру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е в речк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а окне у пе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717080" y="61657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click?url=http%3A%2F%2Frh"/>
          <p:cNvPicPr/>
          <p:nvPr/>
        </p:nvPicPr>
        <p:blipFill>
          <a:blip r:embed="rId1"/>
          <a:stretch/>
        </p:blipFill>
        <p:spPr>
          <a:xfrm>
            <a:off x="395280" y="1125360"/>
            <a:ext cx="4059360" cy="539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564000" y="260280"/>
            <a:ext cx="538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нполия, узамбарская фиал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71280" y="6165720"/>
            <a:ext cx="78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горные местности тропической Аф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click?url=http%3A%2F%2Fviolet"/>
          <p:cNvPicPr/>
          <p:nvPr/>
        </p:nvPicPr>
        <p:blipFill>
          <a:blip r:embed="rId1"/>
          <a:stretch/>
        </p:blipFill>
        <p:spPr>
          <a:xfrm>
            <a:off x="539640" y="36450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click?url=http%3A%2F%2Fwww"/>
          <p:cNvPicPr/>
          <p:nvPr/>
        </p:nvPicPr>
        <p:blipFill>
          <a:blip r:embed="rId2"/>
          <a:stretch/>
        </p:blipFill>
        <p:spPr>
          <a:xfrm>
            <a:off x="5292720" y="1052640"/>
            <a:ext cx="3368520" cy="2381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click?url=http%3A%2F%2Fsvet-violet"/>
          <p:cNvPicPr/>
          <p:nvPr/>
        </p:nvPicPr>
        <p:blipFill>
          <a:blip r:embed="rId3"/>
          <a:stretch/>
        </p:blipFill>
        <p:spPr>
          <a:xfrm>
            <a:off x="5364000" y="3573360"/>
            <a:ext cx="3332160" cy="249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click?url=http%3A%2F%2Fwww"/>
          <p:cNvPicPr/>
          <p:nvPr/>
        </p:nvPicPr>
        <p:blipFill>
          <a:blip r:embed="rId4"/>
          <a:stretch/>
        </p:blipFill>
        <p:spPr>
          <a:xfrm>
            <a:off x="539640" y="98100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5364000" y="260280"/>
            <a:ext cx="3267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адесканц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5436000" y="602136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Браз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click?url=http%3A%2F%2Fwww"/>
          <p:cNvPicPr/>
          <p:nvPr/>
        </p:nvPicPr>
        <p:blipFill>
          <a:blip r:embed="rId1"/>
          <a:stretch/>
        </p:blipFill>
        <p:spPr>
          <a:xfrm>
            <a:off x="324000" y="476280"/>
            <a:ext cx="4211640" cy="6045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click?url=http%3A%2F%2Fsvet-violet"/>
          <p:cNvPicPr/>
          <p:nvPr/>
        </p:nvPicPr>
        <p:blipFill>
          <a:blip r:embed="rId2"/>
          <a:stretch/>
        </p:blipFill>
        <p:spPr>
          <a:xfrm>
            <a:off x="4932360" y="1773360"/>
            <a:ext cx="3979800" cy="298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6443640" y="404640"/>
            <a:ext cx="160992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кс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202360" y="1647720"/>
            <a:ext cx="32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ышла балер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Блузка- как ряб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Юбочка лило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ента васильк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ожки как точё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уфли золочё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410920" y="616572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Центральная и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468360" y="476280"/>
            <a:ext cx="4005360" cy="532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646bef21f1ff0f15df50ec56ac39102c"/>
          <p:cNvPicPr/>
          <p:nvPr/>
        </p:nvPicPr>
        <p:blipFill>
          <a:blip r:embed="rId2"/>
          <a:stretch/>
        </p:blipFill>
        <p:spPr>
          <a:xfrm>
            <a:off x="6924600" y="4076640"/>
            <a:ext cx="1638360" cy="1968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4717800" y="4005360"/>
            <a:ext cx="419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иснет огненный цвето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олокол без зво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онкий лапчатый лис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идно взят у клё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058920" y="609300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мерика, Браз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1116000" y="189000"/>
            <a:ext cx="77151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бутилон, комнатный клён, канатик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Picture 12" descr="img14213_0"/>
          <p:cNvPicPr/>
          <p:nvPr/>
        </p:nvPicPr>
        <p:blipFill>
          <a:blip r:embed="rId1"/>
          <a:stretch/>
        </p:blipFill>
        <p:spPr>
          <a:xfrm>
            <a:off x="395280" y="1052640"/>
            <a:ext cx="3402000" cy="453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click?url=http%3A%2F%2Fwww"/>
          <p:cNvPicPr/>
          <p:nvPr/>
        </p:nvPicPr>
        <p:blipFill>
          <a:blip r:embed="rId2"/>
          <a:stretch/>
        </p:blipFill>
        <p:spPr>
          <a:xfrm>
            <a:off x="5219640" y="1268280"/>
            <a:ext cx="3332160" cy="2498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5651640" y="260280"/>
            <a:ext cx="2895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лорофитум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572720" y="61657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068720" y="4221000"/>
            <a:ext cx="473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зеточки – на веточ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Цветочки – бел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Хохлатенький, лохмат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елёный этот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4716360" y="1268280"/>
            <a:ext cx="3745080" cy="263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click?url=http%3A%2F%2Fs"/>
          <p:cNvPicPr/>
          <p:nvPr/>
        </p:nvPicPr>
        <p:blipFill>
          <a:blip r:embed="rId2"/>
          <a:stretch/>
        </p:blipFill>
        <p:spPr>
          <a:xfrm>
            <a:off x="250920" y="907920"/>
            <a:ext cx="3606840" cy="4821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6372360" y="476280"/>
            <a:ext cx="217152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мен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924000" y="609300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Малая Азия и Гр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click?url=http%3A%2F%2Feltom-com"/>
          <p:cNvPicPr/>
          <p:nvPr/>
        </p:nvPicPr>
        <p:blipFill>
          <a:blip r:embed="rId1"/>
          <a:stretch/>
        </p:blipFill>
        <p:spPr>
          <a:xfrm>
            <a:off x="4356000" y="1484280"/>
            <a:ext cx="4175280" cy="394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click?url=http%3A%2F%2Fphoto1"/>
          <p:cNvPicPr/>
          <p:nvPr/>
        </p:nvPicPr>
        <p:blipFill>
          <a:blip r:embed="rId2"/>
          <a:stretch/>
        </p:blipFill>
        <p:spPr>
          <a:xfrm>
            <a:off x="395280" y="54936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click?url=http%3A%2F%2Fthach-tour"/>
          <p:cNvPicPr/>
          <p:nvPr/>
        </p:nvPicPr>
        <p:blipFill>
          <a:blip r:embed="rId3"/>
          <a:stretch/>
        </p:blipFill>
        <p:spPr>
          <a:xfrm>
            <a:off x="324000" y="394812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3995640" y="2997360"/>
            <a:ext cx="12956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ец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4" name="Picture 6" descr="ea13c9ddbd445a49cec90ee199af7d18"/>
          <p:cNvPicPr/>
          <p:nvPr/>
        </p:nvPicPr>
        <p:blipFill>
          <a:blip r:embed="rId1"/>
          <a:stretch/>
        </p:blipFill>
        <p:spPr>
          <a:xfrm>
            <a:off x="3635280" y="476280"/>
            <a:ext cx="220500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10"/>
          <p:cNvSpPr txBox="1"/>
          <p:nvPr/>
        </p:nvSpPr>
        <p:spPr>
          <a:xfrm>
            <a:off x="6948360" y="333360"/>
            <a:ext cx="15051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зал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357080" y="4365720"/>
            <a:ext cx="460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олотисто –жёлтым заре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ад мерцанием озё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однимается аз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 подножья синих 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86800" y="6040440"/>
            <a:ext cx="84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ие области от Японии, Китая 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евер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click?url=http%3A%2F%2Fwww"/>
          <p:cNvPicPr/>
          <p:nvPr/>
        </p:nvPicPr>
        <p:blipFill>
          <a:blip r:embed="rId1"/>
          <a:stretch/>
        </p:blipFill>
        <p:spPr>
          <a:xfrm>
            <a:off x="179280" y="404640"/>
            <a:ext cx="5148360" cy="3861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click?url=http%3A%2F%2Fwww"/>
          <p:cNvPicPr/>
          <p:nvPr/>
        </p:nvPicPr>
        <p:blipFill>
          <a:blip r:embed="rId2"/>
          <a:stretch/>
        </p:blipFill>
        <p:spPr>
          <a:xfrm>
            <a:off x="6227640" y="1197000"/>
            <a:ext cx="2664000" cy="1776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6227640" y="260280"/>
            <a:ext cx="24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пидистр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221800" y="1557360"/>
            <a:ext cx="333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 банке т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 одном не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 тени зелене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а солнце блед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826920" y="623736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Япо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5148360" y="3357720"/>
            <a:ext cx="3725640" cy="33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129"/>
          <p:cNvPicPr/>
          <p:nvPr/>
        </p:nvPicPr>
        <p:blipFill>
          <a:blip r:embed="rId2"/>
          <a:stretch/>
        </p:blipFill>
        <p:spPr>
          <a:xfrm>
            <a:off x="2987640" y="3141720"/>
            <a:ext cx="1911240" cy="252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lick?url=http%3A%2F%2Fa"/>
          <p:cNvPicPr/>
          <p:nvPr/>
        </p:nvPicPr>
        <p:blipFill>
          <a:blip r:embed="rId3"/>
          <a:stretch/>
        </p:blipFill>
        <p:spPr>
          <a:xfrm>
            <a:off x="395280" y="549360"/>
            <a:ext cx="24368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2771640" y="260280"/>
            <a:ext cx="60674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льзамин, Ванька мокрый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46760" y="5967360"/>
            <a:ext cx="85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ие и субтропические леса Юж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Америки,  Азии, Африки, а также в горных райо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940720" y="4221000"/>
            <a:ext cx="28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анюша Ванё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убашка огонё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убашка кумач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оси, да не пла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click?url=http%3A%2F%2Fmicro-mir"/>
          <p:cNvPicPr/>
          <p:nvPr/>
        </p:nvPicPr>
        <p:blipFill>
          <a:blip r:embed="rId1"/>
          <a:stretch/>
        </p:blipFill>
        <p:spPr>
          <a:xfrm>
            <a:off x="324000" y="1467000"/>
            <a:ext cx="5256000" cy="394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click?url=http%3A%2F%2Flori"/>
          <p:cNvPicPr/>
          <p:nvPr/>
        </p:nvPicPr>
        <p:blipFill>
          <a:blip r:embed="rId2"/>
          <a:stretch/>
        </p:blipFill>
        <p:spPr>
          <a:xfrm>
            <a:off x="5940360" y="177336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835280" y="260280"/>
            <a:ext cx="712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иофиллюм, каланхое, доктор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998160" y="61657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Мадагаск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Фотография Каланхое микс Открыть в полный экран"/>
          <p:cNvPicPr/>
          <p:nvPr/>
        </p:nvPicPr>
        <p:blipFill>
          <a:blip r:embed="rId1"/>
          <a:stretch/>
        </p:blipFill>
        <p:spPr>
          <a:xfrm>
            <a:off x="324000" y="1268280"/>
            <a:ext cx="5688000" cy="427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lick?url=http%3A%2F%2Fpolyshop"/>
          <p:cNvPicPr/>
          <p:nvPr/>
        </p:nvPicPr>
        <p:blipFill>
          <a:blip r:embed="rId2"/>
          <a:stretch/>
        </p:blipFill>
        <p:spPr>
          <a:xfrm>
            <a:off x="6516720" y="1052640"/>
            <a:ext cx="2228760" cy="2228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Каланхое Дайгремонта"/>
          <p:cNvPicPr/>
          <p:nvPr/>
        </p:nvPicPr>
        <p:blipFill>
          <a:blip r:embed="rId3"/>
          <a:stretch/>
        </p:blipFill>
        <p:spPr>
          <a:xfrm>
            <a:off x="6588000" y="3645000"/>
            <a:ext cx="22338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6300720" y="333360"/>
            <a:ext cx="1933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бискус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501080" y="3933720"/>
            <a:ext cx="435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итайской розой на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Цветок любви и стр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згляни на красоту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будь про все нап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634920" y="6237360"/>
            <a:ext cx="52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 Юго – Восточн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click?url=http%3A%2F%2Fdemiart"/>
          <p:cNvPicPr/>
          <p:nvPr/>
        </p:nvPicPr>
        <p:blipFill>
          <a:blip r:embed="rId1"/>
          <a:stretch/>
        </p:blipFill>
        <p:spPr>
          <a:xfrm>
            <a:off x="179280" y="3524400"/>
            <a:ext cx="3961080" cy="263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lick?url=http%3A%2F%2Fsim"/>
          <p:cNvPicPr/>
          <p:nvPr/>
        </p:nvPicPr>
        <p:blipFill>
          <a:blip r:embed="rId2"/>
          <a:stretch/>
        </p:blipFill>
        <p:spPr>
          <a:xfrm>
            <a:off x="250920" y="26028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click?url=http%3A%2F%2Fjul-shar"/>
          <p:cNvPicPr/>
          <p:nvPr/>
        </p:nvPicPr>
        <p:blipFill>
          <a:blip r:embed="rId3"/>
          <a:stretch/>
        </p:blipFill>
        <p:spPr>
          <a:xfrm>
            <a:off x="6156360" y="1197000"/>
            <a:ext cx="2589120" cy="2589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5940360" y="333360"/>
            <a:ext cx="2278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ксин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348000" y="602136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ая Браз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lick?url=http%3A%2F%2Fwww"/>
          <p:cNvPicPr/>
          <p:nvPr/>
        </p:nvPicPr>
        <p:blipFill>
          <a:blip r:embed="rId1"/>
          <a:stretch/>
        </p:blipFill>
        <p:spPr>
          <a:xfrm>
            <a:off x="250920" y="870120"/>
            <a:ext cx="2736720" cy="183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click?url=http%3A%2F%2Fwww"/>
          <p:cNvPicPr/>
          <p:nvPr/>
        </p:nvPicPr>
        <p:blipFill>
          <a:blip r:embed="rId2"/>
          <a:stretch/>
        </p:blipFill>
        <p:spPr>
          <a:xfrm>
            <a:off x="250920" y="2924280"/>
            <a:ext cx="2760480" cy="367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lick?url=http%3A%2F%2Frh"/>
          <p:cNvPicPr/>
          <p:nvPr/>
        </p:nvPicPr>
        <p:blipFill>
          <a:blip r:embed="rId3"/>
          <a:stretch/>
        </p:blipFill>
        <p:spPr>
          <a:xfrm>
            <a:off x="3564000" y="2205000"/>
            <a:ext cx="5400720" cy="2884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7:04:46Z</dcterms:created>
  <dc:creator>Берюхова</dc:creator>
  <dc:description/>
  <dc:language>en-US</dc:language>
  <cp:lastModifiedBy>Туяна</cp:lastModifiedBy>
  <dcterms:modified xsi:type="dcterms:W3CDTF">2014-11-24T13:33:54Z</dcterms:modified>
  <cp:revision>21</cp:revision>
  <dc:subject/>
  <dc:title>Слайд 1</dc:title>
</cp:coreProperties>
</file>