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C57-78DD-418B-A98E-9E4B4BF3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2650-F7AA-4E9B-9B52-CFCC8EB7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5DD-A9A1-4E92-A167-D91876BE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AF40-92BA-489C-A6D0-C298A728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4EC0-0181-4666-BD80-4E43575E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06D9-6A76-4491-B9DB-2BD33FBD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B59B-7461-4F88-82FD-52AC0773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FE3-6633-4B9A-BCF1-45FB6069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067-AB03-44F9-A984-D5051437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553-F893-4A63-95C9-40955574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B65-5EF5-48C5-B53D-3CA19FF0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A4B-00AF-46DB-8258-1936C3AF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AED0-4CAD-46DE-BEB6-F60AF3F8C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75kids_38photo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-380880" y="0"/>
            <a:ext cx="9829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837720" y="533160"/>
            <a:ext cx="7696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Муниципальное бюджетное дошкольное 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детский сад общеразвивающего вида №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лан по самообразов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а тему: «Развитие связной речи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5 г.ж. через исполь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ультипликационных фильм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Воспитатель ср. гр.: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Крапивкина Ю.В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г. Ангар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2013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одбор м\ф подходящих для перес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росмотр м\ф «Мама для мамонтенка», «Крошка Енот»; составление описательного рассказа о своей ма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Консультация «О чем этот мультфильм? - учим детей пересказ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пр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оздание игр по развитию речи с использование м\ф (прим. «что встретилось в м\ф со звуком «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росмотр м\ф «Репка», «Теремок», «Кто сказал мяу?» - организовать театральные игры по этим сказ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Конкурс «Мой любимый мультфильм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(рисунок и рассказ ребенка по не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Итоговое анке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росмотр м\ф «Кот Леопольд – Каникулы», «Лунтик» (196 серия), «Капитошка» беседа о весне, предстоящем л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резентация «Что могут мультики, что можете 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imes New Roman"/>
              </a:rPr>
              <a:t>ПЕДАГОГИ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ПА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Красный ,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желтый,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зелен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Составила: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П квалификационной катег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МБДОУ №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Крапивкина Юлия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г.Ангарск 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447560" y="685800"/>
            <a:ext cx="6476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Тема: «Развитие связной речи детей 5 г.ж. через исполь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мультипликационных фильмов и маке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«Зеленый, Желтый, Красны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Вид проекта: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познавательно рече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Продолжительность: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краткосрочный, групповой (с 08.04.2013г. по 12.04.2013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Участники проекта: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дети средней группы, воспитатели, 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Образовательная деятельность: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познавательная деятельность, речевое развитие, продуктивная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6781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Актуальность тем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Проблема профилактики детского дорожно-транспортного травматизма обусловлена ростом дорожно-транспортных происшествий, в которых гибнут и получают травмы дети. В настоящее время во всем мире ДТП - основная причина смертности и инвалидности людей в возрасте от 3 до 35 лет. Именно в дошкольном возрасте закладывается фундамент жизненных ориентировок в окружающем, и всё, что ребёнок усвоит в детском саду, прочно останется у него навсегда. Поэтому основная задача - обучить детей дорожной грамоте, привить навыки безопасного поведения на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Цель проек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Сформировать навыки безопасного поведения детей на дороге и в транспорте, сознательного отношения к соблюдению правил дорож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37720" y="685800"/>
            <a:ext cx="67820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Совершенствовать ориентировку в окружающем 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Знакомить детей с трудом водителя некоторых видов транс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Расширять знания детей об улице, дороге, перекрестке. Знакомить с понятием: «пешеход», «наземный (подземный) переход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Учить детей различать элементы дороги: разделительная полоса, пешеходный переход, полоса движения, остановка общественного транс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Учить выполнять требования сигналов светофора: красный (стой), красный и желтый одновременно (скоро загорится зеленый); зеленый (иди), мигающий зеленый и желтый (скоро загорится красны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Учить детей составлять небольшой рассказ о дорожной ситуации: как мы ехали в детский сад на легковом автомобиле, трамва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Учить изображать на рисунке сигналы светоф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Учить определять, кто правильно выполнил правила, кто их наруш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Знакомить детей с элементарными правилами дорожного движения: места, где можно ходить пешеходам, как переходить проезжую ч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37720" y="533520"/>
            <a:ext cx="7162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Предполагаемый результ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 По данной теме в группе изготовлен макет с дорожной разметкой для игр с машинами, комплект дорожных зн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 Подобраны мультипликационные фильмы, иллюстрации к ситуациям на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к окончанию проекта ребёнок долж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 знать алгоритм перехода дороги « остановись – посмотри – перейд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 уметь выбрать способ перехода проезжей части дороги, различать пешеходные переходы (наземный, надземный, подземный, регулируемый, нерегулируемый) и средства регулирования дорожного движения (светофор, регулировщик), а так же дорожные зна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 знать правила перехода проезжей части по регулируемому и нерегулируемому пешеходным перех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14040" y="456840"/>
            <a:ext cx="75438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Предварительная рабо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Чтение художественной литературы (А.Иванов «Неразлучные друзья», Н.Носов «Приключения Незнайк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 рассматривание иллюстраций разных ситуаций на дороге, решение проблемных ситу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 просмотр м\ф «Зай и Чик», «Смешарики» (подборка серий по данной тем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 познакомить с новыми подвижными иг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Работа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(реализация содержания образовательных област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cc"/>
                </a:solidFill>
                <a:uFillTx/>
                <a:latin typeface="Times New Roman"/>
              </a:rPr>
              <a:t>Область «Позн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1.«Осторожно дорог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Цель: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Учить детей различать элементы дороги: разделительная полоса, пешеходный переход, полоса движения, остановка общественного транспорта. Учить выполнять требования сигналов светофора: красный (стой), красный и желтый одновременно (скоро загорится зеленый); зеленый (иди), мигающий зеленый и желтый (скоро загорится красны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90360" y="762120"/>
            <a:ext cx="7086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Область «Коммуникац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1.Беседа по сюжету м\ф «Смешарики «Пляшущие человечки», «Зебры вгород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Цель: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учить детей выразительно пересказывать увиденное, составлять небольшой рассказ о дорожной ситуации. Учить определять, кто правильно выполнил правила, кто их нарушил. Учить изображать на рисунке сигналы светоф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2. «Красный, желтый, зелен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акрепить знания детей о светофоре, о его сигналах; систематизировать знания детей о дорожных знаках, об их значении; развивать наблюдательность, зрительную память; развивать умение отвечать полным от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4" descr="DSCN2147.JPG"/>
          <p:cNvPicPr/>
          <p:nvPr/>
        </p:nvPicPr>
        <p:blipFill>
          <a:blip r:embed="rId2"/>
          <a:stretch/>
        </p:blipFill>
        <p:spPr>
          <a:xfrm>
            <a:off x="990720" y="304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DSCN2149.JPG"/>
          <p:cNvPicPr/>
          <p:nvPr/>
        </p:nvPicPr>
        <p:blipFill>
          <a:blip r:embed="rId3"/>
          <a:stretch/>
        </p:blipFill>
        <p:spPr>
          <a:xfrm>
            <a:off x="838080" y="3276720"/>
            <a:ext cx="3767400" cy="28256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DSCN2151.JPG"/>
          <p:cNvPicPr/>
          <p:nvPr/>
        </p:nvPicPr>
        <p:blipFill>
          <a:blip r:embed="rId4"/>
          <a:stretch/>
        </p:blipFill>
        <p:spPr>
          <a:xfrm>
            <a:off x="4800600" y="380880"/>
            <a:ext cx="3665520" cy="27496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9" descr="DSCN2162.JPG"/>
          <p:cNvPicPr/>
          <p:nvPr/>
        </p:nvPicPr>
        <p:blipFill>
          <a:blip r:embed="rId5"/>
          <a:stretch/>
        </p:blipFill>
        <p:spPr>
          <a:xfrm>
            <a:off x="4800600" y="32767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DSCN2167.JPG"/>
          <p:cNvPicPr/>
          <p:nvPr/>
        </p:nvPicPr>
        <p:blipFill>
          <a:blip r:embed="rId2"/>
          <a:stretch/>
        </p:blipFill>
        <p:spPr>
          <a:xfrm>
            <a:off x="533520" y="380880"/>
            <a:ext cx="3843360" cy="2882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DSCN2172.JPG"/>
          <p:cNvPicPr/>
          <p:nvPr/>
        </p:nvPicPr>
        <p:blipFill>
          <a:blip r:embed="rId3"/>
          <a:stretch/>
        </p:blipFill>
        <p:spPr>
          <a:xfrm>
            <a:off x="4572000" y="380880"/>
            <a:ext cx="3919680" cy="29401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DSCN2174.JPG"/>
          <p:cNvPicPr/>
          <p:nvPr/>
        </p:nvPicPr>
        <p:blipFill>
          <a:blip r:embed="rId4"/>
          <a:stretch/>
        </p:blipFill>
        <p:spPr>
          <a:xfrm>
            <a:off x="533520" y="3505320"/>
            <a:ext cx="3878280" cy="2908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7" descr="DSCN2175.JPG"/>
          <p:cNvPicPr/>
          <p:nvPr/>
        </p:nvPicPr>
        <p:blipFill>
          <a:blip r:embed="rId5"/>
          <a:stretch/>
        </p:blipFill>
        <p:spPr>
          <a:xfrm>
            <a:off x="4572000" y="3505320"/>
            <a:ext cx="3860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14040" y="1066680"/>
            <a:ext cx="7467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Актуа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В наше время существует множество факторов воспитания, и они весьма разнообразны. Мультфильм как один из факторов медиа-среды оказывает на ребенка влияние, оно не всегда понятно, поскольку просмотр мультфильмов зачастую неконтролируем и нецеленаправлен со стороны взросл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DSCN2177.JPG"/>
          <p:cNvPicPr/>
          <p:nvPr/>
        </p:nvPicPr>
        <p:blipFill>
          <a:blip r:embed="rId2"/>
          <a:stretch/>
        </p:blipFill>
        <p:spPr>
          <a:xfrm>
            <a:off x="3657600" y="457200"/>
            <a:ext cx="4782960" cy="35877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DSCN2180.JPG"/>
          <p:cNvPicPr/>
          <p:nvPr/>
        </p:nvPicPr>
        <p:blipFill>
          <a:blip r:embed="rId3"/>
          <a:stretch/>
        </p:blipFill>
        <p:spPr>
          <a:xfrm>
            <a:off x="1066680" y="2895480"/>
            <a:ext cx="46818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37720" y="685800"/>
            <a:ext cx="7543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cc"/>
                </a:solidFill>
                <a:uFillTx/>
                <a:latin typeface="Times New Roman"/>
              </a:rPr>
              <a:t>Продуктивн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Лепка из пластилина «Машин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Цель: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 учить детей создавать пластическую композицию, лепить конструктивным способом. Развивать способность к формообразованию, воспитывать интерес к лепке выразительных образов по мотивам м\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Рисование «Смешарики на улиц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Цель: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учить детей рисовать любимых мультгероев, строить простую композицию, передавая характерные особенности персонажей. Совершенствовать технику рисования красками. Развивать чувство цвета и формы. Воспитывать интерес к творчеству, отражать в рисунках эстетические эмо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cc"/>
                </a:solidFill>
                <a:uFillTx/>
                <a:latin typeface="Times New Roman"/>
              </a:rPr>
              <a:t>Чтение художественной литературы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 А.Иванов «Неразлучные друзь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 Смешарики «Большие гонки», «Светоф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72392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cc"/>
                </a:solidFill>
                <a:uFillTx/>
                <a:latin typeface="Times New Roman"/>
              </a:rPr>
              <a:t>Область социализа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Дидактические игры: «Что будет, если…», «Угадай транспорт», «Играй да смека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cc"/>
                </a:solidFill>
                <a:uFillTx/>
                <a:latin typeface="Times New Roman"/>
              </a:rPr>
              <a:t>Физическая культура и здоровье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Подвижные игры:  «Необычный дорожный знак», «Собери светофор», «Светофор», «Сдаем на права шофера», «Такс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Развивающая с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 Рассматривание: иллюстрации по данной 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 Раскраски, трафар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Работа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 статья «Мультфильмы расскажут о правилах дорожного движени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 папка – передвижка «Внимание дорог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 составить подборку м\ф для семейного просмот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 составить подборку подвижных игр для использования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66680" y="609480"/>
            <a:ext cx="6858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Между тем мультфильмы облад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богатыми педагогическими возможност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Расширяют представления об окружающем мире, знакомят с новыми словами, явлениями, ситуац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Показывают примеры поведения, что способствует социализации, поскольку дети учатся подраж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Формируют оценочное отношение к миру, развитие мышления, понимание причинно-следственных связ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Развивают эстетический вкус, чувство юм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Помогают реализовать эмоциональные потре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Мультфильм –наиболее эффективный воспитатель от искусства и медиа-среды, поскольку сочетает в себе слово и картинку, т.е включает два органа восприятия: зрение и слух, а когда мы добавляем еще и совместный с ребенком анализ увиденного, мультфильм становиться мощным воспитательным инструментом и одним из авторитетных и эффективных наглядных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372600" cy="7391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95280" y="380880"/>
            <a:ext cx="6858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адач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Учить детей вести диалог поддерживать и начинать его, приобщая к правилам ведения диалога формулировать и задавать вопросы; строить ответ в соответствии с услыша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Учить детей выделять и называть предметы, их признаки, состояния, действия, соотносить объект речи с соответствующими описаниями. Учить выделять объект речи при описании, расширять высказывания описательного характера. Упражнять в составлении высказываний описательного характера, состоящих из 2—4 предложений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Учить детей  восстанавливать простые последовательности в знакомых произведениях (мультфильм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Учить детей составлять повествовательные высказывания путем изменения знакомых текстов: по аналогии, путем изменения или добавления отдельных эпизодов текста. Поощрять желание детей составлять собственные повествовательные высказы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75kids_38photo"/>
          <p:cNvPicPr/>
          <p:nvPr/>
        </p:nvPicPr>
        <p:blipFill>
          <a:blip r:embed="rId1"/>
          <a:stretch/>
        </p:blipFill>
        <p:spPr>
          <a:xfrm>
            <a:off x="-380880" y="-228600"/>
            <a:ext cx="9524880" cy="7391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47920" y="12193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Методы и при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бес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пере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сочинение (рассказывани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повтор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объяснение, указ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словесные упраж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вопро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рассказывание по сх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имит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дидактически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игры драмат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отгадывание загадок;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502080" y="324648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Метод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Изучение методической литературы: «Основная общеобразовательная программа дошкольного образования от рождения до школы» Н. Е. Веракса, Т. С. Комарова, М. А. Василье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«Программа воспитания и обучения в детском саду». М. А. Василье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«Проектный метод в деятельности дошкольного учреждения» Л. С. Киселева, Т.А. Данилина Т. С. Лаг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«Изобразительная деятельность в детском саду: планирование, конспекты занятий, методические рекомендации, средняя группа » ЛыковаИ.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«Родительское собрание в детском саду» Т. Н. Зе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«Проектная деятельность старших дошкольников» В. Н. Журавлё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«Воспитатель № 10\2012» - Мультфильмы в воспитательно-образовательной работе с дет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Изучить материал в Интерн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ентяб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оставление проекта по теме: «Развитие связной речи детей 5г.ж. через использование мультипликационных фильм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роведение диагностики по разделу: «Развитие связной реч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татья в родительский уголок «Особенности развития речи детей 5г.ж.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ктяб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оздание фильмот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росмотр и обсуждение м\ф «Мойдодыр», «Дудочка и кувшинчик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«Анкета для родителей «Как вы смотрите мультфильмы?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ояб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одбор иллюстраций художников: Сутеев В.Г, СафроновМ. Мультипликационных фильмов этих худож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Тематическая неделя: «Художники мультипликаторы»Просмотр м\ф «Кто сказал мяу»,Смешарики «Как стать художником» - знакомство с творчеством Сутеева В.Г. Сафронова МПересказ м\ф «Три котен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Консультация «Чему учат мультфильмы», предоставить примерный перечень м\ф для просмотра детьми 5 г.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75kids_38photo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екаб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родолжит подбирать м\ф в фильмоте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росмотр м\ф «Дед Мороз и Серый волк», «Когда зажигаются елки», «Лунтик и его друзья с Новым год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Изготовление подарков к праздн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Консультация: «Читаем книжки – смотрим мультфильм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Янв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одборка мульти физкульт-мин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Разучить с детьми упражнения, комплексы движений мульт физкульт минуток «Подруж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редложить родителям поделится опытом семейного вос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«Мои любимые мульт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Фев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одготовить совместно с родителями атрибуты для проведения спортивного праздника «Смешар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росмотр м\ф «Илья Муромец пролог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«Илья Муромец и Соловей разбойни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портивный праздник «Смешар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1-11T03:09:3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