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6C0-48D2-409A-99F7-384DC94A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DB1-4798-44AA-8A04-46AE66C4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4FC0-99E7-40D0-B915-5134F9AB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599-88D7-430A-8D6A-3267FC39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4972-AE81-4F58-951F-F403D541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2926-8FE3-480F-B8CB-D96E90DF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423E-801E-4E70-9C8B-13F98520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2D2D-965C-4D49-B849-7B75AC39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6B2D-39C0-4A18-B65F-089EDF78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FCD2-33C1-4FA6-95C2-53FED159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09FD-75D8-4241-9255-4526013C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1A5-E83C-43CB-876D-B869EF3E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1D6D-D188-45D8-BD3A-8506987D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426A-1F53-411F-A319-214383EA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34D5-73F8-4412-BF2A-504A2BC6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F3CB-CD76-4156-B272-F28F3978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2BA2-C490-4337-A6E7-1209ADFC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043-98B2-4898-B4FD-8F47FEB4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6E8E-52A7-4121-A1AB-057239FB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178-EEB1-451D-9709-5F427ACB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A50-B331-4C66-8987-6A1AD316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A94-BBB8-4B2A-BFED-6EDAEAA6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5CBF-644F-43D0-8C05-56CADE06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24C-D54A-4812-86BB-675013F0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553E-C1D0-4DF4-8D69-C422CC188153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2FC6-8206-411A-A5F3-B171BEBCDF7F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8f8f8"/>
                </a:solidFill>
                <a:latin typeface="Arial"/>
              </a:rPr>
              <a:t>кухня осетин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704000" cy="4724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Осетинская кухня не развивается изолированно. Она неразрывно связана с кулинарией других народов, особенно кавказских, сохраняя при этом свои особенности. В свою очередь осетинские блюда, особенно пироги, украшают столы многих народов Кавказа.</a:t>
            </a:r>
            <a:endParaRPr b="0" lang="en-US" sz="18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6873840" cy="4643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У осетин с древних времен основной пищей было мясо, главным образом в отварном виде, которое приправляется острым сметанным соусом (цахдон, нурыдзахдон</a:t>
            </a:r>
            <a:endParaRPr b="0" lang="en-US" sz="18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5194440" cy="3745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03640" y="2252520"/>
            <a:ext cx="5483160" cy="4376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Очень популярен был и шашлык из баранины, который готовился без предварительного маринования мяса.</a:t>
            </a:r>
            <a:endParaRPr b="0" lang="en-US" sz="18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5191200" cy="3894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57560" y="2060640"/>
            <a:ext cx="598644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Важным блюдом на осетинском столе являются пироги. Их начинка может быть разной — картофель, мясо, сыр, листья свеклы, тыква, ягоды, капуста, черемша. Пироги делаются из дрожжевого теста. Самый популярный из этих пирогов — пирог с мясом, фыдчин (осет. фыдджын). Фыдчин — обязательное блюдо на званых обедах. С пирогами связан важный осетинский обряд.</a:t>
            </a:r>
            <a:endParaRPr b="0" lang="en-US" sz="18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27640" y="1846440"/>
            <a:ext cx="4259160" cy="4259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5914800" cy="4535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чаще всего в качестве начинки использовали осетинский сыр. Далеко за пределами Осетии он очень известен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Это национальное блюдо осетинской кухни готовили из овечьего, козьего или цельного коровьего молока.</a:t>
            </a:r>
            <a:endParaRPr b="0" lang="en-US" sz="18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6480360" cy="4861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4000" y="260280"/>
            <a:ext cx="403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Verdana"/>
              </a:rPr>
              <a:t>количество пирогов, подаваемых на стол, зависело от назначения. Гостю, например, принято было подавать на блюде три пирога. На праздничный стол, кроме пирогов круглой формы, подавались и треугольные изделия также по три вместе. На поминальном столе количество пирогов обязательно должно было быть четным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03280" y="3716280"/>
            <a:ext cx="7562880" cy="2952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Из-за своего географического места жительства осетины, особенно живущие в горах, питались скудно. Обычной едой для них был чурек (осет. кæрдзын), запиваемый пивом, молоком либо простой ключевой водой. Также готовили популярные в народе овсяные блюда бламык, хомыс и калуа. В наше время их обычно не готовят.</a:t>
            </a:r>
            <a:endParaRPr b="0" lang="en-US" sz="16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05480" y="1557360"/>
            <a:ext cx="4538520" cy="3743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5338800" cy="4003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реди национальных напитков самыми излюбленными были ронг, пиво, арака́, брага, </a:t>
            </a:r>
            <a:endParaRPr b="0" lang="en-US" sz="18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3071880" cy="397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5280" y="5084640"/>
            <a:ext cx="424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Ронг (осет. Ронг) — в осетинском нартском эпосе название хмельного напитка, приготовленного особенным образом из мёда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4824360" cy="280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867280" y="4292640"/>
            <a:ext cx="25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Арака́ (осет. ара́хъ / ара́хъхъ ) — алкогольный напиток, изготовленный из зерна кукурузы, ячменя или других зерновых культур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Осетинское пиво широко известно на территории Северного Кавказа и России в целом. Многие иностранные путешественники отмечали высокие вкусовые качества этого напитка. По преданию, пиво изобрела Шатана, главная героиня нартовского эпоса осетин.</a:t>
            </a:r>
            <a:endParaRPr b="0" lang="en-US" sz="18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3691080" cy="4535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4727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6:00:38Z</dcterms:created>
  <dc:creator>WIN7XP</dc:creator>
  <dc:description/>
  <dc:language>en-US</dc:language>
  <cp:lastModifiedBy>WIN7XP</cp:lastModifiedBy>
  <dcterms:modified xsi:type="dcterms:W3CDTF">2011-04-14T13:22:27Z</dcterms:modified>
  <cp:revision>3</cp:revision>
  <dc:subject/>
  <dc:title>Традиционная кухня осетин</dc:title>
</cp:coreProperties>
</file>