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0F9-D0E2-4787-B139-63902934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5E3-4F51-4A3F-9BE5-BC7714BF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FF8-8569-468D-A8B9-3C8EC16C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026-CAB3-48ED-8856-06ACE76A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B55-578B-45F9-A823-19142F85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9DC5-AF5F-4497-B9B5-8DDAB56B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4345-4DF5-4A9C-8022-4A3F7DFD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F333-C71D-46FA-B59B-F4FA971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EF1D-44BA-4AC2-9B72-E79F559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A87-CE47-441D-B082-7783F15A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B5C8-BBC1-460A-892D-F85E639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2CF-C8DE-488C-A3AD-D888053C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77E7-D7D0-41D7-ABB7-AA8B917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900-86CF-4ACC-A182-F5CB9A0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8B95-72A1-47AD-8A48-29B522E0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475A-FCC0-4BCB-B0D3-402634F2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D0E-D79A-4ADE-8965-E7641E8C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CC56-50E4-43F5-90D5-F905370A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688F-32DA-41BF-8478-AB1588E6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C4D3-224B-4C4F-B895-6DD0993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25B7-7758-4801-B6BA-077E329C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65A3-069F-4057-83CA-E6DEFFFE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FE5-8123-4967-A31D-B3C9E01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A326-0D97-4945-947C-FEF11E8A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09B5-049F-494B-81BA-D44ACA8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494F1-754B-4ED8-A8A3-8FC5027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1D5B-7F13-4748-93DB-A1E58FBE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F419-5FA4-4930-BB17-2084EF51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8CB6-4F0A-45F9-80C3-63EFF4E1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D260-0CF0-4538-8A0D-26BF7B81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9D7D-7812-4704-A447-7AF853CC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457B-5A62-4C14-B803-5A1C881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D3196-E084-439C-B64F-58E037C2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C19-3929-45E3-90A3-1375574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F82B-BD5E-49C6-B76F-982EA62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9CEC-24ED-4280-89EE-6F0DE954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394FC-CCE9-42BB-84DF-8E2F5BD5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4CAB-1448-4490-B6F9-F9AC856A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C8D1-2204-4110-B42F-E8493C9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C330-6B66-4993-8E98-05316C1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9BAF-0961-48D0-9723-E63588A0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AD10-011A-490B-BF61-B37D409F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0C05-1ACC-4542-8D83-849F844D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606B8-EB21-40E8-A24C-7BE26CF5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F49-9F53-4991-B441-E77DADB6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5D3D-1415-4E69-A07B-1A53A40C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4C221-2D07-41CC-B3EB-E293CCF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47972-B5F6-4675-AEBF-8F6974FE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E096-088D-4BCA-AA2B-344D452C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73FA-5019-4CB7-A7F6-126A9563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39649-A419-4BCE-855D-BC257D3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2FB1-FBDF-477F-B3FA-29C5BFB6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1A81-3973-4290-96D8-741813EA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356E-7E0C-4AFA-946A-09684EC2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66A3-0ED5-4D88-AFBA-4B90D933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34D-8BC9-41EC-AFD2-6A618AD2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20CD-BDD7-4152-A0F2-6EFF8850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70384-7659-49CD-856A-340D0990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0F666-0C99-4294-B569-6BAE14DE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1B2EF-E254-41D6-9772-0549C6A9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D2476-95A6-4B47-8E4C-D0AAAA0C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31A7C-67CB-4A4E-80D0-539D017D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6E145-08BA-48EF-8B75-BBE7B891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DB6FA-51BE-4D9F-8B8D-C70E0028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0946E-42EE-47A6-B085-8CDE07B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C5F6-82EA-4BD8-9819-90FB6CA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7E4-873F-4159-BDFA-2B39036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7AA90-FC39-4F28-A7FC-128B9841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D67E-FD18-4F5E-85FA-1AD6B3B2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34123-69BC-4472-BB5F-FD2A5716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1A9C-217B-48F2-958F-2E3177F8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24279-77A6-44D5-A144-90B811BC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AC58F-F6EA-48E0-AEA0-6BF6C0B7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53D2B-A1F0-4A30-B3F7-B2B3CF72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06728-64F7-4AD7-BE88-836BC03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2F94A-3C97-4CC2-B795-2816306D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6255-1500-42F8-B6BC-8DC07C97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61E-5BB6-4838-9274-44973B5F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6EC7-A8A7-4CA5-928A-395DF376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F7909-A5A3-4696-9EC5-447DD30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2463A-D5E8-40AD-8D4D-119723CE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BBE3-C5BE-42D0-8DFB-FB4546D0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2FEA0-FDE5-4EDE-B8FB-5CC30167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F0B-53B3-4600-823A-25EAF86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522C-6935-4EC8-87E8-0335909A10A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EDCD-62CD-41C6-8D78-B2BF72876BF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95FD-BFF6-4CC7-B79E-1C30091EF99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5FD8-B02A-4896-B292-D160455F6FA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D386-A866-4B3B-ADA9-A5FE1B2058F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4793-A849-4993-A99E-A74E1567B6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7D79-5F31-4930-8E93-DD95875B99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33440" y="642960"/>
            <a:ext cx="64800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Рисунок 3" descr="0_24edb_def04ad2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Заголовок 1" descr=""/>
          <p:cNvPicPr/>
          <p:nvPr/>
        </p:nvPicPr>
        <p:blipFill>
          <a:blip r:embed="rId2"/>
          <a:stretch/>
        </p:blipFill>
        <p:spPr>
          <a:xfrm>
            <a:off x="993600" y="5383080"/>
            <a:ext cx="84679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3900" spc="-1" strike="noStrike">
                <a:solidFill>
                  <a:srgbClr val="e5ffff"/>
                </a:solidFill>
                <a:latin typeface="Tahoma"/>
              </a:rPr>
              <a:t>Почему она так называется?</a:t>
            </a:r>
            <a:br>
              <a:rPr sz="3900"/>
            </a:b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8360" y="981000"/>
            <a:ext cx="6275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ть такая трава - мать-и-мачеха. Но мало кто знает, почему она так называется. Если рассмотреть лист этого растения с «лица и с изнанки», то видно, что одна сторона листочка на ощупь теплая, ласковая, пушистая, как мать. А другая сторона, если прикоснуться к ней – холодная, жесткая и скользкая. Это - маче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мать-и-мачеха - Ольга Юрьевна Синотова"/>
          <p:cNvPicPr/>
          <p:nvPr/>
        </p:nvPicPr>
        <p:blipFill>
          <a:blip r:embed="rId2"/>
          <a:stretch/>
        </p:blipFill>
        <p:spPr>
          <a:xfrm>
            <a:off x="6727680" y="3429000"/>
            <a:ext cx="2416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749592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5ffff"/>
                </a:solidFill>
                <a:latin typeface="Tahoma"/>
              </a:rPr>
              <a:t>Обычно встречается на участках, свободных от дёрна, — берегах водоёмов, на склонах оврагов, полях, пустырях, свалках. Предпочитает глинистые почвы, но встречается также и на почвах другого типа, в том числе на песчаных и галечных речных отмелях. Обычное время цветения в условиях европейской части России — в апреле.</a:t>
            </a:r>
            <a:endParaRPr b="0" lang="en-US" sz="19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9" name="Содержимое 3" descr="73723096_mat.jpg"/>
          <p:cNvPicPr/>
          <p:nvPr/>
        </p:nvPicPr>
        <p:blipFill>
          <a:blip r:embed="rId2"/>
          <a:stretch/>
        </p:blipFill>
        <p:spPr>
          <a:xfrm>
            <a:off x="0" y="1709640"/>
            <a:ext cx="914400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49592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5ffff"/>
                </a:solidFill>
                <a:latin typeface="Tahoma"/>
              </a:rPr>
              <a:t>Мать-и-мачеха</a:t>
            </a:r>
            <a:r>
              <a:rPr b="0" lang="ru-RU" sz="1700" spc="-1" strike="noStrike">
                <a:solidFill>
                  <a:srgbClr val="e5ffff"/>
                </a:solidFill>
                <a:latin typeface="Tahoma"/>
              </a:rPr>
              <a:t> — монотипный род многолетних травянистых растений семейства Астровые или Сложноцветные. Единственный вид —</a:t>
            </a:r>
            <a:r>
              <a:rPr b="1" lang="ru-RU" sz="1700" spc="-1" strike="noStrike">
                <a:solidFill>
                  <a:srgbClr val="e5ffff"/>
                </a:solidFill>
                <a:latin typeface="Tahoma"/>
              </a:rPr>
              <a:t>Мать-и-мачеха обыкновенная</a:t>
            </a:r>
            <a:r>
              <a:rPr b="0" lang="ru-RU" sz="1700" spc="-1" strike="noStrike">
                <a:solidFill>
                  <a:srgbClr val="e5ffff"/>
                </a:solidFill>
                <a:latin typeface="Tahoma"/>
              </a:rPr>
              <a:t>.</a:t>
            </a:r>
            <a:br>
              <a:rPr sz="1700"/>
            </a:br>
            <a:r>
              <a:rPr b="0" lang="ru-RU" sz="1700" spc="-1" strike="noStrike">
                <a:solidFill>
                  <a:srgbClr val="e5ffff"/>
                </a:solidFill>
                <a:latin typeface="Tahoma"/>
              </a:rPr>
              <a:t>Цветёт ранней весной, до распускания листьев. Издревле применяется как лекарственное растение.</a:t>
            </a:r>
            <a:br>
              <a:rPr sz="1700"/>
            </a:br>
            <a:r>
              <a:rPr b="0" lang="ru-RU" sz="1700" spc="-1" strike="noStrike">
                <a:solidFill>
                  <a:srgbClr val="e5ffff"/>
                </a:solidFill>
                <a:latin typeface="Tahoma"/>
              </a:rPr>
              <a:t>Занесена в красную книгу.</a:t>
            </a:r>
            <a:endParaRPr b="0" lang="en-US" sz="1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1" name="Содержимое 3" descr="392553.jpg"/>
          <p:cNvPicPr/>
          <p:nvPr/>
        </p:nvPicPr>
        <p:blipFill>
          <a:blip r:embed="rId2"/>
          <a:stretch/>
        </p:blipFill>
        <p:spPr>
          <a:xfrm>
            <a:off x="1258920" y="2046240"/>
            <a:ext cx="640872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075520" cy="324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5ffff"/>
                </a:solidFill>
                <a:latin typeface="Tahoma"/>
              </a:rPr>
              <a:t>                 </a:t>
            </a:r>
            <a:r>
              <a:rPr b="0" lang="en-US" sz="3100" spc="-1" strike="noStrike">
                <a:solidFill>
                  <a:srgbClr val="e5ffff"/>
                </a:solidFill>
                <a:latin typeface="Times New Roman"/>
              </a:rPr>
              <a:t>Биологическое описание</a:t>
            </a:r>
            <a:br>
              <a:rPr sz="2300"/>
            </a:br>
            <a:r>
              <a:rPr b="0" lang="en-US" sz="2700" spc="-1" strike="noStrike">
                <a:solidFill>
                  <a:srgbClr val="e5ffff"/>
                </a:solidFill>
                <a:latin typeface="Times New Roman"/>
              </a:rPr>
              <a:t>Корневище длинное, ветвистое, ползучее. Ранней весной начинают развиваться невысокие цветоносные побеги, покрытые буроватыми, чешуевидными листьями. На каждом из побегов одиночная головка цветоложа и ярко-жёлтые цветки двух типов. Плод — цилиндрическая семянка, с  хохолком из мягких волосков. После созревания плодов цветоносные побеги отмирают.</a:t>
            </a:r>
            <a:br>
              <a:rPr sz="2700"/>
            </a:b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3" name="" descr="Целебные свойства мать-и-мачехи"/>
          <p:cNvPicPr/>
          <p:nvPr/>
        </p:nvPicPr>
        <p:blipFill>
          <a:blip r:embed="rId2"/>
          <a:stretch/>
        </p:blipFill>
        <p:spPr>
          <a:xfrm>
            <a:off x="3203640" y="3843360"/>
            <a:ext cx="377964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3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5" name="Схема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Содержимое 7" descr="800px-Tussilago-farfara_0018_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екарственные свой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179280" y="1052640"/>
            <a:ext cx="586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ще в древней Греции и Древнем Риме мать-и-мачеха была известна как лекарственная трава довольно широкого диапазона применения. Можно выделить несколько ее основных лекарственных (фармакологических) свой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бволакивающ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спазмолит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смягчающ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тхаркивающ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ротивовоспалительн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нтисептическое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ать-и-мачеха — традиционное средство от кашля, особенно при коклюше, а также от слизистой мокроты. Чаем из неё можно облегчить откашливание, сделать более жидкой вязкую бронхиальную слизь. Используется при хроническом бронхите, ларингитах, бронхопневмо-нии и бронхиальной аст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5859360" y="1989000"/>
            <a:ext cx="328464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11" name="Содержимое 3" descr="87335094_3279085_70151_1_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13" name="Содержимое 5" descr="0_65993_d24ec24a_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1:22:18Z</dcterms:created>
  <dc:creator>1</dc:creator>
  <dc:description/>
  <dc:language>en-US</dc:language>
  <cp:lastModifiedBy>User</cp:lastModifiedBy>
  <dcterms:modified xsi:type="dcterms:W3CDTF">2014-10-22T16:22:33Z</dcterms:modified>
  <cp:revision>23</cp:revision>
  <dc:subject/>
  <dc:title>  МАТЬ-И-МАЧЕХА</dc:title>
</cp:coreProperties>
</file>