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D8F5-0E99-4C7D-AF8D-04F3237C8A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E213-60D1-4709-B7C3-96A8AB1ECEB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7280" y="4158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4816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504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244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4728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5504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244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000" y="399600"/>
            <a:ext cx="748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816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47280" y="4158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4816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5504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6244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4728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5504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6244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76000" y="399600"/>
            <a:ext cx="748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816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540072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РАБО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 «Факторы и пути повышения эффективности использования основных средств предприятия на примере  хозяйства ЗАО «Острогожсксадпитомник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6012000" y="2781360"/>
            <a:ext cx="270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тюнян Альберт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ёнова Мария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никова Марина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навская Лилия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шина Наталья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икова Надежда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ец Карина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лых Виктор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224160" y="63579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гожск 201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189000"/>
            <a:ext cx="71629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БУ СПО ВО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трогожский аграрный техникум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257040"/>
            <a:ext cx="7488360" cy="10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ализ показателей обеспеченности ЗАО «Острогожсксадпитомник» основными фондами и эффективность их использования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2920" y="1465200"/>
          <a:ext cx="7705800" cy="5211720"/>
        </p:xfrm>
        <a:graphic>
          <a:graphicData uri="http://schemas.openxmlformats.org/drawingml/2006/table">
            <a:tbl>
              <a:tblPr/>
              <a:tblGrid>
                <a:gridCol w="2889360"/>
                <a:gridCol w="1681200"/>
                <a:gridCol w="1679400"/>
                <a:gridCol w="1455840"/>
              </a:tblGrid>
              <a:tr h="355680"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ыдущий год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ый год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+-)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 gridSpan="4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данные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. Среднегодовая стоимость основ­ных производственных фондов с.х. назначения, тыс.руб.</a:t>
                      </a: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53058,5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89750,5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36692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84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реднегодовая стоимость оборот­ных производственных фондов, тыс.руб.</a:t>
                      </a: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64969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77667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12698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Численность работников, занятых в сельском хозяйстве, чел.</a:t>
                      </a: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91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10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лощадь сельскохозяйственных угодий, га</a:t>
                      </a: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400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400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оимость товарной продукции, тыс.руб.</a:t>
                      </a: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02452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79320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23132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ибыль, тыс.руб.       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27250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8095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69155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 gridSpan="4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ые показатели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Фондообеспеченность на , тыс.руб.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834,4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514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 679,6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Фондовооруженность, тыс.руб.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01,4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944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142,6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Фондоотдача на 100, руб. 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32,3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94,5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37,8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Фондоемкость на 100, руб.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75,6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30,4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. Норма прибыли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24,2</a:t>
                      </a:r>
                      <a:endParaRPr b="0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921800" cy="10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беспеченности ЗАО «Острогожсксадпитомник» энергетическими ресурсами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87280" y="1557360"/>
          <a:ext cx="7488360" cy="5057640"/>
        </p:xfrm>
        <a:graphic>
          <a:graphicData uri="http://schemas.openxmlformats.org/drawingml/2006/table">
            <a:tbl>
              <a:tblPr/>
              <a:tblGrid>
                <a:gridCol w="2541600"/>
                <a:gridCol w="1632240"/>
                <a:gridCol w="1633320"/>
                <a:gridCol w="1681200"/>
              </a:tblGrid>
              <a:tr h="2286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ыдущий год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ый год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-)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. Энергетических мощностей в хозяйстве - всего, л. с.</a:t>
                      </a: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37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65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272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лощадь сельхозугодий, га</a:t>
                      </a: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реднегодовая численность работников, чел .</a:t>
                      </a: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1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тпущено электроэнергии на производственные нужды, тыс.кВт.ч</a:t>
                      </a: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63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35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Энергообеспеченность на , л.с.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04,7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50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Энерговооруженность, л.с.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13,9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Электрообеспеченность на , кВт.ч.</a:t>
                      </a: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0,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 6,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Электровооруженность, кВт.ч.</a:t>
                      </a: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12764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 и предлож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128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целевых программ по интенсификации сельского хозяйства, развития научно-технического прогресса, восстановлению и развитию сельскохозяйственного машиностроения (специалисты считают, что в настоящее время российская техника отстала от лучших зарубежных аналогов на два поколения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ая поддержка, создание условий, благоприятных для обновления и расширения основных средств (в частности, льготное кредитование и лизинг)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 урожайности культур и продуктивности животных, так как эти показатели в значительной степени определяют уровень фондоотдачи и материалоёмкости производства, а также другие показатели использования фонд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399960"/>
            <a:ext cx="748836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58920" y="1413000"/>
            <a:ext cx="741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ев И.Н. Экономика предприятия. Учебник. – М.: ИТК «Дашков и К», 2010.-414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фронов Н.А. Экономика организации (предприятия). Учебник. – М.:  ИНФРА-М, 2010.- 254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ышова Е.Н., Панфилова Е.Е. Экономика организации. Учебник. – М.: ФОРУМ, ИНФРА-М, 2005.-334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акова. И.А., Экономика сельскохозяйственного  предприятия. – М.: «КолосС», 2004.-527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ев И.В., Экономика предприятия. Учеб. пособие. – М.: Финансы и статистика, 2005.-303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1280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8000" y="105228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факторы и пути повышения эффективности  использования основных средств  на примере  хозяйства ЗАО «Острогожсксадпитомник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492360" y="21337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24000" y="2830680"/>
            <a:ext cx="66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необходимые материалы по данным годового отчета и провести анализ деятельности  ЗАО «Острогожсксадпитомник»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 показатели обеспеченности предприятия основными средствами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экономическую  эффектив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я   основных          производственных фондов в ЗАО «Острогожсксадпитомник»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1280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8000" y="1052280"/>
            <a:ext cx="7128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читаем, чтобы изучить факторы и пути повышения эффективности использования основных средств хозяйства ЗАО «Острогожсксадпитомник», нам необходимо соблюдать следующий алгоритм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еобходимую учебную литературу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годовые отчёты ЗАО «Острогожсксадпитомник» за 2012-2013 годы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оследовательность расчёта экономических показателей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ализ данных таблиц и сделать соответствующие вывод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328320"/>
            <a:ext cx="7488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оизводственные средств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628640"/>
            <a:ext cx="7417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редства (фонды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 часть производственных фондов, которая участвует в процессе производства длительное время, сохраняя при этом свою натуральную форму, а их стоимость переносится на изготовляемый продукт постепенно, по частям, по мере использования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оизводственные средства (фонды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о-техническая база общественного производства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Рисунок 4" descr="8349.jpg"/>
          <p:cNvPicPr/>
          <p:nvPr/>
        </p:nvPicPr>
        <p:blipFill>
          <a:blip r:embed="rId2"/>
          <a:stretch/>
        </p:blipFill>
        <p:spPr>
          <a:xfrm>
            <a:off x="250920" y="4508640"/>
            <a:ext cx="2530440" cy="1944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news6120.jpg"/>
          <p:cNvPicPr/>
          <p:nvPr/>
        </p:nvPicPr>
        <p:blipFill>
          <a:blip r:embed="rId3"/>
          <a:stretch/>
        </p:blipFill>
        <p:spPr>
          <a:xfrm>
            <a:off x="2987640" y="3789360"/>
            <a:ext cx="3100320" cy="1839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Razreshen-vvoz.jpg"/>
          <p:cNvPicPr/>
          <p:nvPr/>
        </p:nvPicPr>
        <p:blipFill>
          <a:blip r:embed="rId4"/>
          <a:stretch/>
        </p:blipFill>
        <p:spPr>
          <a:xfrm>
            <a:off x="6300720" y="450864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-171720"/>
            <a:ext cx="74880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новные производственные фонды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920" y="1413000"/>
            <a:ext cx="741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я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ружения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точные устройства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и оборудование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ые средства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и приспособления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й инвентарь и принадлежности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енный инвентарь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й и продуктивный скот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ие насаждения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ьные затраты на улучшение земель (без сооружений)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основные средст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88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основных производственных средств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27280" y="1413000"/>
            <a:ext cx="741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надлежности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участия в процессе производства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должительности эксплуатации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ической пригодност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2" name="Рисунок 5" descr="sdfghjm.png"/>
          <p:cNvPicPr/>
          <p:nvPr/>
        </p:nvPicPr>
        <p:blipFill>
          <a:blip r:embed="rId2"/>
          <a:stretch/>
        </p:blipFill>
        <p:spPr>
          <a:xfrm>
            <a:off x="2627280" y="4653000"/>
            <a:ext cx="3335400" cy="1984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Sin-título-21.jpg"/>
          <p:cNvPicPr/>
          <p:nvPr/>
        </p:nvPicPr>
        <p:blipFill>
          <a:blip r:embed="rId3"/>
          <a:stretch/>
        </p:blipFill>
        <p:spPr>
          <a:xfrm>
            <a:off x="6111720" y="2924280"/>
            <a:ext cx="2781360" cy="2085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t320.png"/>
          <p:cNvPicPr/>
          <p:nvPr/>
        </p:nvPicPr>
        <p:blipFill>
          <a:blip r:embed="rId4"/>
          <a:stretch/>
        </p:blipFill>
        <p:spPr>
          <a:xfrm>
            <a:off x="217440" y="2808360"/>
            <a:ext cx="29145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5600" y="357120"/>
            <a:ext cx="7072200" cy="9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3900"/>
                </a:solidFill>
                <a:latin typeface="Trebuchet MS"/>
              </a:rPr>
              <a:t>          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320" y="1285920"/>
            <a:ext cx="67690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1814400" y="2887560"/>
            <a:ext cx="6286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47640" y="18900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движение основных средств ЗАО «Острогожсксадпитомник» за 2013 год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42920" y="1541520"/>
          <a:ext cx="7777080" cy="4913280"/>
        </p:xfrm>
        <a:graphic>
          <a:graphicData uri="http://schemas.openxmlformats.org/drawingml/2006/table">
            <a:tbl>
              <a:tblPr/>
              <a:tblGrid>
                <a:gridCol w="1106640"/>
                <a:gridCol w="861840"/>
                <a:gridCol w="1017720"/>
                <a:gridCol w="1011240"/>
                <a:gridCol w="898560"/>
                <a:gridCol w="1011240"/>
                <a:gridCol w="779400"/>
                <a:gridCol w="1090440"/>
              </a:tblGrid>
              <a:tr h="81900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на начало года, тыс. руб.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на конец года, тыс.руб.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к стоимости на начало года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936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, тыс.руб.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к стоимости на начало года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тыс.руб.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к стоимости на начало года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ания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ружения и передаточные устройства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7824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966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665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0125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12,9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ы и оборудование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061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48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77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432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ые средства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171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23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0,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32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263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й скот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ный скот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56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35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34,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191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34,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летние насаждения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9066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4340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6,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226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9180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25,9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9324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9082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0,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298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3934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15,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48836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и структура основных средств ЗАО «Острогожсксадпитомник» за 2013 год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1341360"/>
          <a:ext cx="7848360" cy="5327640"/>
        </p:xfrm>
        <a:graphic>
          <a:graphicData uri="http://schemas.openxmlformats.org/drawingml/2006/table">
            <a:tbl>
              <a:tblPr/>
              <a:tblGrid>
                <a:gridCol w="1120680"/>
                <a:gridCol w="981000"/>
                <a:gridCol w="1122480"/>
                <a:gridCol w="1135080"/>
                <a:gridCol w="1263600"/>
                <a:gridCol w="1136520"/>
                <a:gridCol w="1089000"/>
              </a:tblGrid>
              <a:tr h="384120"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на начало года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на конец года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-) по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к итогу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к итогу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е, тыс. руб.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, %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880"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 gridSpan="7"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средства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384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ания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ружения и передаточные устройства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7824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60,79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0125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9,29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2300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ы и оборудование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061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7,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432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3712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ые средства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171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263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91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0,7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й скот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­ный скот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56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1918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835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2,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860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летние насаждения</a:t>
                      </a: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9066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9180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1011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 1,2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88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93243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39344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6101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88360" cy="12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состояния и движения основных средств ЗАО «Острогожсксадпитомник»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1440000"/>
          <a:ext cx="8424720" cy="5302080"/>
        </p:xfrm>
        <a:graphic>
          <a:graphicData uri="http://schemas.openxmlformats.org/drawingml/2006/table">
            <a:tbl>
              <a:tblPr/>
              <a:tblGrid>
                <a:gridCol w="2779560"/>
                <a:gridCol w="962280"/>
                <a:gridCol w="1471320"/>
                <a:gridCol w="1489320"/>
                <a:gridCol w="1722240"/>
              </a:tblGrid>
              <a:tr h="407880"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изм.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ыдущий год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ый год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-)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4-3)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. Наличие основных средств на начало года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27870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7824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5037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ступило основных средств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7115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9664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27451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. Выбыло основных средств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6738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665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81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аличие основных средств на конец года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7824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01254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2300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Износ основных средств на конец года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6089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9244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13155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ирост основных средств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5037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300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27370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Коэффициенты: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обновления основных средств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1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0,28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ыбытия основных средств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0,01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рироста основных средств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износа основных средств</a:t>
                      </a: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+ 0,05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годности основных средств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0,05</a:t>
                      </a:r>
                      <a:endParaRPr b="0" lang="en-US" sz="13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07:42Z</dcterms:created>
  <dc:creator>qwerty</dc:creator>
  <dc:description/>
  <cp:keywords>шаблон для презентации</cp:keywords>
  <dc:language>en-US</dc:language>
  <cp:lastModifiedBy>MEGA</cp:lastModifiedBy>
  <dcterms:modified xsi:type="dcterms:W3CDTF">2015-01-14T06:48:43Z</dcterms:modified>
  <cp:revision>51</cp:revision>
  <dc:subject>шаблон</dc:subject>
  <dc:title>название</dc:title>
</cp:coreProperties>
</file>