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6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18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90B764B-7485-4481-9EFC-0BC19FC38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36AD8F0-A6D5-4C9E-BB23-2118952DA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0D84919-5B1D-4A51-BA3D-B6192EDD9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6C5CA8F-6CBE-4FDB-9A00-A2329B1F8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FD0C3CAC-EA44-4F3D-B7F8-9B74E3778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370DAF1-F2F7-4002-96F8-5DB4F5FD8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D5044BE6-EA1E-49AF-9ED1-A3FC9F487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7F13037-69EB-478B-9C4F-A599BD953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B2E5341-CAC4-4F22-9746-D04CD77E6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F1C-964A-4832-BE3F-897108C1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9EF-A8D3-4FDA-A02D-C5926FEA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33D-E229-4940-9702-E940509D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2F2-852D-4FDD-BF1F-CB24DD66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B5CA-9E02-4609-9EFB-E51F2357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7CCC-4872-43B5-9B55-C195F0BA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28B8-1809-4A8B-83CB-38D69F03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2E5E-6C5E-4774-81D1-116F6932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179B-E48D-4920-AE1C-AF5538F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56C8-46DB-474B-A722-6A88A8D0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4D79-120F-4564-B5E0-C7016423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877-1701-4771-9586-738AFC93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A1D0-5D2C-4494-B761-6C6B583F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2140-2218-409A-A533-92968DB9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BF1E-B424-4247-A682-4DF22861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0A7D-1A2F-4DF7-B559-8AB64C6C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0E03-F89C-4DB6-A8B7-D24FFD64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94F8F-79DF-4F45-B6CE-3245989A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EE3B-D26F-44ED-A0FD-0B07F37F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2B32-1E3A-4845-96EC-27FDFA71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E858C-10A9-4177-84FD-FC298CAD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F750-6D6E-46F6-BE6A-98B98CAB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ED7-C0DB-403E-85FD-040EF177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F3EC-6556-4151-B971-560DBB6A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AA91-F665-4D73-BAF7-2C3FC60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33BA-0710-470F-8225-BCEFE4F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DD30-FD18-4D08-9A10-4C9C0B5B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92A5-56A4-401B-8A67-BEC928CA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DAB7-B8B0-4309-B299-4983D565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1FE2-0B3A-4FB2-81B1-4B956A21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30E8-65AA-4241-8883-C448EFE8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CF0D-D4ED-40BC-AA08-893B23B1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99AA-BC15-4779-9093-3070DABE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39A-DF91-4B54-A351-BF5968FF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6FFD-6D00-4167-BC00-6CB0CF50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2A190-52EC-4F6E-8CD0-587B307A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58FD-52F1-4382-A8BB-DA430695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09020-0AFF-4E7A-95B4-794692F2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98C50-54FF-4649-BECE-5466327D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5DCD-97F3-4E29-B56F-B9171D4C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57E9-2DEF-41BA-95C7-EB10DF75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39C20-A972-4EFD-9840-F2A47CAB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D3C15-8196-4F07-B7E9-750EF47A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2CA84-9101-4113-A0CC-037C7CE0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C5F-89F6-4A6D-AEEB-B386833A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C1B9A-B016-49FA-B279-B319E96A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7A208-B5F3-4AA9-AA79-7B29201E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7E352-D186-4075-8867-2866B4B3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CA56F-F47A-48F6-9CE9-4F57C1D7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2B909-67E1-4A25-BF4A-C9792A07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035E9-7E0A-46B5-A2EA-561FDDAC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0B103-C574-4447-BF71-1418F381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4147F-7C5A-4FED-B8B8-6AA947E5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2FF77-A04B-4CA1-ADE2-4767B388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1086D-9A09-4E65-984B-A9E85A1A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34F-AA2B-4FC6-94A1-E730AB28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12B13-7A1C-4915-AEC9-39831473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0AC-71DA-402C-B8C1-BA1666F0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BE6-E704-4E39-9E30-537963CF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AC5-CCA4-4D96-A7DE-DB77C8E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619600"/>
            <a:ext cx="10095120" cy="1944720"/>
            <a:chOff x="-6480" y="5619600"/>
            <a:chExt cx="10095120" cy="194472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619600"/>
              <a:ext cx="100951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10095120" cy="5639040"/>
            <a:chOff x="-6480" y="-6480"/>
            <a:chExt cx="10095120" cy="563904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009512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10080720" cy="56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755720"/>
            <a:ext cx="10095120" cy="5645160"/>
            <a:chOff x="-6480" y="1755720"/>
            <a:chExt cx="10095120" cy="564516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755720"/>
              <a:ext cx="1009512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3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B360528-6CEB-4A3C-99C8-657DCDC9AF43}" type="slidenum">
              <a:rPr b="1" lang="en-US" sz="13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4254480"/>
            <a:ext cx="10095120" cy="3309840"/>
            <a:chOff x="-6480" y="4254480"/>
            <a:chExt cx="10095120" cy="330984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-6480" y="4254480"/>
              <a:ext cx="1009512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10095120" cy="4273560"/>
            <a:chOff x="-6480" y="-6480"/>
            <a:chExt cx="10095120" cy="427356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0095120" cy="42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10080720" cy="42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755720"/>
            <a:ext cx="10095120" cy="5645160"/>
            <a:chOff x="-6480" y="1755720"/>
            <a:chExt cx="10095120" cy="564516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-6480" y="1755720"/>
              <a:ext cx="1009512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3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5131DBF-502C-4456-A7BC-EC1B2C97B109}" type="slidenum">
              <a:rPr b="1" lang="en-US" sz="13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619600"/>
            <a:ext cx="10095120" cy="1944720"/>
            <a:chOff x="-6480" y="5619600"/>
            <a:chExt cx="10095120" cy="1944720"/>
          </a:xfrm>
        </p:grpSpPr>
        <p:pic>
          <p:nvPicPr>
            <p:cNvPr id="103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619600"/>
              <a:ext cx="100951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10095120" cy="5639040"/>
            <a:chOff x="-6480" y="-6480"/>
            <a:chExt cx="10095120" cy="5639040"/>
          </a:xfrm>
        </p:grpSpPr>
        <p:pic>
          <p:nvPicPr>
            <p:cNvPr id="10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009512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10080720" cy="56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755720"/>
            <a:ext cx="10095120" cy="5645160"/>
            <a:chOff x="-6480" y="1755720"/>
            <a:chExt cx="10095120" cy="5645160"/>
          </a:xfrm>
        </p:grpSpPr>
        <p:pic>
          <p:nvPicPr>
            <p:cNvPr id="110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755720"/>
              <a:ext cx="1009512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4254480"/>
            <a:ext cx="10095120" cy="3309840"/>
            <a:chOff x="-6480" y="4254480"/>
            <a:chExt cx="10095120" cy="3309840"/>
          </a:xfrm>
        </p:grpSpPr>
        <p:pic>
          <p:nvPicPr>
            <p:cNvPr id="113" name="Rectangle 6" descr=""/>
            <p:cNvPicPr/>
            <p:nvPr/>
          </p:nvPicPr>
          <p:blipFill>
            <a:blip r:embed="rId5"/>
            <a:stretch/>
          </p:blipFill>
          <p:spPr>
            <a:xfrm>
              <a:off x="-6480" y="4254480"/>
              <a:ext cx="1009512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10095120" cy="4273560"/>
            <a:chOff x="-6480" y="-6480"/>
            <a:chExt cx="10095120" cy="4273560"/>
          </a:xfrm>
        </p:grpSpPr>
        <p:pic>
          <p:nvPicPr>
            <p:cNvPr id="116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10095120" cy="42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10080720" cy="42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755720"/>
            <a:ext cx="10095120" cy="5645160"/>
            <a:chOff x="-6480" y="1755720"/>
            <a:chExt cx="10095120" cy="564516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-6480" y="1755720"/>
              <a:ext cx="1009512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3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09028EA-3FFB-4382-887E-70D0829AAC5F}" type="slidenum">
              <a:rPr b="1" lang="en-US" sz="13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4254480"/>
            <a:ext cx="10095120" cy="3309840"/>
            <a:chOff x="-6480" y="4254480"/>
            <a:chExt cx="10095120" cy="3309840"/>
          </a:xfrm>
        </p:grpSpPr>
        <p:pic>
          <p:nvPicPr>
            <p:cNvPr id="164" name="Rectangle 7" descr=""/>
            <p:cNvPicPr/>
            <p:nvPr/>
          </p:nvPicPr>
          <p:blipFill>
            <a:blip r:embed="rId2"/>
            <a:stretch/>
          </p:blipFill>
          <p:spPr>
            <a:xfrm>
              <a:off x="-6480" y="4254480"/>
              <a:ext cx="1009512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10095120" cy="4273560"/>
            <a:chOff x="-6480" y="-6480"/>
            <a:chExt cx="10095120" cy="4273560"/>
          </a:xfrm>
        </p:grpSpPr>
        <p:pic>
          <p:nvPicPr>
            <p:cNvPr id="167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0095120" cy="42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10080720" cy="42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755720"/>
            <a:ext cx="10095120" cy="5645160"/>
            <a:chOff x="-6480" y="1755720"/>
            <a:chExt cx="10095120" cy="564516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-6480" y="1755720"/>
              <a:ext cx="1009512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3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D027147-1EC6-41E4-8AC8-F77274600CD1}" type="slidenum">
              <a:rPr b="1" lang="en-US" sz="13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-6480" y="5619600"/>
            <a:ext cx="10095120" cy="1944720"/>
            <a:chOff x="-6480" y="5619600"/>
            <a:chExt cx="10095120" cy="1944720"/>
          </a:xfrm>
        </p:grpSpPr>
        <p:pic>
          <p:nvPicPr>
            <p:cNvPr id="215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619600"/>
              <a:ext cx="100951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-6480" y="-6480"/>
            <a:ext cx="10095120" cy="5639040"/>
            <a:chOff x="-6480" y="-6480"/>
            <a:chExt cx="10095120" cy="5639040"/>
          </a:xfrm>
        </p:grpSpPr>
        <p:pic>
          <p:nvPicPr>
            <p:cNvPr id="218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009512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0080720" cy="56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-6480" y="1755720"/>
            <a:ext cx="10095120" cy="5645160"/>
            <a:chOff x="-6480" y="1755720"/>
            <a:chExt cx="10095120" cy="5645160"/>
          </a:xfrm>
        </p:grpSpPr>
        <p:pic>
          <p:nvPicPr>
            <p:cNvPr id="222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755720"/>
              <a:ext cx="1009512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3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C36307F-B1EA-4140-A912-1ED20FF34367}" type="slidenum">
              <a:rPr b="1" lang="en-US" sz="13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1" descr=""/>
          <p:cNvPicPr/>
          <p:nvPr/>
        </p:nvPicPr>
        <p:blipFill>
          <a:blip r:embed="rId1"/>
          <a:stretch/>
        </p:blipFill>
        <p:spPr>
          <a:xfrm>
            <a:off x="463680" y="585720"/>
            <a:ext cx="9082080" cy="4278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009800" y="4066920"/>
            <a:ext cx="87105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Выполнил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ученица 2 класса 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МБОУСО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Ш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№6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Присухина Софь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Учитель: Козырева О. 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14 декабря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2014 год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1" descr=""/>
          <p:cNvPicPr/>
          <p:nvPr/>
        </p:nvPicPr>
        <p:blipFill>
          <a:blip r:embed="rId1"/>
          <a:stretch/>
        </p:blipFill>
        <p:spPr>
          <a:xfrm>
            <a:off x="500040" y="152280"/>
            <a:ext cx="9082080" cy="16765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60360" y="1835280"/>
            <a:ext cx="871056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Цель: рассказать об истории писем Деду Морозу, объяснить работу почты Деда Мороз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70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Задачи: изучить историю возникновения почты Деда Мороза, показать, как она работае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70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Гипотеза: если бы в нашей жизни не было чудес, мы не мечтали бы и не добивались успех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1" descr=""/>
          <p:cNvPicPr/>
          <p:nvPr/>
        </p:nvPicPr>
        <p:blipFill>
          <a:blip r:embed="rId1"/>
          <a:stretch/>
        </p:blipFill>
        <p:spPr>
          <a:xfrm>
            <a:off x="500040" y="152280"/>
            <a:ext cx="9082080" cy="16765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5153040" y="1768320"/>
            <a:ext cx="4640400" cy="525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0200" indent="-322200">
              <a:spcBef>
                <a:spcPts val="649"/>
              </a:spcBef>
              <a:spcAft>
                <a:spcPts val="3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Дед Мороз – это волшебник, сковывающий льдом воду, щедро осыпающий зимнюю природу искристым снежным серебром, дарящий радость зимнего празднества, а главное – исполнитель детских желаний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503280" y="1949400"/>
            <a:ext cx="48974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1" descr=""/>
          <p:cNvPicPr/>
          <p:nvPr/>
        </p:nvPicPr>
        <p:blipFill>
          <a:blip r:embed="rId1"/>
          <a:stretch/>
        </p:blipFill>
        <p:spPr>
          <a:xfrm>
            <a:off x="500040" y="152280"/>
            <a:ext cx="9082080" cy="16765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5153040" y="1768320"/>
            <a:ext cx="4711680" cy="5540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4840" bIns="50400" anchor="t">
            <a:normAutofit/>
          </a:bodyPr>
          <a:p>
            <a:pPr marL="430200" indent="-322200">
              <a:spcBef>
                <a:spcPts val="700"/>
              </a:spcBef>
              <a:spcAft>
                <a:spcPts val="3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Дед Мороз проживает в Вологодской области, в Великом Устюге. Ежегодно туда приезжают тысячи туристов. А под новый год в доме Деда Мороза скапливаются миллионы писем от дете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144360" y="1754280"/>
            <a:ext cx="532296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1" descr=""/>
          <p:cNvPicPr/>
          <p:nvPr/>
        </p:nvPicPr>
        <p:blipFill>
          <a:blip r:embed="rId1"/>
          <a:stretch/>
        </p:blipFill>
        <p:spPr>
          <a:xfrm>
            <a:off x="500040" y="152280"/>
            <a:ext cx="9082080" cy="16765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5152680" y="1767960"/>
            <a:ext cx="4427640" cy="5535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 fontScale="96000"/>
          </a:bodyPr>
          <a:p>
            <a:pPr marL="412920" indent="-309240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Традиция писать письма Деду Морозу появилась вместе с образом самого новогоднего волшебника. Сначала люди просили Мороза о хорошем урожае, а потом дети стали посылать ему свои желания. Раньше это были письма в конвертах, а сейчас о своих мечтах можно рассказать по электронной почте через интернет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287280" y="1836720"/>
            <a:ext cx="518472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1" descr=""/>
          <p:cNvPicPr/>
          <p:nvPr/>
        </p:nvPicPr>
        <p:blipFill>
          <a:blip r:embed="rId1"/>
          <a:stretch/>
        </p:blipFill>
        <p:spPr>
          <a:xfrm>
            <a:off x="500040" y="152280"/>
            <a:ext cx="9082080" cy="1676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5153040" y="1767960"/>
            <a:ext cx="4711680" cy="561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0200" indent="-322200">
              <a:spcBef>
                <a:spcPts val="649"/>
              </a:spcBef>
              <a:spcAft>
                <a:spcPts val="3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Дед Мороз любит вежливые письма, любит, когда его тоже поздравляют с Новым Годом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30200" indent="-322200">
              <a:spcBef>
                <a:spcPts val="649"/>
              </a:spcBef>
              <a:spcAft>
                <a:spcPts val="3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Почту ему помогает разбирать его внучка – Снегурочка. Если писем очень много, то к их изучению в помощь приходят лесные жители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503280" y="1501920"/>
            <a:ext cx="453708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1" descr=""/>
          <p:cNvPicPr/>
          <p:nvPr/>
        </p:nvPicPr>
        <p:blipFill>
          <a:blip r:embed="rId1"/>
          <a:stretch/>
        </p:blipFill>
        <p:spPr>
          <a:xfrm>
            <a:off x="500040" y="152280"/>
            <a:ext cx="9082080" cy="1676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5219280" y="1767960"/>
            <a:ext cx="4427640" cy="579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1240" bIns="50400" anchor="t">
            <a:normAutofit/>
          </a:bodyPr>
          <a:p>
            <a:pPr marL="430200" indent="-322200">
              <a:spcBef>
                <a:spcPts val="550"/>
              </a:spcBef>
              <a:spcAft>
                <a:spcPts val="3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От правильности написания писем и верного заполнения адреса зависит исполнение желаний. Вежливость, грамотный текст без ошибок и точный адрес на конверте – это хороший шанс получить желаный подарок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30200" indent="-322200">
              <a:spcBef>
                <a:spcPts val="499"/>
              </a:spcBef>
              <a:spcAft>
                <a:spcPts val="3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Письма следует отправлять по адресу: 162349, Россия, Вологодская обл., г. Великий Устюг, Почта Деда Мороза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0200" indent="-322200">
              <a:spcBef>
                <a:spcPts val="499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Чтобы получить ответ, необходимо указать свой домашний адрес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433440" y="1619280"/>
            <a:ext cx="44276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1" descr=""/>
          <p:cNvPicPr/>
          <p:nvPr/>
        </p:nvPicPr>
        <p:blipFill>
          <a:blip r:embed="rId1"/>
          <a:stretch/>
        </p:blipFill>
        <p:spPr>
          <a:xfrm>
            <a:off x="500040" y="152280"/>
            <a:ext cx="9375840" cy="16765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576000" y="1908000"/>
            <a:ext cx="907236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31489f"/>
                </a:solidFill>
                <a:latin typeface="Trebuchet MS"/>
              </a:rPr>
              <a:t>Список литературы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31489f"/>
                </a:solidFill>
                <a:latin typeface="Trebuchet MS"/>
              </a:rPr>
              <a:t>1) http://pochta-dm.ru/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31489f"/>
                </a:solidFill>
                <a:latin typeface="Trebuchet MS"/>
              </a:rPr>
              <a:t>2)https://ru.wikipedia.org/wiki/%C4%E5%E4_%CC%EE%F0%EE%E7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cp:keywords/>
  <dc:language>en-US</dc:language>
  <cp:lastModifiedBy>Козырева Ольга</cp:lastModifiedBy>
  <dcterms:modified xsi:type="dcterms:W3CDTF">2015-01-14T16:07:48Z</dcterms:modified>
  <cp:revision>8</cp:revision>
  <dc:subject/>
  <dc:title>  Проект  "Письмо Деду Морозу"</dc:title>
</cp:coreProperties>
</file>