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B67-905A-4DC0-B349-9C0F600A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C8B-9B02-4881-B796-17C84E21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C2D-6DCF-45F5-BB2D-431D4BE9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207-4475-45F8-9450-F42D0624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233-608E-4462-99AD-20D9A968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245-2E96-42C5-A96F-CA6A5251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3F4-2D61-4483-B100-60301993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CA76-1B7A-4F99-9C72-0DEB1D40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E5D-E9D2-49C9-BA41-CA14FBA3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406-89DC-44B4-BF01-29B5FB58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91A-C723-4A71-B04A-3EBFDB57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93E-8DE2-4D20-B58B-1DFEC2D6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36E3-5FA7-4BBA-9A3D-E47EE63E47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kar.bip.ru/arch/vrs_0029.html" TargetMode="External"/><Relationship Id="rId2" Type="http://schemas.openxmlformats.org/officeDocument/2006/relationships/hyperlink" Target="http://live.smolensk.ws/index.php" TargetMode="External"/><Relationship Id="rId3" Type="http://schemas.openxmlformats.org/officeDocument/2006/relationships/hyperlink" Target="http://traditio-ru.org/wiki/&#1055;&#1086;&#1075;&#1088;&#1077;&#1073;&#1085;&#1086;&#1081;-&#1040;&#1083;&#1077;&#1082;&#1089;&#1072;&#1085;&#1076;&#1088;&#1086;&#1074;:&#1050;&#1088;&#1086;&#1074;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27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Музей одного слова</a:t>
            </a:r>
            <a:br>
              <a:rPr sz="5400"/>
            </a:br>
            <a:br>
              <a:rPr sz="1200"/>
            </a:br>
            <a:r>
              <a:rPr b="1" i="1" lang="ru-RU" sz="5400" spc="-1" strike="noStrike">
                <a:solidFill>
                  <a:srgbClr val="ffcc00"/>
                </a:solidFill>
                <a:latin typeface="Tahoma"/>
              </a:rPr>
              <a:t>Покровка</a:t>
            </a:r>
            <a:br>
              <a:rPr sz="5400"/>
            </a:b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(этимологический </a:t>
            </a:r>
            <a:br>
              <a:rPr sz="3600"/>
            </a:b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и морфемный анализ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у выполн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а 6 В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СОШ №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зылева Екате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Этимология:</a:t>
            </a:r>
            <a:br>
              <a:rPr sz="4000"/>
            </a:b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значение слова </a:t>
            </a:r>
            <a:br>
              <a:rPr sz="4000"/>
            </a:br>
            <a:r>
              <a:rPr b="0" i="1" lang="ru-RU" sz="6000" spc="-1" strike="noStrike">
                <a:solidFill>
                  <a:srgbClr val="ffcc00"/>
                </a:solidFill>
                <a:latin typeface="Tahoma"/>
              </a:rPr>
              <a:t>«кров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 словарю Ефремовой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устар. Крыша. // перен. Дом, жилище, приют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ерен. Защит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 словарю Ожегов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рытие, завеса, навес над чем-нибуд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 словарю Ушаков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Крыша(устар.). Скромный из соломы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Жуковский.         2. Прикрытие, защита, покров (поэт.) Под кровом ночи.            3. Дом, жилище, приют (поэт. И ритор.). Отчий кро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аться без крова (без пристанищ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Этимология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начение слова «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кров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0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 словарю Ефремовой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ерхний слой, покрывающий что-л.                                                              2. устар. Кусок ткани предназначенный для покрывания  кого-л., чего-л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То, что укрывает собою что-л.;                                                                       4. устар. Защита, покровительство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 словарю Ушаков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ерхний слой, покрывающий что-н. (книжн.).                                               2. Покрывало (устар. и поэт.).                                                                                       3. Покрывало для гроба, покойника (церк.).                                                                            4. перен. То, что покрывает, заволакивает что-н.                                                 5. Покровительство, защита (уста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ествовавший в г. Смоленске район получил свое название от слова «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кр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 -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кровская г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0a29e8d47efaa74ed16c6ea91695decd"/>
          <p:cNvPicPr/>
          <p:nvPr/>
        </p:nvPicPr>
        <p:blipFill>
          <a:blip r:embed="rId1"/>
          <a:srcRect l="0" t="0" r="0" b="-1315"/>
          <a:stretch/>
        </p:blipFill>
        <p:spPr>
          <a:xfrm>
            <a:off x="1619280" y="1916280"/>
            <a:ext cx="626436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58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ыть    кров     покров    покровская (гор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ффиксальный (суффиксально-префиксальный)          способ слово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кровская      покр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ном случае -к- в значении усечения, перехода имени прилагательного  в просторечное имя существитель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4"/>
          <p:cNvSpPr/>
          <p:nvPr/>
        </p:nvSpPr>
        <p:spPr>
          <a:xfrm>
            <a:off x="1589040" y="981000"/>
            <a:ext cx="3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788000" y="981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572000" y="25718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916360" y="981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потребление топонима «Покровка» в литератур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 проз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ОРИС ВАСИЛЬЕВ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ТЯТ МОИ КОНИ.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автобиографическая пове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"Я, Васильев Борис Львович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лся 21 мая 1924 год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мье командира Красной Арми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ороде Смоленске на Покровской горе..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...Я вижу нашу комнату в домике на Покровской горе: тогда она казалась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е огромной, потому что свет керосиновой лампы не в силах был растопить темень в ее углах.Мы снимали домик на Покровской горе; в нем я родился, а почтовый адрес его тогда писался так: "Покровская гора, дом Павловых". Напротив через овраг, почти осеняя домик ветвями, рос огромный дуб.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7" descr="11"/>
          <p:cNvPicPr/>
          <p:nvPr/>
        </p:nvPicPr>
        <p:blipFill>
          <a:blip r:embed="rId1"/>
          <a:srcRect l="11671" t="10313" r="7072" b="20671"/>
          <a:stretch/>
        </p:blipFill>
        <p:spPr>
          <a:xfrm>
            <a:off x="5508720" y="1806480"/>
            <a:ext cx="302400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потребление топонима «Покровка» в литератур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 поэзии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ИСА ИПАТОВ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* * 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Покровской го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поля в серебр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ли белыми серые да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 подножья го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мело все двор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следы мои тоже пропа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ерез столько-то л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то мне даст детский след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е пунктирные тонкие нитки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ьётся птаха в груд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дорог позад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потерь, и находок в избыт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 к вершине го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алёкой по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олотые летят паутин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цепил сапож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ей-то робкий снежок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рассыпался он на снежин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3.10.198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9" descr="0_68c3d_46219f9f_XL"/>
          <p:cNvPicPr/>
          <p:nvPr/>
        </p:nvPicPr>
        <p:blipFill>
          <a:blip r:embed="rId1"/>
          <a:srcRect l="0" t="0" r="55561" b="0"/>
          <a:stretch/>
        </p:blipFill>
        <p:spPr>
          <a:xfrm>
            <a:off x="179280" y="2060640"/>
            <a:ext cx="2880000" cy="446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_68c3d_46219f9f_XL"/>
          <p:cNvPicPr/>
          <p:nvPr/>
        </p:nvPicPr>
        <p:blipFill>
          <a:blip r:embed="rId2"/>
          <a:srcRect l="71334" t="0" r="0" b="0"/>
          <a:stretch/>
        </p:blipFill>
        <p:spPr>
          <a:xfrm>
            <a:off x="7164360" y="1413000"/>
            <a:ext cx="1736640" cy="41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потребление топонима «Покровка» в литератур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7" descr="07-18-05_2132410_raduga"/>
          <p:cNvPicPr/>
          <p:nvPr/>
        </p:nvPicPr>
        <p:blipFill>
          <a:blip r:embed="rId1"/>
          <a:srcRect l="10790" t="0" r="0" b="-71"/>
          <a:stretch/>
        </p:blipFill>
        <p:spPr>
          <a:xfrm>
            <a:off x="250920" y="3284640"/>
            <a:ext cx="3882960" cy="3267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806400" y="1258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 музыке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песня на стихи Александра Макаренков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Третью полночь воет в подворотн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Пес захожий. Коли душу отнял -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отними и тело, гость субботний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д Покровскою горой - радуга.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М. Цветаева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кварельная, такая смачная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т город на холмах не Елабуга,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нем петлею глотка не схвачена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лаговест от Успенки в высь летит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упола к облакам пришпилены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олочеными крестами, не шпилями,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 на золоте том воронье хандрит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бы опухших фонарей в небо вперились –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се пытаются бельмом что-то высмотреть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Я на радугу гляжу, мне не верится: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емь цветов, судеб семь, да восьмая - смерть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сень лупит по ветвям, листья - в облака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 того, быть может, небо не синее,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то перемешаны: Судьба. Точка. Линия,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лаговест, да воронье,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 для меня пока: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д Покровскою горой – радуга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кварельная такая легкая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т город на холмах не Елабуга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емь цветов заполонили мне легкие.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01 г.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ключение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кров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я существительное, ж.р., ед.ч., 1 скл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овано от имени прилагательного «покровская» (гора) аффиксальным способ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 наиболее древних топоним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поним «Покровка» широко распространен среди смолян, нашел отражение                         в  художественной литер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Будаев Д.И. Топонимический словарь Смоленской области / [авт. и сост.] Д. И. Будаев, Б. А. Махотин.– Смоленск, 2009. – 348 с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Бутеев Д.В. Под покровом имен: словарь неофициальных топонимов г. Смоленска / Д. В. Бутеев, В. В. Никифорова, В. Ю. – Смоленск, 2012. – 163 с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Васильев, Б.Л. Летят мои кони: повести и рассказы / Борис Васильев.– М.: Советский писатель, 1984.– 317 с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Город-герой Смоленск: очерк-путеводитель / Г. Т. Рябков [и др.] .– М. ; Смоленск, 1988 .– 252 с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Ефремова Т.Ф. Толковый словарь словообразовательных единиц русского языка / Т.Ф. Ефремова. – М., 1996.– 638 с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Ипатова Р. На Покровской горе… //Смоленск. – 2013. - №09. – С. 12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Макаренков А.О. Монологи межсезонья: стихотворения. Рисунки. Проза / Александр Макаренков.– Смоленск, 1993.– 222 с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Ожегов С.И. Толковый словарь русского языка : 80000 слов и фразеологических выражений / С. И. Ожегов, Н. Ю. Шведова.– 4-е изд., доп.– М., 2001. – 943 с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Толковый словарь русского языка: В 4 т. / Под ред. Д. Н. Ушакова. – М., 2000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Фасмер М. Этимологический словарь русского языка: в 4 т. / Макс Фасмер; пер. с нем. и доп. О. Н. Трубачева; под ред. и с предисл. Б. А. Ларина.– Изд. 2-е, стер.– М., 1986-1987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ahoma"/>
              </a:rPr>
              <a:t>Электронные источники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makar.bip.ru/arch/vrs_0029.html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Альбом (CD) "ПРОСНУТЬСЯ В ПЯТЬ УТРА" – песня о Смоленске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live.smolensk.ws/index.php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– история топонимов Смоленщины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traditio-ru.org/wiki/Погребной-Александров:Кров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– А. Н. Погребной-Александров, «Занимательная этимология, и/или… — эти мол, логические размышления»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681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5" descr="1275898881_575"/>
          <p:cNvPicPr/>
          <p:nvPr/>
        </p:nvPicPr>
        <p:blipFill>
          <a:blip r:embed="rId1">
            <a:lum bright="-12000"/>
          </a:blip>
          <a:srcRect l="12908" t="0" r="0" b="13948"/>
          <a:stretch/>
        </p:blipFill>
        <p:spPr>
          <a:xfrm>
            <a:off x="5219640" y="3500280"/>
            <a:ext cx="3156120" cy="23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nsmolensk_pic_64543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219640" y="189000"/>
            <a:ext cx="3513240" cy="2338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thumb"/>
          <p:cNvPicPr/>
          <p:nvPr/>
        </p:nvPicPr>
        <p:blipFill>
          <a:blip r:embed="rId3">
            <a:lum bright="-12000"/>
          </a:blip>
          <a:srcRect l="0" t="0" r="0" b="3175"/>
          <a:stretch/>
        </p:blipFill>
        <p:spPr>
          <a:xfrm>
            <a:off x="324000" y="260280"/>
            <a:ext cx="3382920" cy="233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[&amp;ZeroWidthSpace;IMG]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5280" y="3500280"/>
            <a:ext cx="3513240" cy="234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[&amp;ZeroWidthSpace;IMG]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2843280" y="1989000"/>
            <a:ext cx="350820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сти этимологический и морфемный анализ слова «покров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овить этимологию слова «покровка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снить смысл топонима «Покровка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историю района Покровка                       г. Смоленс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делать морфемный разбор слова, охарактеризовать значение морф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значение слова «покровка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ти упоминание о районе Покровка в художественной литер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учные термин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Топо́ним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— название географического объекта. Топонимы изучаются наукой </a:t>
            </a: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топонимикой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Этимоло́гия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— раздел языкознания, изучающий происхождение слов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Этимологический анализ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– это выяснение ранее существовавшего морфологического строения слова, его прошлых словообразовательных связей, определение источника и времени появления слова, установление способа его образования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Морфе́ма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— мельчайшая значимая единица языка, выделяемая в составе слова и выполняющая функции словообразования и словоизменения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Морфемный анализ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– разбор слова по составу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окровская гора / Покров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5" descr="Полицейская и пожарная часьт на Покровской горе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132000" y="3639960"/>
            <a:ext cx="5774040" cy="298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24000" y="1484280"/>
            <a:ext cx="5040000" cy="27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592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3790800"/>
            <a:ext cx="1414440" cy="215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7997388e2aaa4a1c41b0e4729b0aaf18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79280" y="4797360"/>
            <a:ext cx="2398680" cy="1800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кровка: </a:t>
            </a: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арактеристика район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ровка — старая часть города, расположенная  в Заднепровском район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вание получила от Покровской го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полагает значительным жилым фондом. Большую долю занимает индивидуальная застрой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есь находятся заводы, школы, больница, госпиталь, церковь, спортивные и культурные объект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пными транспортными магистралями являются ул. Фрунзе, Кутузова, 12 лет Октября. Через Покровку осуществляется связь с автомагистралью Москва - Минс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7" descr="1347000000_sam_643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41128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m_17697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5003640" y="4724280"/>
            <a:ext cx="2543400" cy="19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&amp;Icy;&amp;zcy;&amp;ocy;&amp;bcy;&amp;rcy;&amp;acy;&amp;zhcy;&amp;iecy;&amp;ncy;&amp;icy;&amp;iecy;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59280" y="3562200"/>
            <a:ext cx="4130640" cy="2459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кровка: </a:t>
            </a: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топоним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42472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й Заднепровский район Смоленска образован в 1965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вание возникло в конце XVII 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До революции этот район был намного меньше и назывался третьей частью города. Он располагался на нескольких высотах, каждая из которых имела свое название – Скляная, Девичья, Валутина, Тихвинская и Покровская горы, Серебрянка, Ямщин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опоним улицы-горы самобытный и,                                                      пожалуй, из равнинных городов                                                        есть только в Смоленске. Смысл                                              таких топонимов в том, что они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отмечают трудность подъема                                                                  или спуска по данной дороге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Из возникших в древности топонимов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самым «живучим» оказалась Покровка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Этимология:</a:t>
            </a:r>
            <a:br>
              <a:rPr sz="4000"/>
            </a:b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происхождение корневой основы</a:t>
            </a:r>
            <a:br>
              <a:rPr sz="4000"/>
            </a:br>
            <a:r>
              <a:rPr b="0" i="1" lang="ru-RU" sz="6000" spc="-1" strike="noStrike">
                <a:solidFill>
                  <a:srgbClr val="ffcc00"/>
                </a:solidFill>
                <a:latin typeface="Tahoma"/>
              </a:rPr>
              <a:t>-кров-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словарю М. Фасмера: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от гл. крыть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праслав. формы, от которой также произошли: ст.-слав. крꙑти, русск. крыть, укр. кри́ти, белор. крыць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гребной-Александров: «Древнее русское слово «кров» является сокращением русско-славянской словесности в различных диалектах, происходящее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от термина «крытый ров»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что означало и означает «спасаться под крышей» 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дания, сообщества, судьбы и т. д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; в настоящее время слово приобрело общее и более широкое многозначное соответствие «защиты» от чего- или кого-либо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Этимология:</a:t>
            </a:r>
            <a:br>
              <a:rPr sz="4000"/>
            </a:b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добавление префикса </a:t>
            </a:r>
            <a:br>
              <a:rPr sz="4000"/>
            </a:br>
            <a:r>
              <a:rPr b="0" i="1" lang="ru-RU" sz="6000" spc="-1" strike="noStrike">
                <a:solidFill>
                  <a:srgbClr val="ffcc00"/>
                </a:solidFill>
                <a:latin typeface="Tahoma"/>
              </a:rPr>
              <a:t>по-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начение префикса по- -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расположение на поверхности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в пределах чего-л.: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бережье, поречье, Поднепровъ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о-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-кров-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ок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944960" y="371628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3:00:12Z</dcterms:created>
  <dc:creator>Admin</dc:creator>
  <dc:description/>
  <dc:language>en-US</dc:language>
  <cp:lastModifiedBy>Елена</cp:lastModifiedBy>
  <dcterms:modified xsi:type="dcterms:W3CDTF">2014-04-01T15:45:14Z</dcterms:modified>
  <cp:revision>20</cp:revision>
  <dc:subject/>
  <dc:title>Покровка (этимологический и морфемный анализ)</dc:title>
</cp:coreProperties>
</file>