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758-FF93-4C10-9423-BB7D5F43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656-302B-4882-BBC1-DC50CA26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D79-4165-4242-98E5-B17420AC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8EE-4D0B-4D03-A57E-07703881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C2E-18B6-4158-BDE3-EF7C8902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9E9-C867-4885-9D31-1F608BB1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20D-872D-4B70-BF83-54EED49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EF1-B8FC-428D-A48D-53CB7C06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4C5-B6B2-4631-918C-016AA8FE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EA7-612C-4BA5-9582-7F01EB0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001-ED25-4CCC-8DB7-34872062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5D8-0CC5-42C9-BD60-0BBF076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0407-1DD3-4486-B1E9-50515D396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6829560" cy="17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Животные Краснодарского края</a:t>
            </a:r>
            <a:endParaRPr b="1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539640" y="3860640"/>
            <a:ext cx="7632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Кавказская ры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9" descr="Животные Западного Кавказа. Рысь"/>
          <p:cNvPicPr/>
          <p:nvPr/>
        </p:nvPicPr>
        <p:blipFill>
          <a:blip r:embed="rId1"/>
          <a:stretch/>
        </p:blipFill>
        <p:spPr>
          <a:xfrm>
            <a:off x="2843280" y="1197000"/>
            <a:ext cx="3279600" cy="39607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46" name="Text Box 12"/>
          <p:cNvSpPr/>
          <p:nvPr/>
        </p:nvSpPr>
        <p:spPr>
          <a:xfrm>
            <a:off x="395280" y="5877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полнила ученица 2 класса СОШ № 19 г. Краснод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нанченко Анто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мый крупный вид рода кошек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ные черты – высокие ноги, короткий хвост (черный на конце), кисточки на ушах и удлиненные волосы на ще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1184845337_1"/>
          <p:cNvPicPr/>
          <p:nvPr/>
        </p:nvPicPr>
        <p:blipFill>
          <a:blip r:embed="rId1"/>
          <a:stretch/>
        </p:blipFill>
        <p:spPr>
          <a:xfrm>
            <a:off x="5219640" y="4473720"/>
            <a:ext cx="3529080" cy="193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rys_small"/>
          <p:cNvPicPr/>
          <p:nvPr/>
        </p:nvPicPr>
        <p:blipFill>
          <a:blip r:embed="rId2"/>
          <a:stretch/>
        </p:blipFill>
        <p:spPr>
          <a:xfrm>
            <a:off x="4572000" y="2133720"/>
            <a:ext cx="2735280" cy="255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0_4891c_e678237d_L"/>
          <p:cNvPicPr/>
          <p:nvPr/>
        </p:nvPicPr>
        <p:blipFill>
          <a:blip r:embed="rId3"/>
          <a:stretch/>
        </p:blipFill>
        <p:spPr>
          <a:xfrm>
            <a:off x="395280" y="2133720"/>
            <a:ext cx="4824360" cy="432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1rys_st"/>
          <p:cNvPicPr/>
          <p:nvPr/>
        </p:nvPicPr>
        <p:blipFill>
          <a:blip r:embed="rId4"/>
          <a:stretch/>
        </p:blipFill>
        <p:spPr>
          <a:xfrm>
            <a:off x="6877080" y="2133720"/>
            <a:ext cx="1873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ысь обитает в предгорных и горных районах Краснодар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ynx27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4951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ысь это хищник. Она охотится на лисиц, барсуков, мышей, иногда на домашни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1rys_st"/>
          <p:cNvPicPr/>
          <p:nvPr/>
        </p:nvPicPr>
        <p:blipFill>
          <a:blip r:embed="rId1"/>
          <a:stretch/>
        </p:blipFill>
        <p:spPr>
          <a:xfrm>
            <a:off x="1258920" y="1773360"/>
            <a:ext cx="1854000" cy="256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bobcat-mouse"/>
          <p:cNvPicPr/>
          <p:nvPr/>
        </p:nvPicPr>
        <p:blipFill>
          <a:blip r:embed="rId2"/>
          <a:stretch/>
        </p:blipFill>
        <p:spPr>
          <a:xfrm>
            <a:off x="4211640" y="1484280"/>
            <a:ext cx="40561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авказская рысь занесена в Красную книгу Краснодарского кра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img2"/>
          <p:cNvPicPr/>
          <p:nvPr/>
        </p:nvPicPr>
        <p:blipFill>
          <a:blip r:embed="rId1"/>
          <a:stretch/>
        </p:blipFill>
        <p:spPr>
          <a:xfrm>
            <a:off x="539640" y="2060640"/>
            <a:ext cx="2579760" cy="41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Bobcat_Mother_and_Kitten_1"/>
          <p:cNvPicPr/>
          <p:nvPr/>
        </p:nvPicPr>
        <p:blipFill>
          <a:blip r:embed="rId2"/>
          <a:stretch/>
        </p:blipFill>
        <p:spPr>
          <a:xfrm>
            <a:off x="3348000" y="2060640"/>
            <a:ext cx="52563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ыс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бивают ради красивого м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%D1%80%D1%8B%D1%81%D1%8C-%D0%B2-%D0%BA%D0%B0%D0%BF%D0%BA%D0%B0%D0%BD%D0%B5-%D0%BA%D0%BE%D0%BF%D0%B8"/>
          <p:cNvPicPr/>
          <p:nvPr/>
        </p:nvPicPr>
        <p:blipFill>
          <a:blip r:embed="rId1"/>
          <a:stretch/>
        </p:blipFill>
        <p:spPr>
          <a:xfrm>
            <a:off x="2556000" y="2565360"/>
            <a:ext cx="4762440" cy="308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shuba-rys-3"/>
          <p:cNvPicPr/>
          <p:nvPr/>
        </p:nvPicPr>
        <p:blipFill>
          <a:blip r:embed="rId2"/>
          <a:stretch/>
        </p:blipFill>
        <p:spPr>
          <a:xfrm>
            <a:off x="6804000" y="1341360"/>
            <a:ext cx="1984320" cy="247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tories_lynx_foto1"/>
          <p:cNvPicPr/>
          <p:nvPr/>
        </p:nvPicPr>
        <p:blipFill>
          <a:blip r:embed="rId3"/>
          <a:stretch/>
        </p:blipFill>
        <p:spPr>
          <a:xfrm>
            <a:off x="5867280" y="4365720"/>
            <a:ext cx="2857680" cy="214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shuba-rys-1"/>
          <p:cNvPicPr/>
          <p:nvPr/>
        </p:nvPicPr>
        <p:blipFill>
          <a:blip r:embed="rId4"/>
          <a:stretch/>
        </p:blipFill>
        <p:spPr>
          <a:xfrm>
            <a:off x="611280" y="3141720"/>
            <a:ext cx="2516040" cy="335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I love life"/>
          <p:cNvPicPr/>
          <p:nvPr/>
        </p:nvPicPr>
        <p:blipFill>
          <a:blip r:embed="rId5"/>
          <a:stretch/>
        </p:blipFill>
        <p:spPr>
          <a:xfrm>
            <a:off x="611280" y="1197000"/>
            <a:ext cx="150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c552f735ff4"/>
          <p:cNvPicPr/>
          <p:nvPr/>
        </p:nvPicPr>
        <p:blipFill>
          <a:blip r:embed="rId1"/>
          <a:stretch/>
        </p:blipFill>
        <p:spPr>
          <a:xfrm>
            <a:off x="3995640" y="2071800"/>
            <a:ext cx="4608720" cy="3460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3da6351dcc69"/>
          <p:cNvPicPr/>
          <p:nvPr/>
        </p:nvPicPr>
        <p:blipFill>
          <a:blip r:embed="rId2"/>
          <a:stretch/>
        </p:blipFill>
        <p:spPr>
          <a:xfrm>
            <a:off x="539640" y="328464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%D0%98%D1%81%D0%BF%D0%B0%D0%BD%D1%81%D0%BA%D0%B0%D1%8F-%D1%80%D1%8B%D1%81%D1%8C"/>
          <p:cNvPicPr/>
          <p:nvPr/>
        </p:nvPicPr>
        <p:blipFill>
          <a:blip r:embed="rId3"/>
          <a:stretch/>
        </p:blipFill>
        <p:spPr>
          <a:xfrm>
            <a:off x="539640" y="476280"/>
            <a:ext cx="4056120" cy="270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1"/>
          <p:cNvSpPr/>
          <p:nvPr/>
        </p:nvSpPr>
        <p:spPr>
          <a:xfrm>
            <a:off x="4284720" y="47628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сли мы люди – ЛЮ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рдце пускай у нас бу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 пусть оно будет вечн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 всем на Зем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ЕЛОВЕЧН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755640" y="5445000"/>
            <a:ext cx="748836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20:02:55Z</dcterms:created>
  <dc:creator>SamLab.ws</dc:creator>
  <dc:description/>
  <dc:language>en-US</dc:language>
  <cp:lastModifiedBy>Мастер</cp:lastModifiedBy>
  <dcterms:modified xsi:type="dcterms:W3CDTF">2015-01-14T12:47:30Z</dcterms:modified>
  <cp:revision>4</cp:revision>
  <dc:subject/>
  <dc:title>Слайд 1</dc:title>
</cp:coreProperties>
</file>