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5ED-77B7-41B9-AA54-2AAF7E55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6FE-F315-4F77-B295-061D936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2EA-5C08-472E-97DB-3E6573CF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DB4-6759-43D1-80F0-97773E4D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B66C-6B4A-4D0E-8045-30434E99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D66C-908C-45E4-897F-18810AE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9D76-B240-4C47-895B-8CFD780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E9F6-0034-40EF-A89E-65D0A38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0AF5-7160-4DF4-B0A1-A68A6413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B7C4-F95E-428E-90EF-6390F0A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3B5C-F552-4E17-B600-C32D316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6F1-79B4-40CD-A3E5-69CBDDB3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86D8-5672-42B9-BB03-7A8B3F5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F582-D40D-4F10-A51B-1F64ACE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6701-B818-4136-A171-945A014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FAB1-DD17-4DA0-B1AB-2AD4459B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759-FF11-4A9B-8520-7A5A4C6A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195-67C0-4F15-9F32-D2ABF2F9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407-BCC4-40D1-BFF3-6B587340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9E3-1951-4E81-82F6-13E9FA6D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309-8DDE-4076-A194-17C10F5A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642-779D-4070-9181-61DD3A77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958-FCBF-42FE-8AAA-09169F2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9FC-0A55-4FF2-81DA-1B8EC374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781-F904-4B7C-8C3B-A0CC4F041B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64C8-2FD9-4047-8CDA-A45BC60A45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НИМАНИЕ! ВОПРОС №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986600" cy="71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Святой архангел Михаил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26920" y="2781360"/>
            <a:ext cx="7986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лось судно  семьи Ломоносовых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15_m"/>
          <p:cNvPicPr/>
          <p:nvPr/>
        </p:nvPicPr>
        <p:blipFill>
          <a:blip r:embed="rId1"/>
          <a:stretch/>
        </p:blipFill>
        <p:spPr>
          <a:xfrm>
            <a:off x="826920" y="0"/>
            <a:ext cx="7488360" cy="5689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6011640" y="4723920"/>
            <a:ext cx="2517480" cy="68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Христиан Вольф (1679-1754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563400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етербургские руссы» были записаны в университетскую книгу 17 ноября 1736 г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342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зовите город в Германии, связанный со студенчески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дами  М.В. Ломонос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!  Вопрос № 4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6" descr="lomonosovmarburg"/>
          <p:cNvPicPr/>
          <p:nvPr/>
        </p:nvPicPr>
        <p:blipFill>
          <a:blip r:embed="rId1"/>
          <a:stretch/>
        </p:blipFill>
        <p:spPr>
          <a:xfrm>
            <a:off x="2124000" y="189000"/>
            <a:ext cx="4856400" cy="648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900000" y="2421000"/>
            <a:ext cx="7192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268360" y="2997360"/>
            <a:ext cx="4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3419640" y="2997360"/>
            <a:ext cx="37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4643280" y="299736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8172360" y="299736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6948360" y="299736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796000" y="292428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539640" y="2205000"/>
            <a:ext cx="1079640" cy="1584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26920" y="292428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835280" y="2205000"/>
            <a:ext cx="1079280" cy="1584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122560" y="292428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3059280" y="2205000"/>
            <a:ext cx="1079280" cy="1584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3346560" y="2924280"/>
            <a:ext cx="5760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4284720" y="2205000"/>
            <a:ext cx="1079280" cy="1584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572000" y="292428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435640" y="2205000"/>
            <a:ext cx="1079640" cy="1584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722920" y="292428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588000" y="2205000"/>
            <a:ext cx="1079640" cy="1584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75640" y="2924280"/>
            <a:ext cx="5760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7812000" y="2205000"/>
            <a:ext cx="1079640" cy="1584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8099280" y="292428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Рисунок94"/>
          <p:cNvPicPr/>
          <p:nvPr/>
        </p:nvPicPr>
        <p:blipFill>
          <a:blip r:embed="rId1"/>
          <a:stretch/>
        </p:blipFill>
        <p:spPr>
          <a:xfrm>
            <a:off x="611280" y="404640"/>
            <a:ext cx="816444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mihajlo"/>
          <p:cNvPicPr/>
          <p:nvPr/>
        </p:nvPicPr>
        <p:blipFill>
          <a:blip r:embed="rId1"/>
          <a:stretch/>
        </p:blipFill>
        <p:spPr>
          <a:xfrm>
            <a:off x="3780000" y="1773360"/>
            <a:ext cx="5148000" cy="394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Рисунок79"/>
          <p:cNvPicPr/>
          <p:nvPr/>
        </p:nvPicPr>
        <p:blipFill>
          <a:blip r:embed="rId2"/>
          <a:stretch/>
        </p:blipFill>
        <p:spPr>
          <a:xfrm>
            <a:off x="250920" y="260280"/>
            <a:ext cx="4483080" cy="32115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2700360" y="5950080"/>
            <a:ext cx="683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др из фильм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Михайло Ломоносо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5280" y="3716280"/>
            <a:ext cx="2879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че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бора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3_XIV_0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Инструменты химика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ой древний вид изобразительного искусства возродил Ломонос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!  Вопрос № 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00000" y="4797360"/>
            <a:ext cx="77724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за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Императрица Елизавета Петровна</a:t>
            </a:r>
            <a:br>
              <a:rPr sz="28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заика мастерской Ломоносова,1758-1760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Picture 3" descr="moz_45_c"/>
          <p:cNvPicPr/>
          <p:nvPr/>
        </p:nvPicPr>
        <p:blipFill>
          <a:blip r:embed="rId1"/>
          <a:stretch/>
        </p:blipFill>
        <p:spPr>
          <a:xfrm>
            <a:off x="2700360" y="1773360"/>
            <a:ext cx="37242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8020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Апостол Пётр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заика мастерской Ломоносова,1761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Picture 3" descr="moz_57_c"/>
          <p:cNvPicPr/>
          <p:nvPr/>
        </p:nvPicPr>
        <p:blipFill>
          <a:blip r:embed="rId1"/>
          <a:stretch/>
        </p:blipFill>
        <p:spPr>
          <a:xfrm>
            <a:off x="2916360" y="1700280"/>
            <a:ext cx="3719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29_m"/>
          <p:cNvPicPr/>
          <p:nvPr/>
        </p:nvPicPr>
        <p:blipFill>
          <a:blip r:embed="rId1"/>
          <a:stretch/>
        </p:blipFill>
        <p:spPr>
          <a:xfrm>
            <a:off x="2050920" y="0"/>
            <a:ext cx="51246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ihajlo"/>
          <p:cNvPicPr/>
          <p:nvPr/>
        </p:nvPicPr>
        <p:blipFill>
          <a:blip r:embed="rId1"/>
          <a:stretch/>
        </p:blipFill>
        <p:spPr>
          <a:xfrm>
            <a:off x="1116000" y="476280"/>
            <a:ext cx="6858000" cy="514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2" name="Rectangle 5"/>
          <p:cNvSpPr/>
          <p:nvPr/>
        </p:nvSpPr>
        <p:spPr>
          <a:xfrm>
            <a:off x="1187280" y="5805360"/>
            <a:ext cx="683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др из фильма  «Михайло Ломоносо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moz_29_c"/>
          <p:cNvPicPr/>
          <p:nvPr/>
        </p:nvPicPr>
        <p:blipFill>
          <a:blip r:embed="rId1"/>
          <a:stretch/>
        </p:blipFill>
        <p:spPr>
          <a:xfrm>
            <a:off x="2843280" y="1268280"/>
            <a:ext cx="292572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0802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!  Вопрос № 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84360" y="5516640"/>
            <a:ext cx="8080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Кто изображён на репродукции мозаики М.В.Ломоносова?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268360" y="1052640"/>
            <a:ext cx="4104000" cy="41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Чёрны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ящ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3" name="Picture 5" descr="сканирование0018"/>
          <p:cNvPicPr/>
          <p:nvPr/>
        </p:nvPicPr>
        <p:blipFill>
          <a:blip r:embed="rId1"/>
          <a:stretch/>
        </p:blipFill>
        <p:spPr>
          <a:xfrm>
            <a:off x="539640" y="476280"/>
            <a:ext cx="3529080" cy="3267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сканирование0034"/>
          <p:cNvPicPr/>
          <p:nvPr/>
        </p:nvPicPr>
        <p:blipFill>
          <a:blip r:embed="rId2"/>
          <a:stretch/>
        </p:blipFill>
        <p:spPr>
          <a:xfrm>
            <a:off x="4356000" y="765000"/>
            <a:ext cx="2170080" cy="331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Q05PCAF6IE21CAH2JNAECAJNOXVCCAK5KRKQCAU222ORCAMJTTTVCAENV5XICAHTWLJGCAVBUBM3CAK59XY0CACDVCEUCAWXT1V8CAQ28IFHCAINNWMGCAL9B17HCAAL3Z3VCANCH3XECAGM14OGCA5K3YNZ"/>
          <p:cNvPicPr/>
          <p:nvPr/>
        </p:nvPicPr>
        <p:blipFill>
          <a:blip r:embed="rId3"/>
          <a:stretch/>
        </p:blipFill>
        <p:spPr>
          <a:xfrm>
            <a:off x="2700360" y="4005360"/>
            <a:ext cx="1452600" cy="244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lomonosov_krasnorechie"/>
          <p:cNvPicPr/>
          <p:nvPr/>
        </p:nvPicPr>
        <p:blipFill>
          <a:blip r:embed="rId4"/>
          <a:srcRect l="53595" t="0" r="0" b="3621"/>
          <a:stretch/>
        </p:blipFill>
        <p:spPr>
          <a:xfrm rot="923400">
            <a:off x="6948360" y="549360"/>
            <a:ext cx="1730520" cy="2665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page1-381px-Вольфианская_экспериментальная_физика"/>
          <p:cNvPicPr/>
          <p:nvPr/>
        </p:nvPicPr>
        <p:blipFill>
          <a:blip r:embed="rId5"/>
          <a:stretch/>
        </p:blipFill>
        <p:spPr>
          <a:xfrm>
            <a:off x="7236000" y="3213000"/>
            <a:ext cx="1672920" cy="2637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aa2c607c9f54"/>
          <p:cNvPicPr/>
          <p:nvPr/>
        </p:nvPicPr>
        <p:blipFill>
          <a:blip r:embed="rId6"/>
          <a:stretch/>
        </p:blipFill>
        <p:spPr>
          <a:xfrm>
            <a:off x="4427640" y="4653000"/>
            <a:ext cx="2968560" cy="1751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51eb5ea03a9f6e034ac42442c73"/>
          <p:cNvPicPr/>
          <p:nvPr/>
        </p:nvPicPr>
        <p:blipFill>
          <a:blip r:embed="rId7"/>
          <a:stretch/>
        </p:blipFill>
        <p:spPr>
          <a:xfrm>
            <a:off x="755640" y="3933720"/>
            <a:ext cx="1676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74_m"/>
          <p:cNvPicPr/>
          <p:nvPr/>
        </p:nvPicPr>
        <p:blipFill>
          <a:blip r:embed="rId1"/>
          <a:stretch/>
        </p:blipFill>
        <p:spPr>
          <a:xfrm>
            <a:off x="324000" y="333360"/>
            <a:ext cx="834048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306864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каких науках преуспел М.В.Ломонос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!  Вопрос №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2560" y="333360"/>
            <a:ext cx="8080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  апреля 1765 г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00720" y="1981080"/>
            <a:ext cx="395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азаревское   кладбище Александро-Невской лавр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P1010551"/>
          <p:cNvPicPr/>
          <p:nvPr/>
        </p:nvPicPr>
        <p:blipFill>
          <a:blip r:embed="rId1"/>
          <a:stretch/>
        </p:blipFill>
        <p:spPr>
          <a:xfrm>
            <a:off x="684360" y="155736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5329080" cy="5699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 стало человека, имя которого составит эпоху в летописи человеческого разума, обширного и блестящего гения, обнимавшего и озарявшего вдруг многие отрасл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ческое Собр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15"/>
          <p:cNvPicPr/>
          <p:nvPr/>
        </p:nvPicPr>
        <p:blipFill>
          <a:blip r:embed="rId1"/>
          <a:stretch/>
        </p:blipFill>
        <p:spPr>
          <a:xfrm>
            <a:off x="5940360" y="907920"/>
            <a:ext cx="280980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БЛИЦ-ОПРО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 секунд на отв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та и год рождения Ломонос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8 ноября 17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8 ноября 17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8 октября 17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Где родился Ломонос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с. Емец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с. Холмого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д. Мишанинск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ак Ломоносов ушел из до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тай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попрощался с отц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попрощался с мачех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Церковь Дмитрия Солунского в селе Ломоносово.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ительство церкви Дмитрия Солунского велось на глазах у юного Михайлы Ломоносова. С ней связаны его первые шаги в овладении русской грамотой. Современники считали его «лутчим чтецом в приходской своей церкви».  Даже  дату его рождения мы знаем благодаря церковному архив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6" descr="img_0680"/>
          <p:cNvPicPr/>
          <p:nvPr/>
        </p:nvPicPr>
        <p:blipFill>
          <a:blip r:embed="rId1"/>
          <a:stretch/>
        </p:blipFill>
        <p:spPr>
          <a:xfrm>
            <a:off x="539640" y="2349360"/>
            <a:ext cx="4098960" cy="27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В каком году ушел Ломоносов с рыбным обозом в Москв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17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17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17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Во сколько лет Ломоносов обучился грамот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8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10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20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Чем хотел заставить сына заниматься отец Ломоносов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промыслом и своим хозяйств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торгов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научными исследования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. Во сколько лет Ломоносов ушел в Москв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19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18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16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. В какой академии учился Ломонос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латино-греко-римск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славяно-греко-латинск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русско-латинск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. Что на первое место ставил он в качестве источника знан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опы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теор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мнение други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. Какую лабораторию в 1748 году открыл Ломонос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физическ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химическ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биохимическ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2. Кто называл Ломоносова «первым русским университетом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Лермо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Пушк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Рихма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3. На каком языке Ломоносов читал лекции в Академи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) на латинск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) на немецк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) на русск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66_m"/>
          <p:cNvPicPr/>
          <p:nvPr/>
        </p:nvPicPr>
        <p:blipFill>
          <a:blip r:embed="rId1"/>
          <a:stretch/>
        </p:blipFill>
        <p:spPr>
          <a:xfrm>
            <a:off x="0" y="0"/>
            <a:ext cx="8964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58671"/>
          <p:cNvPicPr/>
          <p:nvPr/>
        </p:nvPicPr>
        <p:blipFill>
          <a:blip r:embed="rId1"/>
          <a:stretch/>
        </p:blipFill>
        <p:spPr>
          <a:xfrm>
            <a:off x="1979640" y="549360"/>
            <a:ext cx="5481720" cy="4484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6"/>
          <p:cNvSpPr/>
          <p:nvPr/>
        </p:nvSpPr>
        <p:spPr>
          <a:xfrm>
            <a:off x="1187280" y="5445000"/>
            <a:ext cx="683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др из фильма  «Михайло Ломоносо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80074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«ЛОМОНОСОВОВЕДЕНИЕ» 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КАК ИСТОРИКО-НАУЧНАЯ ДИСЦИПЛИН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омоносововедение» − изучение биографии, научного наследия и вклада М.В.Ломоносова  в науку и культурный процесс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чалом «ломоносововедения» можно считать появившиеся сразу же после смерти М.В.Ломоносова оценки современников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0920" y="5444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оморский государственный университет им.М.В.Ломоносов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4" name="Picture 4" descr="Памятник М. В. Ломоносову, г. Архангельск, пр. Ломоносова, напротив здания Поморского государственного университета имени М. В. Ломоносова"/>
          <p:cNvPicPr/>
          <p:nvPr/>
        </p:nvPicPr>
        <p:blipFill>
          <a:blip r:embed="rId1"/>
          <a:stretch/>
        </p:blipFill>
        <p:spPr>
          <a:xfrm>
            <a:off x="2700360" y="33336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6" name="Picture 5" descr="Логотип Ломоносовского фонда"/>
          <p:cNvPicPr/>
          <p:nvPr/>
        </p:nvPicPr>
        <p:blipFill>
          <a:blip r:embed="rId1"/>
          <a:stretch/>
        </p:blipFill>
        <p:spPr>
          <a:xfrm>
            <a:off x="2340000" y="1413000"/>
            <a:ext cx="402120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71280" y="5444640"/>
            <a:ext cx="30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с. Ломоносов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8" name="Picture 4" descr="Памятник М. В. Ломоносову, с. Ломоносово"/>
          <p:cNvPicPr/>
          <p:nvPr/>
        </p:nvPicPr>
        <p:blipFill>
          <a:blip r:embed="rId1"/>
          <a:stretch/>
        </p:blipFill>
        <p:spPr>
          <a:xfrm>
            <a:off x="2556000" y="189000"/>
            <a:ext cx="360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0" name="Picture 4" descr="Рисунок105"/>
          <p:cNvPicPr/>
          <p:nvPr/>
        </p:nvPicPr>
        <p:blipFill>
          <a:blip r:embed="rId1"/>
          <a:stretch/>
        </p:blipFill>
        <p:spPr>
          <a:xfrm>
            <a:off x="5435640" y="549360"/>
            <a:ext cx="3324240" cy="2492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Рисунок106"/>
          <p:cNvPicPr/>
          <p:nvPr/>
        </p:nvPicPr>
        <p:blipFill>
          <a:blip r:embed="rId2"/>
          <a:stretch/>
        </p:blipFill>
        <p:spPr>
          <a:xfrm>
            <a:off x="5364000" y="3573360"/>
            <a:ext cx="3603960" cy="2702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Рисунок110"/>
          <p:cNvPicPr/>
          <p:nvPr/>
        </p:nvPicPr>
        <p:blipFill>
          <a:blip r:embed="rId3"/>
          <a:stretch/>
        </p:blipFill>
        <p:spPr>
          <a:xfrm>
            <a:off x="250920" y="692280"/>
            <a:ext cx="4895640" cy="3671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Ломоносово 322"/>
          <p:cNvPicPr/>
          <p:nvPr/>
        </p:nvPicPr>
        <p:blipFill>
          <a:blip r:embed="rId4"/>
          <a:stretch/>
        </p:blipFill>
        <p:spPr>
          <a:xfrm>
            <a:off x="3059280" y="836640"/>
            <a:ext cx="1882440" cy="141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5"/>
          <a:stretch/>
        </p:blipFill>
        <p:spPr>
          <a:xfrm>
            <a:off x="900000" y="4221000"/>
            <a:ext cx="338472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0920" y="5444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г.Архангельск                      г.Северодвинск                г.Коряжм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Picture 4" descr="Памятник М. В. Ломоносову напротив здания Архангельского государственного технического университета"/>
          <p:cNvPicPr/>
          <p:nvPr/>
        </p:nvPicPr>
        <p:blipFill>
          <a:blip r:embed="rId1"/>
          <a:stretch/>
        </p:blipFill>
        <p:spPr>
          <a:xfrm>
            <a:off x="324000" y="765000"/>
            <a:ext cx="2928960" cy="4392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Памятник М. В. Ломоносову, город Северодвинск, пересечение пр. Ленина и ул. Ломоносова"/>
          <p:cNvPicPr/>
          <p:nvPr/>
        </p:nvPicPr>
        <p:blipFill>
          <a:blip r:embed="rId2"/>
          <a:stretch/>
        </p:blipFill>
        <p:spPr>
          <a:xfrm>
            <a:off x="3348000" y="765000"/>
            <a:ext cx="292896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6" descr="Памятник М. В. Ломоносову, город Коряжма, установлен на проспекте Ломоносова"/>
          <p:cNvPicPr/>
          <p:nvPr/>
        </p:nvPicPr>
        <p:blipFill>
          <a:blip r:embed="rId3"/>
          <a:srcRect l="0" t="0" r="9010" b="0"/>
          <a:stretch/>
        </p:blipFill>
        <p:spPr>
          <a:xfrm>
            <a:off x="6372360" y="765000"/>
            <a:ext cx="2620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9840" y="5373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Московский государственный университет им.М.В.Ломоносо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0" name="Picture 5" descr="image_35569"/>
          <p:cNvPicPr/>
          <p:nvPr/>
        </p:nvPicPr>
        <p:blipFill>
          <a:blip r:embed="rId1"/>
          <a:stretch/>
        </p:blipFill>
        <p:spPr>
          <a:xfrm>
            <a:off x="1403280" y="333360"/>
            <a:ext cx="64771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51280" y="274320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batDi"/>
              </a:rPr>
              <a:t>«Для пользы общества коль радостно трудиться!»</a:t>
            </a:r>
            <a:r>
              <a:rPr b="0" lang="ru-RU" sz="3200" spc="-1" strike="noStrike">
                <a:solidFill>
                  <a:srgbClr val="ffffff"/>
                </a:solidFill>
                <a:latin typeface="ArbatD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post-27-12898337937136"/>
          <p:cNvPicPr/>
          <p:nvPr/>
        </p:nvPicPr>
        <p:blipFill>
          <a:blip r:embed="rId1"/>
          <a:stretch/>
        </p:blipFill>
        <p:spPr>
          <a:xfrm>
            <a:off x="250920" y="1341360"/>
            <a:ext cx="2836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!  Вопрос №2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Ломоносов назвал "вратами своей учености"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11280" y="4292640"/>
            <a:ext cx="85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Псалтырь», «Грамматика» Смотрицког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Арифметика» Магницко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16000" y="5481720"/>
            <a:ext cx="7338960" cy="61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Юный Ломоносов на пути в Москву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Ломоносово 179"/>
          <p:cNvPicPr/>
          <p:nvPr/>
        </p:nvPicPr>
        <p:blipFill>
          <a:blip r:embed="rId1">
            <a:lum bright="6000"/>
          </a:blip>
          <a:srcRect l="3615" t="4063" r="4519" b="5417"/>
          <a:stretch/>
        </p:blipFill>
        <p:spPr>
          <a:xfrm>
            <a:off x="4500720" y="1700280"/>
            <a:ext cx="2739960" cy="36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3" name="Rectangle 7"/>
          <p:cNvSpPr/>
          <p:nvPr/>
        </p:nvSpPr>
        <p:spPr>
          <a:xfrm>
            <a:off x="250920" y="2708280"/>
            <a:ext cx="3816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ой эпизод из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.В.Ломоносо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казан на слайде?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!  Вопрос №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6560" y="5589720"/>
            <a:ext cx="3668760" cy="79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иконоспасский монасты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427640" y="980640"/>
            <a:ext cx="4176720" cy="431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5 января 1731 года М.В. Ломоносов был зачислен в самый младший класс Славяно-греко-латинской академии, так как ещё вовсе не разумел латыни. Ломоносову пришлось скрыть своё происхождение и назваться сыном дворян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1042920" y="1052640"/>
            <a:ext cx="3335400" cy="4392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64892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Спасские школы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11_m"/>
          <p:cNvPicPr/>
          <p:nvPr/>
        </p:nvPicPr>
        <p:blipFill>
          <a:blip r:embed="rId1"/>
          <a:stretch/>
        </p:blipFill>
        <p:spPr>
          <a:xfrm>
            <a:off x="179280" y="189000"/>
            <a:ext cx="8485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етербург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9960" y="4626000"/>
            <a:ext cx="3814920" cy="1208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ербургская академия наук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к). Рисунок с гравюры Е. Виноград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7640" y="1412640"/>
            <a:ext cx="4248000" cy="511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воприбывших студентов приняли с важностью. Для них приобрели простые кровати, выдали по паре сапог и паре башмаков, шерстяные и гарусные чулки, немного полотна на рубахи и постельное бельё, редкий и частый гребень и кусок ваксы. Москвичей обучали по программе академической гимназ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5" descr="Рисунок13"/>
          <p:cNvPicPr/>
          <p:nvPr/>
        </p:nvPicPr>
        <p:blipFill>
          <a:blip r:embed="rId1"/>
          <a:stretch/>
        </p:blipFill>
        <p:spPr>
          <a:xfrm>
            <a:off x="395280" y="1484280"/>
            <a:ext cx="4105440" cy="2300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8:24:34Z</dcterms:created>
  <dc:creator>Пользователь</dc:creator>
  <dc:description/>
  <dc:language>en-US</dc:language>
  <cp:lastModifiedBy>Ecologika</cp:lastModifiedBy>
  <dcterms:modified xsi:type="dcterms:W3CDTF">2015-01-14T10:22:26Z</dcterms:modified>
  <cp:revision>12</cp:revision>
  <dc:subject/>
  <dc:title>Всероссийский туристский слёт учащихся по лыжному туризму</dc:title>
</cp:coreProperties>
</file>