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5.wmf" ContentType="image/x-wmf"/>
  <Override PartName="/ppt/media/image6.jpeg" ContentType="image/jpeg"/>
  <Override PartName="/ppt/media/image12.wmf" ContentType="image/x-wmf"/>
  <Override PartName="/ppt/media/image8.png" ContentType="image/png"/>
  <Override PartName="/ppt/media/image16.wmf" ContentType="image/x-wmf"/>
  <Override PartName="/ppt/media/chimes.wav" ContentType="audio/x-wav"/>
  <Override PartName="/ppt/media/image4.jpeg" ContentType="image/jpeg"/>
  <Override PartName="/ppt/media/image21.jpeg" ContentType="image/jpeg"/>
  <Override PartName="/ppt/media/image20.jpeg" ContentType="image/jpeg"/>
  <Override PartName="/ppt/media/image17.wmf" ContentType="image/x-wmf"/>
  <Override PartName="/ppt/media/image19.jpeg" ContentType="image/jpeg"/>
  <Override PartName="/ppt/media/image18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D38-9F1D-4760-9056-A8616E67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06C-E567-40D8-BB22-F594972E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57A-C6C0-474C-BDE2-5E5A65B7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7002-261A-4103-9FB8-52EB6813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B836-0128-4781-9A58-6E89473B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FF49-7711-4FDC-A3E8-F157D718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E2B9-440A-4837-AE04-3A44BE28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5050-6018-436D-8333-2CE15D57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9C88-74AB-4C3F-95D3-3BD1254B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ED84-F108-4B37-B9B1-DAB5F501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927A-F41E-4C1C-879D-0F6A3409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096A-D43A-48D1-9633-D6F31118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0A25-E118-451B-AC4D-B02CBE8C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B274-C7B9-4792-A80F-E412A212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A23C-70F0-4AB1-B10C-7D2C67E7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D9CA-1CF4-472E-9FB5-5A819B50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6DF9-943A-448F-B894-41DE203D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A577-F093-4E7F-98EE-ECC5A0FF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3974-6DD7-4CF9-8C53-0C3457F4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F94-BDF3-43B1-B8A2-D3874994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A834-0E30-43FE-9D58-764A8B6C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8CA-AFF8-4FBF-A02D-4581EB92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450-6C8C-448C-A17D-2DEF1A5B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8876-80D4-415B-9603-20C9BCFD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6A15-1404-48F2-9232-1F462D6568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AFA5-0AE0-4EB1-8532-44F638528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deti-spb.ru/design/kid.jpg&amp;imgrefurl=http://www.deti-spb.ru/&amp;h=135&amp;w=176&amp;sz=6&amp;hl=ru&amp;start=310&amp;tbnid=mHJfb6GcwCilqM:&amp;tbnh=77&amp;tbnw=100&amp;prev=/images%3Fq%3D%25D1%2581%25D0%25B5%25D0%25BC%25D1%258C%25D1%258F%26start%3D300%26gbv%3D2%26ndsp%3D20%26svnum%3D10%26hl%3Dru%26newwindow%3D1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170028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0" spc="-1" strike="noStrike">
                <a:solidFill>
                  <a:srgbClr val="ffffff"/>
                </a:solidFill>
                <a:latin typeface="Arial"/>
              </a:rPr>
              <a:t>My family</a:t>
            </a:r>
            <a:br>
              <a:rPr sz="110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зентация к уроку обобщения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теме «Моя семья»  5 классе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: Лисихина Ирина Валериевн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УСОШ № 31 им. В.П.Храмченко г.Тулы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55600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4502160"/>
            <a:ext cx="3059280" cy="2355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659640" y="0"/>
            <a:ext cx="2484360" cy="1801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736720" cy="1687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0" y="4444920"/>
            <a:ext cx="2556000" cy="2413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2602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r small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48992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himes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Find the hidden words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659280" y="1484280"/>
            <a:ext cx="248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Mother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Father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Son                                Daughter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Brother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Sister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Aunt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Un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Cousin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Grandmother                                Grandf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94920" y="1484280"/>
            <a:ext cx="331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 o k p l m o t h e r 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g r f a t h e r o k u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 t h f s v j o s o n u j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 s r d a u g h t e r y 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 b r o t h e r u h f b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g y s is t e r j m n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 t y h a u n t g I m 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u n c l e n y h k j 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c o u s in h n k p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f g r a n d m o t h e 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 r a n d f a t h e r 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0" y="170028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16000" y="2708280"/>
            <a:ext cx="1871640" cy="3589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16000" y="1844640"/>
            <a:ext cx="1295280" cy="50328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2349360"/>
            <a:ext cx="72072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76360" y="1484280"/>
            <a:ext cx="1440000" cy="43200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4360" y="3141720"/>
            <a:ext cx="1655640" cy="360360"/>
          </a:xfrm>
          <a:prstGeom prst="ellipse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87280" y="3500280"/>
            <a:ext cx="1152720" cy="35892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933720"/>
            <a:ext cx="1008000" cy="358920"/>
          </a:xfrm>
          <a:prstGeom prst="ellipse">
            <a:avLst/>
          </a:prstGeom>
          <a:noFill/>
          <a:ln w="3168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4365720"/>
            <a:ext cx="115092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4360" y="4724280"/>
            <a:ext cx="1295280" cy="358920"/>
          </a:xfrm>
          <a:prstGeom prst="ellipse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5157720"/>
            <a:ext cx="2737080" cy="430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4360" y="5516640"/>
            <a:ext cx="2519280" cy="433440"/>
          </a:xfrm>
          <a:prstGeom prst="ellipse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708360" y="1557360"/>
            <a:ext cx="311148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0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5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500"/>
                            </p:stCondLst>
                            <p:childTnLst>
                              <p:par>
                                <p:cTn id="3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750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50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Write the words correct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41440" y="162864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734160" y="1698480"/>
            <a:ext cx="1824120" cy="1474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541440" y="3949560"/>
            <a:ext cx="1568520" cy="17416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6734160" y="3949560"/>
            <a:ext cx="1704960" cy="183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2411280" y="1397160"/>
          <a:ext cx="4176720" cy="4911480"/>
        </p:xfrm>
        <a:graphic>
          <a:graphicData uri="http://schemas.openxmlformats.org/drawingml/2006/table">
            <a:tbl>
              <a:tblPr/>
              <a:tblGrid>
                <a:gridCol w="2089440"/>
                <a:gridCol w="208728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т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u - 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ст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 – s t - 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ма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 - t - e 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п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 a - - e 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р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r o - h e 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буш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-an-m-th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яд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- c - 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ы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- 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d"/>
    <p:sndAc>
      <p:stSnd>
        <p:snd r:embed="rId5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A puzzle: put the letters in ord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424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T A 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L E U 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N 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 T E A H 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 G O R N D A E R T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 A T H U R E 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 S T I S 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708520" y="1628640"/>
            <a:ext cx="3259440" cy="3600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419640" y="1700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 U N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87640" y="2205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U N C L 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19640" y="2708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 O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348000" y="3141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F A T H E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050920" y="4221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G R A N D M O T H E R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64000" y="4797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 A U G H T E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51280" y="5300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S I S T E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uess the word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124000" y="2492280"/>
          <a:ext cx="6634080" cy="3813120"/>
        </p:xfrm>
        <a:graphic>
          <a:graphicData uri="http://schemas.openxmlformats.org/drawingml/2006/table">
            <a:tbl>
              <a:tblPr/>
              <a:tblGrid>
                <a:gridCol w="728640"/>
                <a:gridCol w="592200"/>
                <a:gridCol w="590400"/>
                <a:gridCol w="588960"/>
                <a:gridCol w="590400"/>
                <a:gridCol w="590760"/>
                <a:gridCol w="590400"/>
                <a:gridCol w="590760"/>
                <a:gridCol w="588960"/>
                <a:gridCol w="592200"/>
                <a:gridCol w="590400"/>
              </a:tblGrid>
              <a:tr h="536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4356000" y="206064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2950920" cy="2800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himes.wav"/>
      </p:stSnd>
    </p:sndAc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ho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00000" y="1434960"/>
            <a:ext cx="7272360" cy="5423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himes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bedroo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539640" y="1405080"/>
            <a:ext cx="8064720" cy="5452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himes.wav"/>
      </p:stSnd>
    </p:sndAc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living-roo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55640" y="118728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himes.wav"/>
      </p:stSnd>
    </p:sndAc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kitch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45440" cy="5510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himes.wav"/>
      </p:stSnd>
    </p:sndAc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bathroo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1708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himes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ecff"/>
                </a:solidFill>
                <a:latin typeface="Arial"/>
              </a:rPr>
              <a:t>Phonetic drill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5400" spc="-1" strike="noStrike">
                <a:solidFill>
                  <a:srgbClr val="66ff33"/>
                </a:solidFill>
                <a:latin typeface="Arial"/>
              </a:rPr>
              <a:t>father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grandfather </a:t>
            </a:r>
            <a:r>
              <a:rPr b="0" lang="en-US" sz="5400" spc="-1" strike="noStrike">
                <a:solidFill>
                  <a:srgbClr val="ff9900"/>
                </a:solidFill>
                <a:latin typeface="Arial"/>
              </a:rPr>
              <a:t>together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[ð]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ith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5050"/>
                </a:solidFill>
                <a:latin typeface="Arial"/>
              </a:rPr>
              <a:t>brother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5400" spc="-1" strike="noStrike">
                <a:solidFill>
                  <a:srgbClr val="99ff33"/>
                </a:solidFill>
                <a:latin typeface="Arial"/>
              </a:rPr>
              <a:t>anoth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ffcc"/>
                </a:solidFill>
                <a:latin typeface="Arial"/>
              </a:rPr>
              <a:t>grandmother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ff00ff"/>
                </a:solidFill>
                <a:latin typeface="Arial"/>
              </a:rPr>
              <a:t>mother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00"/>
                            </p:stCondLst>
                            <p:childTnLst>
                              <p:par>
                                <p:cTn id="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2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stud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374240" cy="5253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himes.wav"/>
      </p:stSnd>
    </p:sndAc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st Simpl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“to be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as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We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we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wer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we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a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we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nish the sentence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w I know …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w I understand…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 can…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003640" y="3789360"/>
            <a:ext cx="3924360" cy="2911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116000" y="1052640"/>
            <a:ext cx="6912000" cy="47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T H A N K    Y O U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4000">
    <p:cover dir="d"/>
    <p:sndAc>
      <p:stSnd>
        <p:snd r:embed="rId1" name="chimes.wav"/>
      </p:stSnd>
    </p:sndAc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3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474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7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893080" cy="51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 have got a father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I have got a mother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5050"/>
                </a:solidFill>
                <a:latin typeface="Arial"/>
              </a:rPr>
              <a:t>I have got a sister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I have got a brother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Father, mother, sister, brother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Hand in hand with one anoth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156360" y="549360"/>
            <a:ext cx="2646360" cy="267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Ask and answer the questions </a:t>
            </a: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in chain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hat’s your mother’s nam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Is your family big or sma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Have you got a sister or a bro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Have you got an aunt or an unc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How old is your mother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Do you look like your mo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How many rooms are there in your fl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himes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630072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Answer the questions</a:t>
            </a:r>
            <a:br>
              <a:rPr sz="4000"/>
            </a:b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 about </a:t>
            </a:r>
            <a:r>
              <a:rPr b="0" lang="en-US" sz="4000" spc="-1" strike="noStrike" u="sng">
                <a:solidFill>
                  <a:srgbClr val="66ff33"/>
                </a:solidFill>
                <a:uFillTx/>
                <a:latin typeface="Arial"/>
              </a:rPr>
              <a:t>Mike’s family</a:t>
            </a:r>
            <a:br>
              <a:rPr sz="4000"/>
            </a:b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(listening comprehension)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2349000"/>
            <a:ext cx="843588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old is Mike’s m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his father’s occup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his sister’s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old is his grandm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his grandfather’s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2162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himes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eading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Say if the statements ar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or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Masha’s got two brothers and a s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Oleg is shorter than Masha.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Lena is three years older than Mash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Oleg is nine years 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Masha looks like her m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Lena looks like her fa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Aunt Luda has got dark hair and blue ey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t’s have a 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up, hands down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hips,sit down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 up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to the sides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d left, bend right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hip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, two, three, hop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, two, three, stop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 sti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038560" y="2708280"/>
            <a:ext cx="410544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himes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ook at some family trees. They can be big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68360" y="1574640"/>
            <a:ext cx="7920000" cy="5283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himes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3:07:36Z</dcterms:created>
  <dc:creator>Administrator</dc:creator>
  <dc:description/>
  <dc:language>en-US</dc:language>
  <cp:lastModifiedBy>Watcher</cp:lastModifiedBy>
  <dcterms:modified xsi:type="dcterms:W3CDTF">2010-11-16T21:40:31Z</dcterms:modified>
  <cp:revision>26</cp:revision>
  <dc:subject/>
  <dc:title>My family</dc:title>
</cp:coreProperties>
</file>