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539-A162-495F-A12F-04D71C72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D26-55A6-467D-A102-8A16F9AF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346-D9A7-426B-9D07-09CC134E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264-CCB4-4EE9-AF3B-94472FC3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58D5-D88B-486C-B9DE-E7E983D3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927B-8975-4DE9-A58A-DA51AB62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DC9A-08B4-4A95-9583-AC84A694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EF93-A7EA-49B8-AB02-7A4B87F5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6B97-2935-461C-BC29-3F59810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DDC9-7FF4-4D93-A093-DDC3801C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5576-9340-4FDB-A938-D0A72522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F0B-EAE5-4184-AD62-890EA66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B0F7-62E7-4E30-827A-132CEDE3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E017-4930-4352-8AD1-928ABDF9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0D2D-5AB1-4BE9-B3A3-5F596D2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BAC7-5147-4FE3-9AFC-94ED0B4D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953F-9D21-4B2D-83BB-E3C33A42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943-7B28-4387-9EDE-4E124289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8D6-5C33-49BF-A307-A54F0E88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892-D852-4EDA-8A53-593BB61F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382-BF67-4835-9F3F-4A0F9085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AFE-D6E4-4492-B6EB-3FE11AB5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ED6-71D3-4ECE-813D-219E7B66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3B0-3EFA-4062-87D8-AF43C205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A69C-22C9-4EDD-BAC3-7248FC13061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1240" y="514800"/>
                  <a:ext cx="431280" cy="69516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7760" y="27720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7600" y="141804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260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1400" y="20736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0CA-13A2-46DA-9B52-918991B8FE9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2449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Карандаш </a:t>
            </a:r>
            <a:r>
              <a:rPr b="1" i="1" lang="ru-RU" sz="6000" spc="-1" strike="noStrike">
                <a:solidFill>
                  <a:srgbClr val="262626"/>
                </a:solidFill>
                <a:latin typeface="Comic Sans MS"/>
              </a:rPr>
              <a:t>– «простой» </a:t>
            </a:r>
            <a:br>
              <a:rPr sz="6000"/>
            </a:br>
            <a:r>
              <a:rPr b="1" i="1" lang="ru-RU" sz="6000" spc="-1" strike="noStrike">
                <a:solidFill>
                  <a:srgbClr val="262626"/>
                </a:solidFill>
                <a:latin typeface="Comic Sans MS"/>
              </a:rPr>
              <a:t>и такой </a:t>
            </a:r>
            <a:r>
              <a:rPr b="1" i="1" lang="ru-RU" sz="6000" spc="-1" strike="noStrike">
                <a:solidFill>
                  <a:srgbClr val="7030a0"/>
                </a:solidFill>
                <a:latin typeface="Comic Sans MS"/>
              </a:rPr>
              <a:t>разны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284360" y="4653000"/>
            <a:ext cx="460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анькина Ан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ца 4 б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мбетова Рушания Талгатов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 первой категори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Ш № 2, г. Елабуг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36600" y="345960"/>
            <a:ext cx="8650080" cy="945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ПРАКТИЧЕСКАЯ ЧАСТЬ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G:\карандаши  аня\Фото0391.jpg"/>
          <p:cNvPicPr/>
          <p:nvPr/>
        </p:nvPicPr>
        <p:blipFill>
          <a:blip r:embed="rId2"/>
          <a:stretch/>
        </p:blipFill>
        <p:spPr>
          <a:xfrm>
            <a:off x="84240" y="1916280"/>
            <a:ext cx="4319640" cy="324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G:\карандаши  аня\Фото0392.jpg"/>
          <p:cNvPicPr/>
          <p:nvPr/>
        </p:nvPicPr>
        <p:blipFill>
          <a:blip r:embed="rId3"/>
          <a:stretch/>
        </p:blipFill>
        <p:spPr>
          <a:xfrm>
            <a:off x="4500720" y="2421000"/>
            <a:ext cx="4572000" cy="331164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6"/>
          <p:cNvSpPr/>
          <p:nvPr/>
        </p:nvSpPr>
        <p:spPr>
          <a:xfrm>
            <a:off x="4572000" y="170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2Т               2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0280" y="-72360"/>
            <a:ext cx="8622720" cy="102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mic Sans MS"/>
              </a:rPr>
              <a:t>Результат после стирки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Заголовок 4"/>
          <p:cNvSpPr/>
          <p:nvPr/>
        </p:nvSpPr>
        <p:spPr>
          <a:xfrm>
            <a:off x="179280" y="3860640"/>
            <a:ext cx="8964720" cy="1152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Вывод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:\карандаши  аня\20130424_163405.jpg"/>
          <p:cNvPicPr/>
          <p:nvPr/>
        </p:nvPicPr>
        <p:blipFill>
          <a:blip r:embed="rId3"/>
          <a:stretch/>
        </p:blipFill>
        <p:spPr>
          <a:xfrm>
            <a:off x="2268360" y="1557360"/>
            <a:ext cx="4780080" cy="230328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755640" y="981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ягкий         Твёрд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0" y="5157720"/>
            <a:ext cx="101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ный след карандаши оставля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-за разного содержания жира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57320" y="272880"/>
            <a:ext cx="8829360" cy="945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Анкетирование учащихся</a:t>
            </a:r>
            <a:r>
              <a:rPr b="1" lang="ru-RU" sz="5400" spc="-1" strike="noStrike">
                <a:solidFill>
                  <a:srgbClr val="002060"/>
                </a:solidFill>
                <a:latin typeface="Comic Sans MS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G:\карандаши  аня\Фото0373.jpg"/>
          <p:cNvPicPr/>
          <p:nvPr/>
        </p:nvPicPr>
        <p:blipFill>
          <a:blip r:embed="rId2"/>
          <a:stretch/>
        </p:blipFill>
        <p:spPr>
          <a:xfrm>
            <a:off x="227160" y="1341360"/>
            <a:ext cx="333684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G:\карандаши  аня\Фото0377.jpg"/>
          <p:cNvPicPr/>
          <p:nvPr/>
        </p:nvPicPr>
        <p:blipFill>
          <a:blip r:embed="rId3"/>
          <a:stretch/>
        </p:blipFill>
        <p:spPr>
          <a:xfrm>
            <a:off x="2124000" y="4019400"/>
            <a:ext cx="4426200" cy="2838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G:\карандаши  аня\Фото0380.jpg"/>
          <p:cNvPicPr/>
          <p:nvPr/>
        </p:nvPicPr>
        <p:blipFill>
          <a:blip r:embed="rId4"/>
          <a:stretch/>
        </p:blipFill>
        <p:spPr>
          <a:xfrm>
            <a:off x="4500720" y="141300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7"/>
          <p:cNvSpPr/>
          <p:nvPr/>
        </p:nvSpPr>
        <p:spPr>
          <a:xfrm>
            <a:off x="324000" y="39830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8"/>
          <p:cNvSpPr/>
          <p:nvPr/>
        </p:nvSpPr>
        <p:spPr>
          <a:xfrm>
            <a:off x="4414680" y="4721400"/>
            <a:ext cx="41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6659640" y="414972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11320" y="-32040"/>
            <a:ext cx="8721360" cy="126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Анкетирование учащихся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Рисунок 3" descr="G:\Фотки Ани\20130411_131335.jpg"/>
          <p:cNvPicPr/>
          <p:nvPr/>
        </p:nvPicPr>
        <p:blipFill>
          <a:blip r:embed="rId2"/>
          <a:stretch/>
        </p:blipFill>
        <p:spPr>
          <a:xfrm>
            <a:off x="539640" y="1413000"/>
            <a:ext cx="3303720" cy="44035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G:\Фотки Ани\20130411_131155.jpg"/>
          <p:cNvPicPr/>
          <p:nvPr/>
        </p:nvPicPr>
        <p:blipFill>
          <a:blip r:embed="rId3"/>
          <a:stretch/>
        </p:blipFill>
        <p:spPr>
          <a:xfrm>
            <a:off x="4788000" y="1413000"/>
            <a:ext cx="3294000" cy="44640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5"/>
          <p:cNvSpPr/>
          <p:nvPr/>
        </p:nvSpPr>
        <p:spPr>
          <a:xfrm>
            <a:off x="2268360" y="587700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1 кл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34000" y="62280"/>
            <a:ext cx="8676360" cy="140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rmAutofit fontScale="88000"/>
          </a:bodyPr>
          <a:p>
            <a:pPr marL="301680" indent="-30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На что обращают внимание при покупке карандашей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Диаграмма 4" descr=""/>
          <p:cNvPicPr/>
          <p:nvPr/>
        </p:nvPicPr>
        <p:blipFill>
          <a:blip r:embed="rId2"/>
          <a:stretch/>
        </p:blipFill>
        <p:spPr>
          <a:xfrm>
            <a:off x="200160" y="1649520"/>
            <a:ext cx="8815320" cy="5070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85400" y="185040"/>
            <a:ext cx="8773200" cy="1113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Почему пользуешься этим карандашо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Диаграмма 4" descr=""/>
          <p:cNvPicPr/>
          <p:nvPr/>
        </p:nvPicPr>
        <p:blipFill>
          <a:blip r:embed="rId2"/>
          <a:stretch/>
        </p:blipFill>
        <p:spPr>
          <a:xfrm>
            <a:off x="128520" y="1362240"/>
            <a:ext cx="888696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Диаграмма 3" descr=""/>
          <p:cNvPicPr/>
          <p:nvPr/>
        </p:nvPicPr>
        <p:blipFill>
          <a:blip r:embed="rId1"/>
          <a:stretch/>
        </p:blipFill>
        <p:spPr>
          <a:xfrm>
            <a:off x="128520" y="1506600"/>
            <a:ext cx="8886960" cy="5286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185400" y="185040"/>
            <a:ext cx="8773200" cy="11134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Для чего используют карандаш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94400" y="194400"/>
            <a:ext cx="8755200" cy="1168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Используют виды карандаше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Диаграмма 4" descr=""/>
          <p:cNvPicPr/>
          <p:nvPr/>
        </p:nvPicPr>
        <p:blipFill>
          <a:blip r:embed="rId2"/>
          <a:stretch/>
        </p:blipFill>
        <p:spPr>
          <a:xfrm>
            <a:off x="128520" y="1649520"/>
            <a:ext cx="88153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8400" y="158040"/>
            <a:ext cx="8827200" cy="95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Выбирают по форм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Диаграмма 4" descr=""/>
          <p:cNvPicPr/>
          <p:nvPr/>
        </p:nvPicPr>
        <p:blipFill>
          <a:blip r:embed="rId2"/>
          <a:stretch/>
        </p:blipFill>
        <p:spPr>
          <a:xfrm>
            <a:off x="200160" y="1217520"/>
            <a:ext cx="87436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98000" y="26280"/>
            <a:ext cx="8748000" cy="118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Наличие резин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Диаграмма 4" descr=""/>
          <p:cNvPicPr/>
          <p:nvPr/>
        </p:nvPicPr>
        <p:blipFill>
          <a:blip r:embed="rId2"/>
          <a:stretch/>
        </p:blipFill>
        <p:spPr>
          <a:xfrm>
            <a:off x="-50760" y="1290600"/>
            <a:ext cx="8816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Franklin Gothic Heavy"/>
              </a:rPr>
              <a:t>Изучить специальную литературу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5656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6"/>
                </a:solidFill>
                <a:latin typeface="Franklin Gothic Heavy"/>
              </a:rPr>
              <a:t>Узнать, из чего состоят карандаши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Heavy"/>
              </a:rPr>
              <a:t>Для чего на карандаши ставят буквенные обозначен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Franklin Gothic Heavy"/>
              </a:rPr>
              <a:t>Провести анкетирование учащихс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4d99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99"/>
                </a:solidFill>
                <a:latin typeface="Franklin Gothic Heavy"/>
              </a:rPr>
              <a:t>Сравнить полученные результаты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Franklin Gothic Heavy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Franklin Gothic Heavy"/>
              </a:rPr>
              <a:t>Выявить наиболее популярный   карандаш среди учащихс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5880" y="345960"/>
            <a:ext cx="8470440" cy="945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mic Sans MS"/>
              </a:rPr>
              <a:t>З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Диаграмма 3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836200" cy="5400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67400" y="167400"/>
            <a:ext cx="8629920" cy="1006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Грызёшь ли ты карандаш?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Диаграмма 3" descr=""/>
          <p:cNvPicPr/>
          <p:nvPr/>
        </p:nvPicPr>
        <p:blipFill>
          <a:blip r:embed="rId1"/>
          <a:stretch/>
        </p:blipFill>
        <p:spPr>
          <a:xfrm>
            <a:off x="128520" y="1649520"/>
            <a:ext cx="8815320" cy="5259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25000" y="-91440"/>
            <a:ext cx="8514720" cy="135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Из чего сделан карандаш?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(графита и дерев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916280"/>
            <a:ext cx="6400800" cy="2952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omic Sans MS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6"/>
          <p:cNvGraphicFramePr/>
          <p:nvPr/>
        </p:nvGraphicFramePr>
        <p:xfrm>
          <a:off x="5589720" y="1828800"/>
          <a:ext cx="18079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9720" y="1828800"/>
                    <a:ext cx="1807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 txBox="1"/>
          <p:nvPr/>
        </p:nvSpPr>
        <p:spPr>
          <a:xfrm>
            <a:off x="0" y="182880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 Black"/>
              </a:rPr>
              <a:t>Простой карандаш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680" y="185040"/>
            <a:ext cx="8414640" cy="1113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mic Sans MS"/>
              </a:rPr>
              <a:t>Объект исследования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6" descr="http://im0-tub-ru.yandex.net/i?id=405638218-05-72&amp;n=21"/>
          <p:cNvPicPr/>
          <p:nvPr/>
        </p:nvPicPr>
        <p:blipFill>
          <a:blip r:embed="rId4"/>
          <a:stretch/>
        </p:blipFill>
        <p:spPr>
          <a:xfrm>
            <a:off x="755640" y="2781360"/>
            <a:ext cx="76327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Горизонтальный свиток 3"/>
          <p:cNvSpPr/>
          <p:nvPr/>
        </p:nvSpPr>
        <p:spPr>
          <a:xfrm>
            <a:off x="0" y="0"/>
            <a:ext cx="9144000" cy="1197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История создания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http://ua.all.biz/img/ua/catalog/415189.jpeg"/>
          <p:cNvPicPr/>
          <p:nvPr/>
        </p:nvPicPr>
        <p:blipFill>
          <a:blip r:embed="rId2"/>
          <a:stretch/>
        </p:blipFill>
        <p:spPr>
          <a:xfrm>
            <a:off x="250920" y="2276640"/>
            <a:ext cx="3816360" cy="3216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http://im0-tub-ru.yandex.net/i?id=156379226-40-72&amp;n=21"/>
          <p:cNvPicPr/>
          <p:nvPr/>
        </p:nvPicPr>
        <p:blipFill>
          <a:blip r:embed="rId3"/>
          <a:stretch/>
        </p:blipFill>
        <p:spPr>
          <a:xfrm>
            <a:off x="4676760" y="2276640"/>
            <a:ext cx="3782880" cy="3240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179280" y="170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Графит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                </a:t>
            </a: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Г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2421000"/>
            <a:ext cx="8785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карандаш мягк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2М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в 2 раза мягч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карандаш твёрды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2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в 2 раза твёрж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М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твёрдо-мягкий (средний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Горизонтальный свиток 3"/>
          <p:cNvSpPr/>
          <p:nvPr/>
        </p:nvSpPr>
        <p:spPr>
          <a:xfrm>
            <a:off x="0" y="0"/>
            <a:ext cx="9325080" cy="134136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Условные знаки на карандаш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Горизонтальный свиток 4"/>
          <p:cNvSpPr/>
          <p:nvPr/>
        </p:nvSpPr>
        <p:spPr>
          <a:xfrm>
            <a:off x="179280" y="0"/>
            <a:ext cx="8785440" cy="1197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Comic Sans MS"/>
              </a:rPr>
              <a:t>Дерево для карандаш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http://im6-tub-ru.yandex.net/i?id=164600568-69-72&amp;n=21"/>
          <p:cNvPicPr/>
          <p:nvPr/>
        </p:nvPicPr>
        <p:blipFill>
          <a:blip r:embed="rId2"/>
          <a:stretch/>
        </p:blipFill>
        <p:spPr>
          <a:xfrm>
            <a:off x="406440" y="1773360"/>
            <a:ext cx="4525920" cy="4295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http://www.proburo.ru/catalog/600x600/14-6383_1.gif"/>
          <p:cNvPicPr/>
          <p:nvPr/>
        </p:nvPicPr>
        <p:blipFill>
          <a:blip r:embed="rId3"/>
          <a:stretch/>
        </p:blipFill>
        <p:spPr>
          <a:xfrm>
            <a:off x="3905280" y="114300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8920" y="1828800"/>
            <a:ext cx="3816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Михаи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асильевич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Ломонос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4400" y="194400"/>
            <a:ext cx="8575920" cy="1168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В России производство карандаша организова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7" descr="http://rusportrait.ru/gal2/s10-1.jpg"/>
          <p:cNvPicPr/>
          <p:nvPr/>
        </p:nvPicPr>
        <p:blipFill>
          <a:blip r:embed="rId2"/>
          <a:stretch/>
        </p:blipFill>
        <p:spPr>
          <a:xfrm>
            <a:off x="4356000" y="1579680"/>
            <a:ext cx="3888000" cy="50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-199080" y="26280"/>
            <a:ext cx="9397080" cy="118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Надёжные карандаши выручаю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http://im0-tub-ru.yandex.net/i?id=431387208-00-72&amp;n=21"/>
          <p:cNvPicPr/>
          <p:nvPr/>
        </p:nvPicPr>
        <p:blipFill>
          <a:blip r:embed="rId2"/>
          <a:stretch/>
        </p:blipFill>
        <p:spPr>
          <a:xfrm>
            <a:off x="179280" y="1413000"/>
            <a:ext cx="3695760" cy="273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http://stranamasterov.ru/files/imagecache/orig_with_logo/i2012/03/18/dsc06610.jpg"/>
          <p:cNvPicPr/>
          <p:nvPr/>
        </p:nvPicPr>
        <p:blipFill>
          <a:blip r:embed="rId3"/>
          <a:srcRect l="0" t="0" r="10176" b="0"/>
          <a:stretch/>
        </p:blipFill>
        <p:spPr>
          <a:xfrm>
            <a:off x="4859280" y="1413000"/>
            <a:ext cx="3745080" cy="273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http://www.itogi.ru/7-days/img/462/HITECH-sever-40hi.jpg"/>
          <p:cNvPicPr/>
          <p:nvPr/>
        </p:nvPicPr>
        <p:blipFill>
          <a:blip r:embed="rId4"/>
          <a:stretch/>
        </p:blipFill>
        <p:spPr>
          <a:xfrm>
            <a:off x="2411280" y="3860640"/>
            <a:ext cx="40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785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на буква весит – 0,00033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я – 0, 00099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А сколько весит ваше имя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37680" y="158040"/>
            <a:ext cx="8468640" cy="95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95adbc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mic Sans MS"/>
              </a:rPr>
              <a:t>Сколько весит буква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9:08:43Z</dcterms:created>
  <dc:creator>Test</dc:creator>
  <dc:description/>
  <dc:language>en-US</dc:language>
  <cp:lastModifiedBy>Рушания</cp:lastModifiedBy>
  <dcterms:modified xsi:type="dcterms:W3CDTF">2013-04-26T20:18:49Z</dcterms:modified>
  <cp:revision>83</cp:revision>
  <dc:subject/>
  <dc:title>Слайд 1</dc:title>
</cp:coreProperties>
</file>