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127-1300-4697-A0F3-306C4573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A3C-A00F-4AC3-9923-43B543B6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AA8-B020-4223-B4DB-299F4042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42A-991E-409F-95EE-3EC094D0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DFC-E97B-4092-886A-F5A1A05E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92E-CD81-45C6-8605-503AD755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425-3145-4939-A6DB-59802B1E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B21-2477-4DB1-B65A-46793B4E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303-7EAA-4594-8462-68BE9155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E76-66E7-4DC0-B630-B12567DA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0AF-D14B-4245-96BA-54D18AE4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8CF-3D6C-4C27-9395-26CD2A1F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0A48-D9DA-4406-B029-523C8F42A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Образ-символ портрета в художественной литературе(на примере повести Н.В. Гоголя «Портрет» и романа О. Уайльда «Портрет Дориана Грея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66720" y="403812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 обучающаяся 9 «В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 СОШ  №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тыненко Ирина Олег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ь: учитель выс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ущина Татья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6172200"/>
            <a:ext cx="304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Нижний 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304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Андрей Петрович Ч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ртк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845160" cy="2970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6095880"/>
            <a:ext cx="44956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мой фильм «Портрет» (19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83808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Андрей Петрови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Ч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рт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762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Ассоциируется у читателя со словом «ч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т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133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Ассоциации со словом «ч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Анти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76920" y="3962520"/>
            <a:ext cx="3504960" cy="2338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3546360" cy="2336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85800" y="1219320"/>
            <a:ext cx="2819520" cy="2477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562720" y="1219320"/>
            <a:ext cx="2819160" cy="2442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05320" y="3048120"/>
            <a:ext cx="2057400" cy="3352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220968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50292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Духовное опустошение и гибель главных геро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67120" cy="4495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79960" y="1600200"/>
            <a:ext cx="3173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8284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Николай Васильевич Го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3808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Оскар Уайль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16280" cy="457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32120" cy="4572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800600" y="1828800"/>
            <a:ext cx="3733920" cy="4572000"/>
            <a:chOff x="4800600" y="1828800"/>
            <a:chExt cx="3733920" cy="4572000"/>
          </a:xfrm>
        </p:grpSpPr>
        <p:sp>
          <p:nvSpPr>
            <p:cNvPr id="50" name=""/>
            <p:cNvSpPr/>
            <p:nvPr/>
          </p:nvSpPr>
          <p:spPr>
            <a:xfrm>
              <a:off x="4800600" y="640080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800600" y="1828800"/>
              <a:ext cx="0" cy="457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534520" y="1828800"/>
              <a:ext cx="0" cy="457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0600" y="182880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09480" y="1828800"/>
            <a:ext cx="3733920" cy="4572000"/>
            <a:chOff x="609480" y="1828800"/>
            <a:chExt cx="3733920" cy="4572000"/>
          </a:xfrm>
        </p:grpSpPr>
        <p:sp>
          <p:nvSpPr>
            <p:cNvPr id="55" name=""/>
            <p:cNvSpPr/>
            <p:nvPr/>
          </p:nvSpPr>
          <p:spPr>
            <a:xfrm>
              <a:off x="609480" y="640080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9480" y="1828800"/>
              <a:ext cx="0" cy="457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1828800"/>
              <a:ext cx="0" cy="457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480" y="182880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23880" y="12193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809 — 1852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2193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854 — 1900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Цели и задач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 рабо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равнительный анализ двух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произведения и вскрыть их проблема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роль образа-символа портрета в произведениях русской и зарубежной литературы на примере повести и ро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ть художественные приемы в создании образов в произвед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сходства и различия в идейных замыслах ав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ортрет ростовщика в комнате Чарт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3808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Дориан Грей и его порт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62440" y="1600200"/>
            <a:ext cx="381024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24280" y="6095880"/>
            <a:ext cx="403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льм «Дориан Грей»(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267080" cy="3298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609588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мой фильм «Портрет»(19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Сумасшествие Чарт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653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Смерть Дориана Г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633840" cy="5181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6446880"/>
            <a:ext cx="31240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Андрей Тарус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19360" y="3805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риобретение Чартковым порт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8088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Создание портрета ростовщ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495680" cy="3471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3591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29200" y="56386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мой фильм «Портрет» (19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Обезображенный портрет Дори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Дориан Гр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17720" y="1600200"/>
            <a:ext cx="710856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6095880"/>
            <a:ext cx="6705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льм «Дориан Грей» (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dcterms:modified xsi:type="dcterms:W3CDTF">2012-04-12T18:21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