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6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48800" y="5513040"/>
            <a:ext cx="5991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9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15"/>
          </p:nvPr>
        </p:nvSpPr>
        <p:spPr>
          <a:xfrm>
            <a:off x="4239720" y="-360"/>
            <a:ext cx="3249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6"/>
          </p:nvPr>
        </p:nvSpPr>
        <p:spPr>
          <a:xfrm>
            <a:off x="-360" y="11026440"/>
            <a:ext cx="3249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7"/>
          </p:nvPr>
        </p:nvSpPr>
        <p:spPr>
          <a:xfrm>
            <a:off x="4239720" y="11026440"/>
            <a:ext cx="3249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01D6C-B92F-485D-9095-4B69FE8A06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1F2F7-3986-4188-8843-DD721539A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DED92-DF2D-437A-B4D4-D08193DC60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AAE5-7D66-4FC0-ADE8-5DA1EFDEA1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2ADE7-FA3A-44EB-9F57-A1245D1AC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3B151-5C6C-4CE1-9C8A-B3E02695C5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4745-A794-40A5-9E7F-3C34AE4C0C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6C961-4608-43ED-B814-56395A50AB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5B69-B3C0-4C67-8249-49965A1322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7091C-CCD7-4746-A07C-E60D80C87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56708-EDEF-4135-A424-515929A42B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D145B-1AC7-4C44-AB91-B0A5837FD4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BE468-A2D8-4B6F-8DEF-9A8B99D54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17240-4892-4BB5-8EC4-87D5F0B6EB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E9FE-D0BE-4DBB-B269-76D86579A3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9061-FFB3-4E29-9226-0A86A89374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6B173-9F0B-4FBB-A93D-3BF1E827C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39645-3862-40C0-A080-16EEDC6022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233B4-ABBA-41B4-AADA-D24092BE9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6A82C-D27E-45FF-ABE4-08D2F2935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7800" cy="43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48800" y="5513400"/>
            <a:ext cx="599292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944EE-A1F0-479C-9193-26E15AFE88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C50B4-1F47-4FA9-AD20-2C7516EF02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E814A-D7D3-41CC-9E87-942EF8E99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40080" y="11026800"/>
            <a:ext cx="324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28779-801F-45FD-9296-962A81B4F5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46000" y="882720"/>
            <a:ext cx="5799240" cy="4351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49160" y="5513400"/>
            <a:ext cx="5994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610F-844A-4DBA-B2B4-67FE850EF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CC86-523D-4C51-860D-CBB26A1A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C852-9861-4439-B687-014DD94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551B-9BD6-4339-A869-C8C9E0E8E3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6D101-9E70-4B19-88FD-33E3A0E1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5FDB1-ECE1-46FF-A420-7694D9A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C13D4-BA2A-439D-9916-BACE9161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C897E-07B4-4081-82BD-DC1A8A8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7B640-9E4A-47AD-AE9A-1A9234D7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35573-3580-49DF-A926-3096ACA5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25D6-CD9C-4101-A8CC-789BDAE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CC20-130B-4A56-9122-96A761D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29E6B-0B63-476D-9CFA-DEBC9A73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CFDEA-CEEE-4E94-BFD2-ECFD3D4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6E877-5C1A-46D5-874A-31E2491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12A5-3386-45F4-9C0B-9497AE28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E0888-C7D7-46C4-9919-6DAAA846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64F26-C5E1-49E4-B4EF-AE64B2AB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7ABEC-6D8D-4FAF-B66F-37DE26D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26E25-A27D-4A1B-AEA7-1D91945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75736-F1EE-4BF1-9F63-E77EBE9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625D6-B499-4306-BAA9-CB4F5DA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ED02-F5E0-4AC0-AC8B-8FE18D75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9D0F4-CF43-46D1-AFDE-09AEE70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1CD65-2EB6-478A-987D-9917595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1D948-BB27-4441-885E-F715316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9CDCA-FA35-459A-964E-FD392DA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FF701-8C39-4F4F-AD42-4238E4C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C2117-7DB1-47EB-AE79-0556C35D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16F7A-2466-4FD0-A0A6-FE69D83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BB5D2-6555-4100-9E7F-53EB550E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F5FB4-B7E1-44F1-BD46-47A74C5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A26ED-6CDF-4C3F-8548-0901E0ED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F1F2-4D9F-4301-98FC-434968D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0AE52-02C7-48D8-AC92-E4A068F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6288D-B9D6-4A23-9045-8767A31C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227E5-8235-4476-B47C-52C5432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47045-C7CC-479D-A216-5BEC1E1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CD8FA-14B5-407F-90AC-1D4CCCB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F0F21-50EF-4630-B121-E817DE6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D788E-BC02-4FA7-AEDE-3BAD8C7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2FD03-24E9-4D80-83A1-87CD0CEB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50B3B-30C3-462E-BF75-34366511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10E26-4844-4DF0-838A-3515A4A8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27EE-7E39-4927-85F4-9BA66D5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26835-5C62-4E7B-A5C1-2A7550F6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AD040-5196-4DB8-ADCD-DB53B8B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16416-63CE-46CA-BE54-007EA37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28B10-03EC-480B-AB49-C04AF711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F2267-98C6-4BD4-B0DF-95275B0A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E62AF-0939-462E-BA2C-A10AEB6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CF8BD-35A5-4000-8E67-B6C6ACD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13225-2F92-4516-AF1A-81332B3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A4507-4AFB-4200-8F29-B722EA0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8FA75-F5A3-4613-8CBD-1E70EAD5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79A1-8BB7-4B2A-A7EF-B8099AF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8F326-58A8-4827-A723-089B852A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5EE2-CE7E-4BC9-8D6C-9867538B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2B6C-0C9B-446A-BA7C-7E67B699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F20B-3D6F-4D4E-B2BF-40507F7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A71C4EB-5DDC-48F5-80F5-C8254834B52C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B666C517-A318-42B0-8D59-A6652FB9E60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415912-2F11-47C0-B9AC-4D319BE117F3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FFD28E-94FE-4C15-BE27-D41EBC799AF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3063EF-735E-45BD-97A8-676E45D6BED3}" type="datetime">
              <a:rPr b="0" lang="ru-RU" sz="1200" spc="-1" strike="noStrike">
                <a:solidFill>
                  <a:srgbClr val="d1eaee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FCDCA6-CE68-4935-8647-3FFC5CCA1FA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0F82F7-14B7-4E73-990A-F1369053DEE9}" type="datetime">
              <a:rPr b="0" lang="ru-RU" sz="1200" spc="-1" strike="noStrike">
                <a:solidFill>
                  <a:srgbClr val="d1eaee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5FEF11-3CB2-4D82-8C97-1381EF1E789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36AF8-AE33-4FDE-8E81-7B7B7696C3C7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AEC4F-5E42-4AE6-81A3-CBC94FA0FB6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8" descr="0008-012-Pereljotnye-ptitsy.jpg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-109440" y="4976640"/>
            <a:ext cx="3467160" cy="22575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5"/>
          <p:cNvSpPr/>
          <p:nvPr/>
        </p:nvSpPr>
        <p:spPr>
          <a:xfrm>
            <a:off x="785880" y="714240"/>
            <a:ext cx="7858080" cy="3839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Calibri"/>
                <a:ea typeface="Arial"/>
              </a:rPr>
              <a:t>МУНИЦИПАЛЬНОЕ БЮДЖЕТНОЕ ДОШКОЛЬНОЕ ОБРАЗОВАТЕЛЬНОЕ УЧРЕЖДЕНИЕ </a:t>
            </a:r>
            <a:r>
              <a:rPr b="1" i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«Березовский детский сад №4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17375e"/>
                </a:solidFill>
                <a:latin typeface="Calibri"/>
                <a:ea typeface="Arial"/>
              </a:rPr>
              <a:t>Проект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17375e"/>
                </a:solidFill>
                <a:latin typeface="Calibri"/>
                <a:ea typeface="Arial"/>
              </a:rPr>
              <a:t>«Зимующие птиц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i="1" lang="ru-RU" sz="60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i="1" lang="ru-RU" sz="6000" spc="-1" strike="noStrike">
                <a:solidFill>
                  <a:srgbClr val="17375e"/>
                </a:solidFill>
                <a:latin typeface="Calibri"/>
                <a:ea typeface="Arial"/>
              </a:rPr>
              <a:t>нашего края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2484360" y="4692600"/>
            <a:ext cx="6480360" cy="204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Автор: воспитатели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Веретнова А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Евдокимова М.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Домашние задание родителя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571680" y="171468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блюдение на прогулках (внешний вид, среда обитания и т.д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зготовить совместно с ребенком кормуш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обрать корм, развивать словарный зап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учить стихотворение о зимующих птиц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обрать загадки о зимующих птиц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ссмотреть зимующих птиц на иллюстрациях в книгах и журна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полнить библиотеку группы книгами о зимующих птиц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split dir="in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Содержание работы в процессе реализации проекта. </a:t>
            </a:r>
            <a:br>
              <a:rPr sz="4500"/>
            </a:br>
            <a:r>
              <a:rPr b="1" i="1" lang="ru-RU" sz="3600" spc="-1" strike="noStrike">
                <a:solidFill>
                  <a:srgbClr val="10243e"/>
                </a:solidFill>
                <a:latin typeface="Calibri"/>
              </a:rPr>
              <a:t>Игров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571680" y="2357280"/>
            <a:ext cx="800100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Один-много», «Назови ласково», «Счет птиц» , «Четвертый лишний», "Угадай птицу по описанию", «Чей хвост?», «Кто что ест», « Узнай по голосу», «Что едят птицы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/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азрезные картинки». «Лабиринт «Зимующие птицы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южетно-ролевые иг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Птичий двор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атрализац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Где обедал вороб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6000">
    <p:checke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Подвижные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785880" y="1600200"/>
            <a:ext cx="7572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овушк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робушки и автомоби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робушки и к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Рисунок 3" descr="images6.jpeg"/>
          <p:cNvPicPr/>
          <p:nvPr/>
        </p:nvPicPr>
        <p:blipFill>
          <a:blip r:embed="rId1"/>
          <a:stretch/>
        </p:blipFill>
        <p:spPr>
          <a:xfrm>
            <a:off x="755640" y="3498840"/>
            <a:ext cx="381636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знавательная деятельность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571680" y="164304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рмирование целостной картины мир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ма: «Зимующие птицы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ли: формирование знаний у детей о зимующих птицах, объяснение причины их перелетов (перелетные, зимующие),   воспитание заботливого отношения к птиц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1000080" y="642960"/>
            <a:ext cx="75726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ФЭМП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ма: «Сколько птиц к кормушке нашей прилетело?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ль:  обучение порядковому и количественному счету в пределах 10, закрепление знаний о последовательности дней н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sh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1143000" y="500040"/>
            <a:ext cx="6858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Беседы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Как живут наши пернатые друзья зимо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Кто заботится о птиц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ользу или вред приносят птицы?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Меню птиц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Как дети с родителями заботятся о птицах зимой?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9000">
    <p:wheel spokes="1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7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Решение проблемной ситуации:</a:t>
            </a:r>
            <a:br>
              <a:rPr sz="3600"/>
            </a:b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«Что может произойти, если не подкармливать птиц зимой?»</a:t>
            </a:r>
            <a:br>
              <a:rPr sz="3200"/>
            </a:b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Наблюдение за птицами зимой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143000" y="3143160"/>
            <a:ext cx="685800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синиц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воро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снегир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голуб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3" descr="images9.jpeg"/>
          <p:cNvPicPr/>
          <p:nvPr/>
        </p:nvPicPr>
        <p:blipFill>
          <a:blip r:embed="rId1"/>
          <a:stretch/>
        </p:blipFill>
        <p:spPr>
          <a:xfrm>
            <a:off x="4643280" y="2917800"/>
            <a:ext cx="259272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Коммуникация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тение рассказов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. Тургенева «Воробей», М. Горького «Воробьишко» + просмотр мультфильма, Н. Рубцова «Воробей» и «Ворон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ухомлинского «О чем плачет синичка»,  просмотр презентаций: "Зимующие птицы", "Кормушки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ворческое рассказывание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 я спас птичку».  Заучивание стихотворения «Покормите птиц зимой». Отгадывание загадок, рассматривание иллюстраций с изображением зимующих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 spokes="2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85680" y="974880"/>
            <a:ext cx="780120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авка книг и иллюстраций о зимующих птицах нашего кра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нижной пол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985680" y="2637000"/>
            <a:ext cx="7089840" cy="420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8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Художественное творчество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000080" y="1600200"/>
            <a:ext cx="7143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исование «Зимующие  птицы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ль: развитие интереса и положительного отношения к нетрадиционной технике рисования – ладош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3" descr="снегирь.jpg"/>
          <p:cNvPicPr/>
          <p:nvPr/>
        </p:nvPicPr>
        <p:blipFill>
          <a:blip r:embed="rId1"/>
          <a:stretch/>
        </p:blipFill>
        <p:spPr>
          <a:xfrm>
            <a:off x="4284720" y="3860640"/>
            <a:ext cx="3600360" cy="24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071720" y="714240"/>
            <a:ext cx="6514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КОРМИТЕ ПТ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рмите птиц зим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ь со всех конц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вам слетятся, как дом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йки на крыльц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богаты их кор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сть зерна нужн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сть одна — И не страш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т им з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Яш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Рисунок 6" descr="images1.jpeg"/>
          <p:cNvPicPr/>
          <p:nvPr/>
        </p:nvPicPr>
        <p:blipFill>
          <a:blip r:embed="rId1"/>
          <a:stretch/>
        </p:blipFill>
        <p:spPr>
          <a:xfrm>
            <a:off x="5846760" y="907920"/>
            <a:ext cx="290052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Работа с родителями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сультации для родителей «Как и из чего можно сделать кормушку для пти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дание родителям: помочь детям подобрать корм для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3" descr="корм для птиц.jpg"/>
          <p:cNvPicPr/>
          <p:nvPr/>
        </p:nvPicPr>
        <p:blipFill>
          <a:blip r:embed="rId1"/>
          <a:stretch/>
        </p:blipFill>
        <p:spPr>
          <a:xfrm>
            <a:off x="539640" y="4238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#ppt_x)">
                                      <p:cBhvr additive="repl">
                                        <p:cTn id="6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Scale>
                                    <p:anim calcmode="lin" valueType="num" by="(#ppt_h/3+#ppt_w*0.1)">
                                      <p:cBhvr additive="repl">
                                        <p:cTn id="6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III этап - заключительный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формление результата проекта в виде презент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рганизация и участие родителей в мероприятии «Кормушка для птиц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9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889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Результаты реализации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857160" y="981000"/>
            <a:ext cx="742968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сширился кругозор детей о зимующих птицах (какие птицы прилетали на участок, внешний вид, чем питаю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звивающая среда группы пополнилась: литературой, фотографиями, иллюстрациями, стихотворениями, рассказами о птицах, загадками, презентациями о зимующих птиц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 детей сформировалась любознательность, творческие способности, познавательная активность, коммуникативные нав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спитанники и их родители приняли активное участие в оказании помощи птицам в трудных зимних услов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9000">
    <p:wheel spokes="8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8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8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8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8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6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6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+0.4"/>
                                          </p:val>
                                        </p:tav>
                                        <p:tav tm="-1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0.4"/>
                                          </p:val>
                                        </p:tav>
                                        <p:tav tm="-1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17375e"/>
                </a:solidFill>
                <a:latin typeface="Calibri"/>
              </a:rPr>
              <a:t>О ПРОЕКТ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571680" y="1500120"/>
            <a:ext cx="7972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ип проекта: познавательно-исследователь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астники проекта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ти подготовительной группы, родители воспитанников, воспитатель групп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ок реализации проекта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аткосроч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рмы работы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гровая, познавательная, продуктивная,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бота с родителя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#ppt_x-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2858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достаточные представления о зимующих птицах у детей старшего дошкольного возраст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Рисунок 2" descr="images7.jpeg"/>
          <p:cNvPicPr/>
          <p:nvPr/>
        </p:nvPicPr>
        <p:blipFill>
          <a:blip r:embed="rId1"/>
          <a:stretch/>
        </p:blipFill>
        <p:spPr>
          <a:xfrm>
            <a:off x="1332000" y="3965400"/>
            <a:ext cx="3384360" cy="2535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9480" y="30240"/>
            <a:ext cx="82278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31640" y="1079640"/>
            <a:ext cx="82281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лодное время года перед зимующими птицами встает вопрос: как прокормиться? Доступной пищи становится значительно меньше, но потребность в ней возрастает. Иногда естественный корм становится практически недоступным, поэтому многие птицы не могут пережить зиму и погибают. И только люди могут помочь птицам. Когда ночная температура падает до -10 градусов и ниже, синички за ночь теряют 10 % собственного веса. Голодные, ослабевшие птицы быстро замерзают. А вот сытой птице и мороз не страшен. Вот и летят птицы поближе к жилью челове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а взрослых – воспитывать интерес у детей к птицам, желание узнавать новые факты их жизни, желание оказать им помощ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де проекта «Зимующие птицы» дети больше узнают о птицах, выяснят, чем питаются птицы зимой и как правильно их подкармливать, узнают , какие существуют кормушки для птиц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39840" y="30240"/>
            <a:ext cx="8227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500040" y="476280"/>
            <a:ext cx="82296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74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детей системы элементарных экологических знаний о зимующих птицах и помощи человека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различать и называть зимующих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кругозор о зимующих птицах (внешний вид, среда обитания, питан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творческие и интеллектуальные способности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лечь воспитанников и родителей к данной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fltVal val="-1"/>
                                          </p:val>
                                        </p:tav>
                                        <p:tav tm="10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1143000" y="974880"/>
            <a:ext cx="70009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Этапы реализации проект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I этап – подготовитель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II этап – основной ( практически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III этап- заключитель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3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I этап – подготовительный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857160" y="1957320"/>
            <a:ext cx="757260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суждение цели, задачи с детьми и родит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реализации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спективное планирование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работка и накопление методических материалов по пробле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недрение в воспитательно – образовательный процесс эффективных методов и приемов по расширению знаний дошкольников о зимующих птиц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207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II этап – основной (практический)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12000">
    <p:diamond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#ppt_y)">
                                      <p:cBhvr additive="repl"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2147483648"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настасия Веретнова</cp:lastModifiedBy>
  <cp:lastPrinted>2013-04-02T03:53:43Z</cp:lastPrinted>
  <dcterms:modified xsi:type="dcterms:W3CDTF">2015-01-14T07:18:37Z</dcterms:modified>
  <cp:revision>5</cp:revision>
  <dc:subject/>
  <dc:title>Презентация PowerPoint</dc:title>
</cp:coreProperties>
</file>