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A71-AB3F-4DB0-AEE2-68A48784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18A-018D-49B2-A328-EFFFD11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607-C77E-4B9F-8F35-D929F85A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D57-F49B-40B1-906D-23E07ADA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B1A3-68F2-4194-A181-87D31067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24A3-A8FD-4CE6-B66C-1E605C1B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EB94-5601-43C2-A360-BE41760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840D-64B2-475B-9DE5-DBCBBE27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C862-8F58-49ED-9E9A-783902BD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7746-7C05-42C3-BC5D-E948CA69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55F2-AEB7-4F0C-8E7F-2D3D050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BDA-EC10-4EFF-91AC-2ACE4E42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5D47-BE14-4DCA-B1C8-AA8C663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7FD9-79EF-41B7-A5DD-4C75FE3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1F82-60C7-4B64-9F08-FE82E2A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2927-7A68-4B6B-8B55-4ECDF4F0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4228-18FE-401A-B54E-C5AF413B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856-4711-43CB-858F-2B7A75F3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2E0-2AF7-45E8-8A69-EF1ABC7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483-1077-4BFB-871C-03FFBDCA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229-2714-4824-9BD2-252FA9B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637-B9CE-4E52-A38A-23FDD589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A5F-ED56-4F08-8A10-E5BFDD95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6D3-9904-4FAC-B656-445516E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F223-4753-4516-B3F6-3CA3067AE8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78B9-704A-4FF9-BEAF-15C5630952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52012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ямоугольные треугольники и некоторые их свой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03280" y="3644640"/>
            <a:ext cx="34434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067280" y="522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олова Е.И.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Лицей №20 г.Междуреч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978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рассмотреть свойства прямоугольных треуголь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аучить решать задачи на примен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58920" y="765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ff"/>
                </a:solidFill>
                <a:latin typeface="Arial"/>
              </a:rPr>
              <a:t>Решение задач по готовым чертежа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39607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) Дано:     АВ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йти: ∟А ,∟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68360" y="2852640"/>
            <a:ext cx="30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50920" y="2708280"/>
            <a:ext cx="4681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) Дано:     АВС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:∟В =1: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йти: ∟А ,∟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1908000" y="1268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1835280" y="285264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250920" y="4508640"/>
            <a:ext cx="4572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) Дано:     АВ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 на 20 меньше, чем ∟В Найти: ∟В ,∟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6"/>
          <p:cNvSpPr/>
          <p:nvPr/>
        </p:nvSpPr>
        <p:spPr>
          <a:xfrm>
            <a:off x="1835280" y="472428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7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4680000" cy="259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30733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Свойства прямоугольных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умма двух углов прямоугольного треугольника равна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50920" y="321300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ано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АВС, ∟А=90, ∟В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ок-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=1/2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403280" y="3357720"/>
            <a:ext cx="144360" cy="1425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79280" y="414972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ок-во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ложим к    АВС равный ему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ак, как показано на р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им     В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= 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60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=ВС, но АС=1/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1/2В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5076720" y="2205000"/>
            <a:ext cx="73080" cy="7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2268360" y="5805360"/>
            <a:ext cx="144720" cy="14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4643280" y="1268280"/>
            <a:ext cx="71640" cy="71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79280" y="1628640"/>
            <a:ext cx="8785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Катет прямоугольного треугольн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жащий против угла в 30, равен половине гипотену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276720" y="4365720"/>
            <a:ext cx="144360" cy="1429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1692360" y="5084640"/>
            <a:ext cx="144360" cy="1429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 flipH="1">
            <a:off x="1042200" y="47242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8" descr=""/>
          <p:cNvPicPr/>
          <p:nvPr/>
        </p:nvPicPr>
        <p:blipFill>
          <a:blip r:embed="rId1"/>
          <a:stretch/>
        </p:blipFill>
        <p:spPr>
          <a:xfrm>
            <a:off x="5940360" y="2924280"/>
            <a:ext cx="3203640" cy="324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203640" cy="3213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0"/>
          <p:cNvSpPr/>
          <p:nvPr/>
        </p:nvSpPr>
        <p:spPr>
          <a:xfrm>
            <a:off x="7451640" y="47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7093080" y="47242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87708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3492360" y="3284640"/>
            <a:ext cx="71640" cy="73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4"/>
          <p:cNvSpPr/>
          <p:nvPr/>
        </p:nvSpPr>
        <p:spPr>
          <a:xfrm>
            <a:off x="4716360" y="3284640"/>
            <a:ext cx="71640" cy="73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259920"/>
            <a:ext cx="8281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4427640" y="907920"/>
            <a:ext cx="73080" cy="73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35" name="Line 11"/>
          <p:cNvSpPr/>
          <p:nvPr/>
        </p:nvSpPr>
        <p:spPr>
          <a:xfrm flipH="1">
            <a:off x="6948360" y="2349360"/>
            <a:ext cx="144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 flipH="1">
            <a:off x="7092720" y="2492280"/>
            <a:ext cx="142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3964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ано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АВС, ∟А=90, АС=1/2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ок-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∟В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763640" y="17002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3780000" y="1628640"/>
            <a:ext cx="71280" cy="71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2843280" y="2349360"/>
            <a:ext cx="73080" cy="71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612720" y="2708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ок-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3213000"/>
            <a:ext cx="49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м к    АВС равный ему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ак, как показано на рис. Получим равносторон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?): ∟С=∟В=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60. 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=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∟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1187280" y="371628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0"/>
          <p:cNvSpPr/>
          <p:nvPr/>
        </p:nvSpPr>
        <p:spPr>
          <a:xfrm>
            <a:off x="395280" y="4508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1"/>
          <p:cNvSpPr/>
          <p:nvPr/>
        </p:nvSpPr>
        <p:spPr>
          <a:xfrm>
            <a:off x="2484360" y="34290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2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2880000" cy="2808000"/>
          </a:xfrm>
          <a:prstGeom prst="rect">
            <a:avLst/>
          </a:prstGeom>
          <a:ln w="0">
            <a:noFill/>
          </a:ln>
        </p:spPr>
      </p:pic>
      <p:sp>
        <p:nvSpPr>
          <p:cNvPr id="147" name="Line 23"/>
          <p:cNvSpPr/>
          <p:nvPr/>
        </p:nvSpPr>
        <p:spPr>
          <a:xfrm flipH="1">
            <a:off x="7451640" y="4149720"/>
            <a:ext cx="21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 flipH="1">
            <a:off x="7524720" y="4292640"/>
            <a:ext cx="2160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6516720" y="4149720"/>
            <a:ext cx="288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6443640" y="4292640"/>
            <a:ext cx="289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H="1">
            <a:off x="6877080" y="486900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6877080" y="486900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9"/>
          <p:cNvSpPr/>
          <p:nvPr/>
        </p:nvSpPr>
        <p:spPr>
          <a:xfrm>
            <a:off x="4356000" y="4365720"/>
            <a:ext cx="73080" cy="71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5003640" y="4869000"/>
            <a:ext cx="144720" cy="14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1"/>
          <p:cNvSpPr/>
          <p:nvPr/>
        </p:nvSpPr>
        <p:spPr>
          <a:xfrm>
            <a:off x="4859280" y="4797360"/>
            <a:ext cx="73080" cy="71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ff"/>
                </a:solidFill>
                <a:latin typeface="Arial"/>
              </a:rPr>
              <a:t>Решение задач по готовым чертежа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30351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∟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1547640" y="414972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4"/>
          <a:stretch/>
        </p:blipFill>
        <p:spPr>
          <a:xfrm>
            <a:off x="6877080" y="3716280"/>
            <a:ext cx="226692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4430520" y="1154160"/>
            <a:ext cx="252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Найти: ∟С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13440" y="4371840"/>
            <a:ext cx="200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4790520" y="4365720"/>
            <a:ext cx="2018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тоги урок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/З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34, ВОПРОСЫ 10,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ОВ. ВОПРОСЫ 1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№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55, 256, 2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4:17:47Z</dcterms:created>
  <dc:creator>Кира</dc:creator>
  <dc:description/>
  <dc:language>en-US</dc:language>
  <cp:lastModifiedBy>Фроловы</cp:lastModifiedBy>
  <dcterms:modified xsi:type="dcterms:W3CDTF">2015-01-14T12:57:29Z</dcterms:modified>
  <cp:revision>49</cp:revision>
  <dc:subject/>
  <dc:title>Соотношения между сторонами и углами треугольника</dc:title>
</cp:coreProperties>
</file>