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A21F-A78F-46BA-BF78-BBEF2D0F9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1441-2FFF-456C-ABCD-CAD2E2F4B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42D2-6ACC-48DD-BA92-5C056E3EB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5E3E-89F7-4DA8-8348-9124070F5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F1A1-9A0E-4511-A951-EF44F9655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F29B-1A36-4AFF-BDB2-39885E301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7835-A029-4AC7-9CB6-2DC5038F7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4A78-02DA-498A-93B7-118CB07E0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B1B5-438A-4C4C-AACA-BB37AD3D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45BA-5812-47DB-AB79-87058021C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5E4B-7326-46B9-B837-1F0E8F53F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D865-43C5-47B5-8CF7-6423827AC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C95F-C15F-4EBE-9FAA-D85EA09015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6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 «Типы текстов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72080" y="5715000"/>
            <a:ext cx="3429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аф – самое высокое животное на земле. Высота его почти шесть метров, хотя туловище не больше туловища лошади. У него длинные ноги и длинная шея. Голова у жирафа небольшая, с двумя маленькими рожками. Окраска его светло-желтая с черными пятнами, как у леопа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нужно есть много овощей и фру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 сын спросил у мамы: «Для чего организму человека нужны овощи и фрукты?» «Потому что в них содержатся витамины »,- ответила мама. «Чтобы хорошо расти, хорошо видеть, иметь крепкие зубы, быть бодрым и реже простужаться», - добавил па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0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620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ая з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 затянул пруд лед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змели каток. У всех готовы коньки. Мальчишки ловко и легко скользят по льду. Радостно звучат детские голос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мчаться по гладкому льду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19280" y="1844640"/>
            <a:ext cx="680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 жил в клетке и ни разу не 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он будет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ри был чи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я просила его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чиж хотел на в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860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36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3357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83664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ри был чиж. Чиж жил в клетке и ни разу не пел. Варя просила его петь. Но чиж хотел на волю. Там он будет весь день п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162864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..ари,   чи.. ,   ж..л, пр..сила,   х..тел,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62864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628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1628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2421000"/>
            <a:ext cx="57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2100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4508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слова в тексте можно переносить? Какие нельз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142236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ри был чиж. Чиж жил в клетке и ни разу не пел. Варя просила его петь. Но чиж хотел на волю. Там он будет весь день пе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0360" y="431640"/>
            <a:ext cx="82296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обрать по членам предложения 2 предлож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ть спряжение глагол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ть падеж склоняемых частей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0360" y="122400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У Вари(Р.п.) был(1спр.) чиж(И.п.). Чиж(И.п.) жил(1спр.) в клетке(П.п.) и ни разу не пел(1спр.). Варя(И.п.) просила(2спр.) его(Р.п.) петь(1спр.). Но чиж(И.п.) хотел(1спр.) на волю(В.п.). Там он(И.п.) будет(1спр.) весь день(В.п.) петь(1спр.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59280" y="1800360"/>
            <a:ext cx="93672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52800" y="1944720"/>
            <a:ext cx="116532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11640" y="1728720"/>
            <a:ext cx="936360" cy="18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8560" y="3095640"/>
            <a:ext cx="93672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3166920"/>
            <a:ext cx="1295640" cy="18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68360" y="251928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7640" y="2519280"/>
            <a:ext cx="431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0360" y="2952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04000" y="244800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96000" y="2448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6880" y="1903320"/>
            <a:ext cx="320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4720" y="2448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1871640"/>
            <a:ext cx="3204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79640" y="251928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2231640"/>
            <a:ext cx="82263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Анализ и редактирование текст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276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те слова которые используют в повествов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280" y="503280"/>
            <a:ext cx="82072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ажды,издалека,вверх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з, вблиз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8720" y="28796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3640" y="3168720"/>
            <a:ext cx="57636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9280" y="3168720"/>
            <a:ext cx="64764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64360" y="3168720"/>
            <a:ext cx="64764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2360" y="3959280"/>
            <a:ext cx="79236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48000" y="3959280"/>
            <a:ext cx="50328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05264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екс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71640" y="549360"/>
            <a:ext cx="73454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 - описание</a:t>
            </a:r>
            <a:endParaRPr b="0" lang="en-US" sz="1800" spc="1" strike="noStrike">
              <a:ln cap="sq" w="936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адача автора при описании — указать признаки описываемого. Поэтому к текстам такого типа можно задать вопросы: каков предмет описания? как он выглядит? какие признаки для него характерны? как он функционирует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4360" y="476280"/>
            <a:ext cx="777528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-повествование</a:t>
            </a:r>
            <a:endParaRPr b="0" lang="en-US" sz="18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484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адача автора при повествовании — сообщить о последовательности действий или событий. Поэтому к текстам такого типа можно задать следующие вопросы: какова последовательность действий (событий)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исходило сначала и что происходило по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084640"/>
            <a:ext cx="79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404640"/>
            <a:ext cx="8280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 - рассуждение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475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адача автора при рассуждении — обосновать то или иное выдвигаемое положение, объяснить причины того или иного явления, события, его сущность. Поэтому к текстам такого типа можно задать следующие вопрос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чем причина данного явления? что из этого следует? каковы следствия данного явления? что оно знач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8:52:13Z</dcterms:created>
  <dc:creator>Admin</dc:creator>
  <dc:description/>
  <dc:language>en-US</dc:language>
  <cp:lastModifiedBy/>
  <dcterms:modified xsi:type="dcterms:W3CDTF">2015-01-14T05:40:11Z</dcterms:modified>
  <cp:revision>28</cp:revision>
  <dc:subject/>
  <dc:title>Слайд 1</dc:title>
</cp:coreProperties>
</file>