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43F-CB1C-45F4-867E-E134C802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9E8-1955-482B-88BC-F50F085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0BB-4B94-4BAD-8FC1-B58A199F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C9-B61A-4D0E-85FD-394AE038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061-2C2D-4D0C-A1DC-9BDFEDAF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66E-31BD-4BD5-BE5B-09C1F3E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F88-7B4F-48F7-860D-7D31C2F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07C-FA41-408E-BC6F-3C47825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53E-22DC-49F5-AC98-9792EE5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B55-CC22-4345-9527-D16510B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4D8-D8E9-4C8D-B363-C50FA7A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B5D-832A-437B-8EB8-3894963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85F3-4D58-459D-9368-4AA882B30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4176720" cy="30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692280"/>
            <a:ext cx="842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ОЛОГИЯ СОЗ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ЧЕВОГО ИМИДЖА  СТАРШЕ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256360" cy="374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0600" y="5084640"/>
            <a:ext cx="5513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гляд должен как можно чаще встреч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взглядом собес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105080" cy="3267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7480" y="981000"/>
            <a:ext cx="48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ыбка — это «половина обая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62360" y="3068640"/>
            <a:ext cx="5381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896000" cy="388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43760" y="5084640"/>
            <a:ext cx="820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Кто не умеет говорить, тот карьеры не сделает», - утвержд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олеон Бонапа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80800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857320" cy="2524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51280" y="2492280"/>
            <a:ext cx="4952880" cy="349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28800" y="836640"/>
            <a:ext cx="48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ют правила выступ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 собравш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44800" y="5275440"/>
            <a:ext cx="466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чень важно научиться созда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обые риторические эфф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52764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17840" cy="288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06960" y="687240"/>
            <a:ext cx="455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 обратиться к собеседни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имени и как можно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ринужд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3881520"/>
            <a:ext cx="35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но вести разго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видимым учё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есов собес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408720" cy="4259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22280" y="5157720"/>
            <a:ext cx="68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 закономерности формирования имид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жно создать свой успешный и достойный ими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282920" cy="32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2492280"/>
            <a:ext cx="78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ет верная истина: «Без многого человек может обойтись, только не без челове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1683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32000" y="3573360"/>
            <a:ext cx="2857680" cy="302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2920" y="1773360"/>
            <a:ext cx="3421080" cy="326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82720" y="501480"/>
            <a:ext cx="7232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с кем-то нам очень комфортно во время разгово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с кем-то хочется побыстрее закончить диал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216080"/>
            <a:ext cx="187549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 работы – выявить технологию построения речевого имид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шеклассника, которая бы способствовала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ельного мнения о чело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952880" cy="3495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6640" y="4653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ет несколько этапов форм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чевого имидж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248000" cy="383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105080" cy="345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8320" y="4724280"/>
            <a:ext cx="599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читается, что люди судят о н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впечатлению, которое 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им на них в первые секунды знако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3174840" cy="410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5016240" cy="333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57400" y="5656320"/>
            <a:ext cx="71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ежда позволяет выразить свою индивид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3810240" cy="322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11640" y="3933720"/>
            <a:ext cx="4032360" cy="292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1800" y="4667400"/>
            <a:ext cx="44067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а - тоже часть того язы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отором мы столь выраз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ворим без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38680" cy="430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762440" cy="361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2378160" cy="328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97800" y="39852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важнейших составляющих имиджа — мим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8:04:15Z</dcterms:created>
  <dc:creator>SamLab.ws</dc:creator>
  <dc:description/>
  <dc:language>en-US</dc:language>
  <cp:lastModifiedBy>SamLab.ws</cp:lastModifiedBy>
  <dcterms:modified xsi:type="dcterms:W3CDTF">2015-01-03T04:22:50Z</dcterms:modified>
  <cp:revision>3</cp:revision>
  <dc:subject/>
  <dc:title>Слайд 1</dc:title>
</cp:coreProperties>
</file>