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14F9-97F8-44CE-81AE-2A908A6AE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1E90-E144-49E3-883C-8936BC6A6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A9BE-3850-43A6-8D77-6F370114E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AA07-D5B3-41A4-B2FA-53C7C0666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DB6F8-E865-4E25-9311-48D382FDE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9B3E9-B2CE-4224-B475-B073B5B0F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FBCE9-F285-4EE1-8C75-83FB3C3B6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2A057-5258-4AE3-BDE1-5BA3C461B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9BC01-B262-40D5-AF79-12555FC1C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DF4D1-5DC9-42FF-81C5-C40EC83C2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7D454-2451-48E0-A4BD-384B89F0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9181-0FFE-4BD7-8A2B-4FF34CF39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5F36C-D6C9-49A4-9058-C5557CAF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AFAA8-07F3-43CD-8BBE-BCB7AC10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84CA6-1A76-4F9E-895E-518997BB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8744E-F3DF-4AF4-8818-6CC9AF4F4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3C006-A6AF-46B3-9CC9-06CB4E633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BC88-FB4F-4B0D-807F-E4BD625E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1825-B4DF-4CB6-BBD0-25AF286D6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2810-D84B-43FD-94F1-F4ADB079D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9EA5-7A37-4B76-995D-61215316E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FD4D-67E1-4CD0-9023-512F2474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AFC0-252B-4727-A478-72C77534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A86A-19E2-4399-AC31-FEC1EE08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6120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4860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9828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4E4CE-B678-452E-B797-35BF7891FFF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288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2880"/>
              <a:ext cx="1203120" cy="685476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360"/>
              <a:ext cx="1295280" cy="6309360"/>
              <a:chOff x="7848720" y="360"/>
              <a:chExt cx="1295280" cy="630936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360"/>
                <a:ext cx="762120" cy="2272680"/>
                <a:chOff x="8381880" y="360"/>
                <a:chExt cx="762120" cy="227268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10560" y="360"/>
                  <a:ext cx="279360" cy="275400"/>
                  <a:chOff x="8710560" y="360"/>
                  <a:chExt cx="27936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10560" y="360"/>
                    <a:ext cx="279360" cy="275400"/>
                    <a:chOff x="8710560" y="360"/>
                    <a:chExt cx="27936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9440" y="-3852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8800" y="92520"/>
                      <a:ext cx="141120" cy="225360"/>
                    </a:xfrm>
                    <a:custGeom>
                      <a:avLst/>
                      <a:gdLst>
                        <a:gd name="textAreaLeft" fmla="*/ 0 w 141120"/>
                        <a:gd name="textAreaRight" fmla="*/ 141480 w 14112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30080" y="13248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3840" y="64080"/>
                    <a:ext cx="42480" cy="57240"/>
                  </a:xfrm>
                  <a:custGeom>
                    <a:avLst/>
                    <a:gdLst>
                      <a:gd name="textAreaLeft" fmla="*/ 0 w 42480"/>
                      <a:gd name="textAreaRight" fmla="*/ 42840 w 4248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4760" y="5148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4240" y="10152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30080" y="19440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8600" y="16956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314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3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64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406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23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28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2360"/>
                <a:ext cx="828720" cy="4707360"/>
                <a:chOff x="7848720" y="1602360"/>
                <a:chExt cx="828720" cy="470736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23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60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46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78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46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64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55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7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72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9320"/>
              <a:ext cx="1190520" cy="193896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38960"/>
                <a:gd name="textAreaBottom" fmla="*/ 1939320 h 193896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8560"/>
              <a:ext cx="1219320" cy="199908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999080"/>
                <a:gd name="textAreaBottom" fmla="*/ 1999440 h 199908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9520"/>
              <a:ext cx="1231920" cy="403488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4880"/>
                <a:gd name="textAreaBottom" fmla="*/ 4035240 h 403488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9880"/>
              <a:ext cx="979560" cy="218340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3400"/>
                <a:gd name="textAreaBottom" fmla="*/ 2183760 h 218340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9840"/>
              <a:ext cx="914400" cy="504576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5760"/>
                <a:gd name="textAreaBottom" fmla="*/ 5046120 h 504576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4960"/>
              <a:ext cx="909720" cy="30697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69720"/>
                <a:gd name="textAreaBottom" fmla="*/ 3070080 h 30697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2880"/>
              <a:ext cx="576360" cy="33508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0880"/>
                <a:gd name="textAreaBottom" fmla="*/ 3351240 h 33508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4320"/>
              <a:ext cx="300240" cy="33512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1240"/>
                <a:gd name="textAreaBottom" fmla="*/ 3351600 h 33512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4320"/>
              <a:ext cx="88920" cy="68547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884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8840"/>
                <a:gd name="textAreaBottom" fmla="*/ 619200 h 61884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5760" y="3317400"/>
              <a:ext cx="6854760" cy="225360"/>
            </a:xfrm>
            <a:custGeom>
              <a:avLst/>
              <a:gdLst>
                <a:gd name="textAreaLeft" fmla="*/ 667800 w 6854760"/>
                <a:gd name="textAreaRight" fmla="*/ 6186960 w 685476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D5F62-CFC5-4FEE-8EF7-E0342F4C1C09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роект по литературе  в 10 </a:t>
            </a:r>
            <a:br>
              <a:rPr sz="4000"/>
            </a:b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           класс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ема разлуки в  произведениях русских писателей 19 век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Автор: Муратова М.В., учитель русского языка и литературы МАОУ СОШ №31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Результаты работ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02552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В итоге работы вы должны представить свои исследования во время заседания круглого стола и выступить на конференции с докладом. Ваши работы могут быть оформлены как презентаци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5" name="i-tmb-0x" descr="http://im6-tub-ru.yandex.net/i?id=391090125-11-72"/>
          <p:cNvPicPr/>
          <p:nvPr/>
        </p:nvPicPr>
        <p:blipFill>
          <a:blip r:embed="rId1"/>
          <a:stretch/>
        </p:blipFill>
        <p:spPr>
          <a:xfrm>
            <a:off x="1031760" y="1341360"/>
            <a:ext cx="31086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428640" y="1142640"/>
            <a:ext cx="444348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Разлука для любви, что ветер для огня:слабую она гасит, а большую раздувает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М.А.Булгаков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6" name="Picture 6" descr="http://im8-tub-ru.yandex.net/i?id=120610931-40-73&amp;n=21"/>
          <p:cNvPicPr/>
          <p:nvPr/>
        </p:nvPicPr>
        <p:blipFill>
          <a:blip r:embed="rId1"/>
          <a:stretch/>
        </p:blipFill>
        <p:spPr>
          <a:xfrm>
            <a:off x="500040" y="642960"/>
            <a:ext cx="222084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Разлука: испытание или благо?</a:t>
            </a:r>
            <a:br>
              <a:rPr sz="4000"/>
            </a:b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-360" y="1171440"/>
            <a:ext cx="3357720" cy="56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Расставание может обострить чувства человека, а может погасить их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От чего это зависит?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9" name="Picture 6" descr="http://im6-tub-ru.yandex.net/i?id=146008064-31-73&amp;n=21"/>
          <p:cNvPicPr/>
          <p:nvPr/>
        </p:nvPicPr>
        <p:blipFill>
          <a:blip r:embed="rId1"/>
          <a:stretch/>
        </p:blipFill>
        <p:spPr>
          <a:xfrm>
            <a:off x="3708360" y="1125360"/>
            <a:ext cx="316728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одумайте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160" y="1598400"/>
            <a:ext cx="7451640" cy="20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 каких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КЛАССИЧЕСКИХ ПРОИЗВЕДЕНИЯХ ГЕРОИ ЧАСТО РАССТАЮТСЯ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? Идет ли им это на пользу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Как разлука испытывает человека на прочность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Picture 5" descr="http://im3-tub-ru.yandex.net/i?id=230448438-18-73&amp;n=21"/>
          <p:cNvPicPr/>
          <p:nvPr/>
        </p:nvPicPr>
        <p:blipFill>
          <a:blip r:embed="rId3"/>
          <a:stretch/>
        </p:blipFill>
        <p:spPr>
          <a:xfrm>
            <a:off x="1908000" y="3500280"/>
            <a:ext cx="46800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4200" y="1425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одумайте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90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Всегда ли разлука выявляет лучшие качества человека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5" name="Picture 5" descr="http://im3-tub-ru.yandex.net/i?id=98221333-02-73&amp;n=21"/>
          <p:cNvPicPr/>
          <p:nvPr/>
        </p:nvPicPr>
        <p:blipFill>
          <a:blip r:embed="rId2"/>
          <a:stretch/>
        </p:blipFill>
        <p:spPr>
          <a:xfrm>
            <a:off x="4286160" y="2000160"/>
            <a:ext cx="2643120" cy="24289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http://im6-tub-ru.yandex.net/i?id=140712952-66-73&amp;n=21"/>
          <p:cNvPicPr/>
          <p:nvPr/>
        </p:nvPicPr>
        <p:blipFill>
          <a:blip r:embed="rId3"/>
          <a:stretch/>
        </p:blipFill>
        <p:spPr>
          <a:xfrm>
            <a:off x="0" y="2714760"/>
            <a:ext cx="2500200" cy="37144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7" descr="http://im6-tub-ru.yandex.net/i?id=98898329-32-73&amp;n=21"/>
          <p:cNvPicPr/>
          <p:nvPr/>
        </p:nvPicPr>
        <p:blipFill>
          <a:blip r:embed="rId4"/>
          <a:stretch/>
        </p:blipFill>
        <p:spPr>
          <a:xfrm>
            <a:off x="3203640" y="4724280"/>
            <a:ext cx="30970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Сопоставьте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85840" y="1571400"/>
            <a:ext cx="738648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к видят тему разлуки живописцы 19 века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0" name="Picture 5" descr="http://im7-tub-ru.yandex.net/i?id=172317532-34-73&amp;n=21"/>
          <p:cNvPicPr/>
          <p:nvPr/>
        </p:nvPicPr>
        <p:blipFill>
          <a:blip r:embed="rId2"/>
          <a:stretch/>
        </p:blipFill>
        <p:spPr>
          <a:xfrm>
            <a:off x="285840" y="2643120"/>
            <a:ext cx="1928880" cy="26431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7" descr="http://im7-tub-ru.yandex.net/i?id=23803873-22-73&amp;n=21"/>
          <p:cNvPicPr/>
          <p:nvPr/>
        </p:nvPicPr>
        <p:blipFill>
          <a:blip r:embed="rId3"/>
          <a:stretch/>
        </p:blipFill>
        <p:spPr>
          <a:xfrm>
            <a:off x="5643720" y="2500200"/>
            <a:ext cx="2000160" cy="27147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http://im2-tub-ru.yandex.net/i?id=8887500-68-73&amp;n=21"/>
          <p:cNvPicPr/>
          <p:nvPr/>
        </p:nvPicPr>
        <p:blipFill>
          <a:blip r:embed="rId4"/>
          <a:stretch/>
        </p:blipFill>
        <p:spPr>
          <a:xfrm>
            <a:off x="2214720" y="3000240"/>
            <a:ext cx="335736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85840" y="571680"/>
            <a:ext cx="738648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2000"/>
          </a:bodyPr>
          <a:p>
            <a:pPr marL="144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Интересно ли вам, как в разлуке проявляются лучшие качества человека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144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144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Тогда присоединяйтесь к группе №1 и вспомните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144000" indent="-144000">
              <a:lnSpc>
                <a:spcPct val="80000"/>
              </a:lnSpc>
              <a:spcBef>
                <a:spcPts val="60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Что восхищает Некрасова в героинях поэмы «Русские женщины»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144000" indent="-144000">
              <a:lnSpc>
                <a:spcPct val="80000"/>
              </a:lnSpc>
              <a:spcBef>
                <a:spcPts val="60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Когда и при  каких обстоятельствах  Онегин меняет свое отношение к Татьяне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144000" indent="-144000">
              <a:lnSpc>
                <a:spcPct val="80000"/>
              </a:lnSpc>
              <a:spcBef>
                <a:spcPts val="60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Когда Дуня Вырина понимает свою вину перед отцом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5" name="Picture 5" descr="http://im3-tub-ru.yandex.net/i?id=165331008-47-73&amp;n=21"/>
          <p:cNvPicPr/>
          <p:nvPr/>
        </p:nvPicPr>
        <p:blipFill>
          <a:blip r:embed="rId1"/>
          <a:stretch/>
        </p:blipFill>
        <p:spPr>
          <a:xfrm>
            <a:off x="1285920" y="4000680"/>
            <a:ext cx="2357280" cy="2428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http://im4-tub-ru.yandex.net/i?id=99180412-31-73&amp;n=21"/>
          <p:cNvPicPr/>
          <p:nvPr/>
        </p:nvPicPr>
        <p:blipFill>
          <a:blip r:embed="rId2"/>
          <a:stretch/>
        </p:blipFill>
        <p:spPr>
          <a:xfrm>
            <a:off x="4643280" y="3786120"/>
            <a:ext cx="214344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28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Может быть вы думаете, что разлука только гасит человеческие чувства? Тогда присоединяйтесь к группе №2 и вспомните: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63520" y="3786120"/>
            <a:ext cx="7386480" cy="23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.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очему Наташа Ростова расстается с Андреем Болконским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2. Как изменилась Наденька в отношении к Александру Адуеву и почему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3. Что произошло с Софьей во время отсутствия Чацкого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555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Вы интересуетесь живописью? Тогда присоединяйтесь к группе №3 и вспомните, в картинах каких русских живописцев затрагивается тема разлуки?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0" name="Picture 4" descr="http://im4-tub-ru.yandex.net/i?id=129349947-68-73&amp;n=21"/>
          <p:cNvPicPr/>
          <p:nvPr/>
        </p:nvPicPr>
        <p:blipFill>
          <a:blip r:embed="rId1"/>
          <a:stretch/>
        </p:blipFill>
        <p:spPr>
          <a:xfrm>
            <a:off x="2411280" y="189000"/>
            <a:ext cx="3097440" cy="2087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http://im0-tub-ru.yandex.net/i?id=145779857-45-73&amp;n=21"/>
          <p:cNvPicPr/>
          <p:nvPr/>
        </p:nvPicPr>
        <p:blipFill>
          <a:blip r:embed="rId2"/>
          <a:stretch/>
        </p:blipFill>
        <p:spPr>
          <a:xfrm>
            <a:off x="4211640" y="4005360"/>
            <a:ext cx="3240000" cy="25923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http://im3-tub-ru.yandex.net/i?id=208594092-41-73&amp;n=21"/>
          <p:cNvPicPr/>
          <p:nvPr/>
        </p:nvPicPr>
        <p:blipFill>
          <a:blip r:embed="rId3"/>
          <a:stretch/>
        </p:blipFill>
        <p:spPr>
          <a:xfrm>
            <a:off x="250920" y="4221000"/>
            <a:ext cx="295272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4T15:19:12Z</dcterms:created>
  <dc:creator>work</dc:creator>
  <dc:description/>
  <dc:language>en-US</dc:language>
  <cp:lastModifiedBy>Admin</cp:lastModifiedBy>
  <dcterms:modified xsi:type="dcterms:W3CDTF">2015-01-14T14:41:19Z</dcterms:modified>
  <cp:revision>31</cp:revision>
  <dc:subject/>
  <dc:title>Урок-Проект: Семья-это то, что всегда с тобой! ( по роману Л.Н. Толстого «Война и мир»)</dc:title>
</cp:coreProperties>
</file>