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8AF-CA6A-4C96-AB24-6AFED0A8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3A7-EE3C-478A-8022-2E0EF049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3B46-AFB0-49A1-B6E4-6802F4F9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8A8-1123-4253-867F-C865EA3C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96C3-0A92-4F8B-A607-6827AD1B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638C-0896-4273-BB51-E33A4B6D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6434-39C9-4A59-A5FA-B07A8549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BA76-11BB-4975-B80B-755CA5F3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B7F9-C1C1-49DF-9D85-C12C839D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6AC4-C882-490B-898A-03A38A5B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3AE8-A3D8-463E-B2D6-B4A5B70A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35B-0DA6-4EE9-959F-27BDA972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E750-E54B-4DCE-9B59-DBE30D95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33DF-B364-42D1-AA12-1132B2A2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D1D5-E224-4319-914D-947E54AE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BDB6-18A5-4A05-8B3A-0E749456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7507-C631-463F-89B7-6632CA05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A9B-7D6E-47C3-947A-BD37E8B9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2C4-4EF0-4E5B-8799-50AA9EC6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093C-0B39-4DB5-8E6B-51B86665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0FB-80BA-4170-AC7F-E3C2B661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DF0E-6B60-4AB5-BFC0-92C5FD4F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0098-B3F4-4C4E-8E7B-DD593BC9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7AC-A65D-472B-BA44-4A4D3205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6F6F-5144-4E3A-A7D0-CD3D70FDEB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DCAE-6C3C-48E0-8C9D-081DE6EF5C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4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Транспорт мир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859280" y="5444640"/>
            <a:ext cx="4105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Автор:М.В.Зимин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учитель географии и биолог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МОУ Сосновская СОШ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001000" cy="95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Железнодорожный транспорт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4" descr="Тепловоз"/>
          <p:cNvPicPr/>
          <p:nvPr/>
        </p:nvPicPr>
        <p:blipFill>
          <a:blip r:embed="rId1"/>
          <a:stretch/>
        </p:blipFill>
        <p:spPr>
          <a:xfrm>
            <a:off x="250920" y="1916280"/>
            <a:ext cx="2665440" cy="1998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Электричка"/>
          <p:cNvPicPr/>
          <p:nvPr/>
        </p:nvPicPr>
        <p:blipFill>
          <a:blip r:embed="rId2"/>
          <a:stretch/>
        </p:blipFill>
        <p:spPr>
          <a:xfrm>
            <a:off x="3348000" y="1628640"/>
            <a:ext cx="3089160" cy="2318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Немецкие ж"/>
          <p:cNvPicPr/>
          <p:nvPr/>
        </p:nvPicPr>
        <p:blipFill>
          <a:blip r:embed="rId3"/>
          <a:stretch/>
        </p:blipFill>
        <p:spPr>
          <a:xfrm>
            <a:off x="1187280" y="414972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Монорельсовая дорога"/>
          <p:cNvPicPr/>
          <p:nvPr/>
        </p:nvPicPr>
        <p:blipFill>
          <a:blip r:embed="rId4"/>
          <a:stretch/>
        </p:blipFill>
        <p:spPr>
          <a:xfrm>
            <a:off x="5580000" y="4149720"/>
            <a:ext cx="3238560" cy="232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мопн"/>
          <p:cNvPicPr/>
          <p:nvPr/>
        </p:nvPicPr>
        <p:blipFill>
          <a:blip r:embed="rId5"/>
          <a:stretch/>
        </p:blipFill>
        <p:spPr>
          <a:xfrm>
            <a:off x="6732720" y="2133720"/>
            <a:ext cx="219528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Морской транспор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4" descr="wapos_ru_1335d"/>
          <p:cNvPicPr/>
          <p:nvPr/>
        </p:nvPicPr>
        <p:blipFill>
          <a:blip r:embed="rId1"/>
          <a:stretch/>
        </p:blipFill>
        <p:spPr>
          <a:xfrm>
            <a:off x="395280" y="134136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wapos_ru_1333d"/>
          <p:cNvPicPr/>
          <p:nvPr/>
        </p:nvPicPr>
        <p:blipFill>
          <a:blip r:embed="rId2"/>
          <a:stretch/>
        </p:blipFill>
        <p:spPr>
          <a:xfrm>
            <a:off x="6732720" y="1197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Рефлежератор"/>
          <p:cNvPicPr/>
          <p:nvPr/>
        </p:nvPicPr>
        <p:blipFill>
          <a:blip r:embed="rId3"/>
          <a:stretch/>
        </p:blipFill>
        <p:spPr>
          <a:xfrm>
            <a:off x="179280" y="4653000"/>
            <a:ext cx="2881440" cy="1927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Контейнеровоз"/>
          <p:cNvPicPr/>
          <p:nvPr/>
        </p:nvPicPr>
        <p:blipFill>
          <a:blip r:embed="rId4"/>
          <a:stretch/>
        </p:blipFill>
        <p:spPr>
          <a:xfrm>
            <a:off x="3132000" y="4869000"/>
            <a:ext cx="2952720" cy="1707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Море 2"/>
          <p:cNvPicPr/>
          <p:nvPr/>
        </p:nvPicPr>
        <p:blipFill>
          <a:blip r:embed="rId5"/>
          <a:stretch/>
        </p:blipFill>
        <p:spPr>
          <a:xfrm>
            <a:off x="2916360" y="1773360"/>
            <a:ext cx="3449520" cy="2408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Катер"/>
          <p:cNvPicPr/>
          <p:nvPr/>
        </p:nvPicPr>
        <p:blipFill>
          <a:blip r:embed="rId6"/>
          <a:stretch/>
        </p:blipFill>
        <p:spPr>
          <a:xfrm>
            <a:off x="6443640" y="4724280"/>
            <a:ext cx="254484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Трубопроводный транспор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4" descr="Трубопровод"/>
          <p:cNvPicPr/>
          <p:nvPr/>
        </p:nvPicPr>
        <p:blipFill>
          <a:blip r:embed="rId1"/>
          <a:stretch/>
        </p:blipFill>
        <p:spPr>
          <a:xfrm>
            <a:off x="971640" y="141300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0100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Воздушный транспор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4" descr="boeing_787_"/>
          <p:cNvPicPr/>
          <p:nvPr/>
        </p:nvPicPr>
        <p:blipFill>
          <a:blip r:embed="rId1"/>
          <a:stretch/>
        </p:blipFill>
        <p:spPr>
          <a:xfrm>
            <a:off x="468360" y="1484280"/>
            <a:ext cx="3311640" cy="2206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Боинг"/>
          <p:cNvPicPr/>
          <p:nvPr/>
        </p:nvPicPr>
        <p:blipFill>
          <a:blip r:embed="rId2"/>
          <a:stretch/>
        </p:blipFill>
        <p:spPr>
          <a:xfrm>
            <a:off x="1042920" y="4076640"/>
            <a:ext cx="3200400" cy="2559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Вертолет"/>
          <p:cNvPicPr/>
          <p:nvPr/>
        </p:nvPicPr>
        <p:blipFill>
          <a:blip r:embed="rId3"/>
          <a:stretch/>
        </p:blipFill>
        <p:spPr>
          <a:xfrm>
            <a:off x="4356000" y="1916280"/>
            <a:ext cx="42912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Verdana"/>
              </a:rPr>
              <a:t>Черты различий между транспортом в станах разных тип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3924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Экономически развитые стран  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2920" y="1915920"/>
            <a:ext cx="3924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Развивающиеся стран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4716360" y="1700280"/>
            <a:ext cx="0" cy="4537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95280" y="6308640"/>
            <a:ext cx="8353440" cy="2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уйте карту атласа «Транспорт мира», учебник, к/к на доск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684360" y="692280"/>
            <a:ext cx="7848360" cy="72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Может ли транспорт охарактеризовать современный уровен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экономики страны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§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 Т5,вопрос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79280" y="620640"/>
          <a:ext cx="8785440" cy="5560920"/>
        </p:xfrm>
        <a:graphic>
          <a:graphicData uri="http://schemas.openxmlformats.org/drawingml/2006/table">
            <a:tbl>
              <a:tblPr/>
              <a:tblGrid>
                <a:gridCol w="1728720"/>
                <a:gridCol w="1200240"/>
                <a:gridCol w="1463760"/>
                <a:gridCol w="1463760"/>
                <a:gridCol w="1465200"/>
                <a:gridCol w="146376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ико-экономические особ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рск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томоби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уш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убопровод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кор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узоподъем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невр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сстоя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бестоим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мест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пускная способ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0" i="1" lang="ru-RU" sz="3400" spc="-1" strike="noStrike">
                <a:solidFill>
                  <a:srgbClr val="000000"/>
                </a:solidFill>
                <a:latin typeface="Verdana"/>
              </a:rPr>
              <a:t>изучение особенностей географии транспорта мира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формировать представление о разных видах транспорта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характеризовать по основным параметрам мировую транспортную систем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роль и значение транспорта в современной экономике, как третьей ведущей отрасли производства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ыяснить влияние НТР на развитие транспорт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Verdana"/>
              </a:rPr>
              <a:t>Транспорт одна из ведущих отраслей производств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686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ется ……………………ГР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…………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и  …………….   транспортных перевозок отражают уровень и структуру экономик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еография транспортной сети и грузопотоков влияет на размещение……………………………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ранспорт способствует ……………………и ……….. …….                    стран мир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ранспорт преодолевает  ………. ………………  разрыв между ..……………           и …………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овар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268360" y="1700280"/>
            <a:ext cx="3024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основ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755640" y="2205000"/>
            <a:ext cx="136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Объ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627280" y="2133720"/>
            <a:ext cx="1655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структура </a:t>
            </a: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203640" y="3573360"/>
            <a:ext cx="388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производительных си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4932360" y="3933720"/>
            <a:ext cx="2592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специал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116000" y="4292640"/>
            <a:ext cx="244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коопериро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5219640" y="4724280"/>
            <a:ext cx="31687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территориаль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3348000" y="5013360"/>
            <a:ext cx="2592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6804000" y="501336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потребител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Изменения структуры грузооборо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66640" y="1752480"/>
          <a:ext cx="8001000" cy="4021200"/>
        </p:xfrm>
        <a:graphic>
          <a:graphicData uri="http://schemas.openxmlformats.org/drawingml/2006/table">
            <a:tbl>
              <a:tblPr/>
              <a:tblGrid>
                <a:gridCol w="3934080"/>
                <a:gridCol w="1439640"/>
                <a:gridCol w="1289160"/>
                <a:gridCol w="13381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ды транспор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7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елезнодорож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,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,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томобиль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,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,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нутренний вод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рско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,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,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,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фтепровод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,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зопровод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уш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65"/>
          <p:cNvSpPr/>
          <p:nvPr/>
        </p:nvSpPr>
        <p:spPr>
          <a:xfrm>
            <a:off x="395280" y="6210360"/>
            <a:ext cx="849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распределились места в мировом грузообороте? Почем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НТ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24000" y="1413000"/>
            <a:ext cx="201600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484360" y="1413000"/>
            <a:ext cx="201636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859280" y="1341360"/>
            <a:ext cx="2016360" cy="1584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6948360" y="1413000"/>
            <a:ext cx="2016360" cy="1584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1907640" y="836640"/>
            <a:ext cx="20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9"/>
          <p:cNvSpPr/>
          <p:nvPr/>
        </p:nvSpPr>
        <p:spPr>
          <a:xfrm flipH="1">
            <a:off x="4211280" y="907920"/>
            <a:ext cx="144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5003640" y="907920"/>
            <a:ext cx="5050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5219640" y="765000"/>
            <a:ext cx="22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2" descr="мопн"/>
          <p:cNvPicPr/>
          <p:nvPr/>
        </p:nvPicPr>
        <p:blipFill>
          <a:blip r:embed="rId5"/>
          <a:stretch/>
        </p:blipFill>
        <p:spPr>
          <a:xfrm>
            <a:off x="468360" y="3429000"/>
            <a:ext cx="1714320" cy="1228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На магнитной подушке"/>
          <p:cNvPicPr/>
          <p:nvPr/>
        </p:nvPicPr>
        <p:blipFill>
          <a:blip r:embed="rId6"/>
          <a:stretch/>
        </p:blipFill>
        <p:spPr>
          <a:xfrm>
            <a:off x="395280" y="3357720"/>
            <a:ext cx="3649680" cy="2506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ПОдвесная"/>
          <p:cNvPicPr/>
          <p:nvPr/>
        </p:nvPicPr>
        <p:blipFill>
          <a:blip r:embed="rId7"/>
          <a:stretch/>
        </p:blipFill>
        <p:spPr>
          <a:xfrm>
            <a:off x="468360" y="3284640"/>
            <a:ext cx="3527280" cy="316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Немецкие ж"/>
          <p:cNvPicPr/>
          <p:nvPr/>
        </p:nvPicPr>
        <p:blipFill>
          <a:blip r:embed="rId8"/>
          <a:stretch/>
        </p:blipFill>
        <p:spPr>
          <a:xfrm>
            <a:off x="395280" y="3284640"/>
            <a:ext cx="3745080" cy="3024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Автол"/>
          <p:cNvPicPr/>
          <p:nvPr/>
        </p:nvPicPr>
        <p:blipFill>
          <a:blip r:embed="rId9"/>
          <a:stretch/>
        </p:blipFill>
        <p:spPr>
          <a:xfrm>
            <a:off x="179280" y="3284640"/>
            <a:ext cx="4711680" cy="335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БЕЛАЗ"/>
          <p:cNvPicPr/>
          <p:nvPr/>
        </p:nvPicPr>
        <p:blipFill>
          <a:blip r:embed="rId10"/>
          <a:stretch/>
        </p:blipFill>
        <p:spPr>
          <a:xfrm>
            <a:off x="179280" y="3357720"/>
            <a:ext cx="4923000" cy="333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Автобус"/>
          <p:cNvPicPr/>
          <p:nvPr/>
        </p:nvPicPr>
        <p:blipFill>
          <a:blip r:embed="rId11"/>
          <a:stretch/>
        </p:blipFill>
        <p:spPr>
          <a:xfrm>
            <a:off x="0" y="3295800"/>
            <a:ext cx="4681440" cy="356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Катер"/>
          <p:cNvPicPr/>
          <p:nvPr/>
        </p:nvPicPr>
        <p:blipFill>
          <a:blip r:embed="rId12"/>
          <a:stretch/>
        </p:blipFill>
        <p:spPr>
          <a:xfrm>
            <a:off x="0" y="3510000"/>
            <a:ext cx="5041800" cy="334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Море 2"/>
          <p:cNvPicPr/>
          <p:nvPr/>
        </p:nvPicPr>
        <p:blipFill>
          <a:blip r:embed="rId13"/>
          <a:stretch/>
        </p:blipFill>
        <p:spPr>
          <a:xfrm>
            <a:off x="179280" y="3387600"/>
            <a:ext cx="4969080" cy="347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Боинг"/>
          <p:cNvPicPr/>
          <p:nvPr/>
        </p:nvPicPr>
        <p:blipFill>
          <a:blip r:embed="rId14"/>
          <a:stretch/>
        </p:blipFill>
        <p:spPr>
          <a:xfrm>
            <a:off x="250920" y="3284640"/>
            <a:ext cx="4752720" cy="3573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3" descr="Вертолет"/>
          <p:cNvPicPr/>
          <p:nvPr/>
        </p:nvPicPr>
        <p:blipFill>
          <a:blip r:embed="rId15"/>
          <a:stretch/>
        </p:blipFill>
        <p:spPr>
          <a:xfrm>
            <a:off x="179280" y="3408480"/>
            <a:ext cx="5183280" cy="34495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4"/>
          <p:cNvSpPr/>
          <p:nvPr/>
        </p:nvSpPr>
        <p:spPr>
          <a:xfrm>
            <a:off x="4751280" y="3500280"/>
            <a:ext cx="4392720" cy="2953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лектрификация железных доро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явились поезда на воздуш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ушке и магнитной подвеск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ычные высокоскоростные поез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меют скорость от 200 до 300 км/ч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корд скорости пассажирског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езда -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515 км/ч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В Японии поез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магнитной подвеске развил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корость -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552 км/ч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25"/>
          <p:cNvSpPr/>
          <p:nvPr/>
        </p:nvSpPr>
        <p:spPr>
          <a:xfrm>
            <a:off x="4716360" y="3500280"/>
            <a:ext cx="4572000" cy="3095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втомобильный транспорт стал боле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фортабельным, удобным 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местимы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явились электромобил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ашины с дизельным, газобалонны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вигателя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4788000" y="3500280"/>
            <a:ext cx="4356000" cy="316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уда-атомоходы, суда на подводны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рыльях, на воздушной подуш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изированные суда:балкеры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олкеры,автомобилевозы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тейнеровоз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4788000" y="3500280"/>
            <a:ext cx="4356000" cy="316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верхзвуковые пассажирск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йнеры англо-французск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Конкорд» и советский Ту-14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ыли созданы еще в 60-х гг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Конкорд» преодолевает расстоя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 Лондона до Нью-Йорка 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 ч 40 ми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России испытывают Ту-244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го скорость 2300-2500 км/ч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Влияние НТР на развитие транспорта в целом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явле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величе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10"/>
          <p:cNvSpPr/>
          <p:nvPr/>
        </p:nvSpPr>
        <p:spPr>
          <a:xfrm flipV="1">
            <a:off x="3276720" y="2565360"/>
            <a:ext cx="79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11"/>
          <p:cNvSpPr/>
          <p:nvPr/>
        </p:nvSpPr>
        <p:spPr>
          <a:xfrm flipV="1">
            <a:off x="3492360" y="3357360"/>
            <a:ext cx="720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419640" y="378936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3276720" y="3860640"/>
            <a:ext cx="3585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3708360" y="1916280"/>
            <a:ext cx="3384720" cy="36036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ых видов транспор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140360" y="2565360"/>
            <a:ext cx="3384360" cy="36036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кор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4356000" y="3284640"/>
            <a:ext cx="3384720" cy="36036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узоподъем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4356000" y="4005360"/>
            <a:ext cx="3384720" cy="36036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местим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3564000" y="4869000"/>
            <a:ext cx="5400720" cy="36036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пускной способности транспортных пут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Verdana"/>
              </a:rPr>
              <a:t>Структура мирового грузооборота и пассажирооборота, в %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1844640"/>
          <a:ext cx="8435880" cy="4608720"/>
        </p:xfrm>
        <a:graphic>
          <a:graphicData uri="http://schemas.openxmlformats.org/drawingml/2006/table">
            <a:tbl>
              <a:tblPr/>
              <a:tblGrid>
                <a:gridCol w="3827520"/>
                <a:gridCol w="2016000"/>
                <a:gridCol w="2592360"/>
              </a:tblGrid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ды транспор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узооборо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ссажирообор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елезнодорож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,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томобиль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убопровод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рско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нутренний вод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уш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Автомобильный транспор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76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4" descr="Автобус"/>
          <p:cNvPicPr/>
          <p:nvPr/>
        </p:nvPicPr>
        <p:blipFill>
          <a:blip r:embed="rId1"/>
          <a:stretch/>
        </p:blipFill>
        <p:spPr>
          <a:xfrm>
            <a:off x="179280" y="1052640"/>
            <a:ext cx="2952720" cy="2246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18"/>
          <p:cNvPicPr/>
          <p:nvPr/>
        </p:nvPicPr>
        <p:blipFill>
          <a:blip r:embed="rId2"/>
          <a:stretch/>
        </p:blipFill>
        <p:spPr>
          <a:xfrm>
            <a:off x="0" y="3933720"/>
            <a:ext cx="2941560" cy="2206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img-175b1"/>
          <p:cNvPicPr/>
          <p:nvPr/>
        </p:nvPicPr>
        <p:blipFill>
          <a:blip r:embed="rId3"/>
          <a:stretch/>
        </p:blipFill>
        <p:spPr>
          <a:xfrm>
            <a:off x="3276720" y="1484280"/>
            <a:ext cx="3095640" cy="232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Хаммер"/>
          <p:cNvPicPr/>
          <p:nvPr/>
        </p:nvPicPr>
        <p:blipFill>
          <a:blip r:embed="rId4"/>
          <a:stretch/>
        </p:blipFill>
        <p:spPr>
          <a:xfrm>
            <a:off x="6732720" y="4797360"/>
            <a:ext cx="1968480" cy="1478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TRUCK2"/>
          <p:cNvPicPr/>
          <p:nvPr/>
        </p:nvPicPr>
        <p:blipFill>
          <a:blip r:embed="rId5"/>
          <a:srcRect l="0" t="-490" r="0" b="0"/>
          <a:stretch/>
        </p:blipFill>
        <p:spPr>
          <a:xfrm>
            <a:off x="6518160" y="1052640"/>
            <a:ext cx="2625840" cy="3319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Развязка"/>
          <p:cNvPicPr/>
          <p:nvPr/>
        </p:nvPicPr>
        <p:blipFill>
          <a:blip r:embed="rId6"/>
          <a:stretch/>
        </p:blipFill>
        <p:spPr>
          <a:xfrm>
            <a:off x="3132000" y="4221000"/>
            <a:ext cx="3273480" cy="18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6:19:46Z</dcterms:created>
  <dc:creator>Zver</dc:creator>
  <dc:description/>
  <dc:language>en-US</dc:language>
  <cp:lastModifiedBy>Зимины</cp:lastModifiedBy>
  <dcterms:modified xsi:type="dcterms:W3CDTF">2015-01-14T08:13:51Z</dcterms:modified>
  <cp:revision>14</cp:revision>
  <dc:subject/>
  <dc:title>Транспорт мира</dc:title>
</cp:coreProperties>
</file>