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EF2-4E3B-4D24-BE37-4956C242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BAA-2E0F-434B-844B-1C3FD000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86B-076E-4D76-A583-6E4E93A0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048-5AC6-4BD3-AC38-A9EC125F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DB5-E0BB-4134-BE6B-0DBFAC4E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FD8-53DF-4026-A783-1900CD30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E80-3448-4846-9056-21C37E5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230-8489-48D8-8B52-D8D5E15E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738-E619-4AFA-A4F0-EE456C63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12D-8184-418D-8BE9-893A3B3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D75-35A4-46F9-B796-7E959F4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587-79A8-467E-943E-C39A059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9F9E-CF8B-46D3-A820-367B7A49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1003320"/>
            <a:ext cx="8547120" cy="24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8000"/>
                </a:solidFill>
                <a:latin typeface="Arial"/>
                <a:ea typeface="Arial"/>
              </a:rPr>
              <a:t>Требования к устной речи ребенка, поступающего в первый клас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92240" y="4013280"/>
            <a:ext cx="59212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ребина Елена Леонидов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итель - логопе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ОУ СОШ №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.Ноябрьс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6320" y="2166840"/>
            <a:ext cx="84614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грамматически правильной, лексически богатой и фонетически четкой речи, дающей возможность речевого общения и подготавливающей к обучению в школе, - одна из важных задач в общей системе работы по обучению ребенка в дошкольных учреждениях и семье. Ребенок с хорошо развитой речью легко вступает в общение с окружающими, может понятно выразить свои мысли, желания, задать вопросы, договориться со сверстниками о совместной игр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16080" y="309600"/>
            <a:ext cx="9843840" cy="681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90640" y="2166840"/>
            <a:ext cx="84628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ьники, у которых отклонения в речевом развитии касаются только дефектов произношения одного или нескольких звуков, как правило, учатся хорошо. Такие дефекты речи обычно не сказываются отрицательно на усвоении школьной программы. Дети правильно соотносят звуки и буквы, не допускают в письменных работах ошибок, связанных с недостатками звукопроизношения. Среди этих учащихся неуспевающих практически нет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65640" y="739440"/>
            <a:ext cx="43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Фонетический дефе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3800" y="0"/>
            <a:ext cx="8748720" cy="23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Школьники с несформированной звуковой стороной речи</a:t>
            </a:r>
            <a:r>
              <a:rPr b="0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8000"/>
                </a:solidFill>
                <a:latin typeface="Times New Roman"/>
              </a:rPr>
              <a:t>(Фонетико-фонематическое недоразвитие)</a:t>
            </a: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90640" y="2166840"/>
            <a:ext cx="84628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роизношение, фонематические процессы), как правило, заменяют и смешивают фонемы, сходные по звучанию или артикуляции (шипящих - свистящих; звонких - глухих; твердых - мягких, р - л). Они испытывают трудности в восприятии на слух близких звуков, не учитывают смыслоразличительного значения этих звуков в словах (бочка - почка). Такой уровень недоразвития звуковой стороны речи препятствует овладению навыками анализа и синтеза звукового состава слова и служит причиной появления вторичного дефекта (дислексии и дисграфии как специфических нарушений при чтении и письм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90640" y="2166840"/>
            <a:ext cx="84628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школьников наряду с нарушениями произношения звуков может наблюдаться недоразвитие фонематических процессов и лексико-грамматических средств языка (общее недоразвитие речи). Они испытывают большие трудности при чтении и письме, ведущие к стойкой неуспеваемости по родному языку и другим предметам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447560" y="809640"/>
            <a:ext cx="60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щее недоразвитие реч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90640" y="2166840"/>
            <a:ext cx="84628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аких детей произношение звуков чаще бывает смазанным, невнятным, у них наблюдается ярко выраженная недостаточность фонематических процессов, их словарь ограничен, грамматическое оформление устных высказываний изобилует специфическими ошибками; самостоятельное высказывание в пределах обиходно бытовой тематики характеризуется фрагментарностью, бедностью, смысловой незаконченностью. Отклонения в развитии устной речи создают серьезные препятствия при обучении грамотному письму и правильному чтению. Письменные работы этих детей полны разнообразных специфических, орфографических и синтаксических ошибо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0640" y="642960"/>
            <a:ext cx="84628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66"/>
                </a:solidFill>
                <a:latin typeface="Arial"/>
              </a:rPr>
              <a:t>Основная задача родителей -</a:t>
            </a:r>
            <a:endParaRPr b="0" lang="en-US" sz="37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90640" y="2166840"/>
            <a:ext cx="84628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овремя обратить вним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на различные нарушения устной речи своего ребенка, чтобы начать логопедическую работу с ним до школы, предотвратить трудности общения в коллективе и неуспеваемость в общеобразовательной школе. Чем раньше будет начата коррекция, тем лучше ее результат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0640" y="642960"/>
            <a:ext cx="84628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66"/>
                </a:solidFill>
                <a:latin typeface="Arial"/>
              </a:rPr>
              <a:t>Внимание!</a:t>
            </a:r>
            <a:endParaRPr b="0" lang="en-US" sz="37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0640" y="2758680"/>
            <a:ext cx="84628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Школьное обучение предъявляет ребенку новые требования к его речи, родителя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еобходимо обратить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обое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развитие речи дошкольника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и подготовке ребенка к школе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7704000" y="592200"/>
            <a:ext cx="1673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0640" y="642960"/>
            <a:ext cx="84628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66"/>
                </a:solidFill>
                <a:latin typeface="Arial"/>
              </a:rPr>
              <a:t>1. Сформированность звуковой стороны речи.</a:t>
            </a:r>
            <a:endParaRPr b="0" lang="en-US" sz="37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0640" y="2166840"/>
            <a:ext cx="84628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ебенок должен владеть правильным, четким звукопроизношением звуков всех фонетических групп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2878200" y="3894120"/>
            <a:ext cx="42354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0640" y="642960"/>
            <a:ext cx="84628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66"/>
                </a:solidFill>
                <a:latin typeface="Arial"/>
              </a:rPr>
              <a:t>2. Полная сформированность фонематических процессов</a:t>
            </a:r>
            <a:endParaRPr b="0" lang="en-US" sz="37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0640" y="2166840"/>
            <a:ext cx="84628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мение слышать и различать, дифференцировать фонемы (звуки) родного языка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132000" y="4064040"/>
            <a:ext cx="3727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0640" y="642960"/>
            <a:ext cx="84628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3. </a:t>
            </a: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Готовность к звукобуквенному анализу и синтезу звукового состава речи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5040" y="2166480"/>
            <a:ext cx="935856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выделять начальный гласный звук из состава сло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 гласных из трех звуков тип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у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 обратного слога гласный - согласный тип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ышать и выделять первый и последний согласный звук в     слове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со схемой слова, разрезной азбукой, навыки послогового чт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и должны знать и правильно употреблять термины «звук», «слог», «слово», «предложение», звуки гласный, согласный, звонкий, глухой, твердый, мягк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3800" y="380520"/>
            <a:ext cx="846288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66"/>
                </a:solidFill>
                <a:latin typeface="Arial"/>
              </a:rPr>
              <a:t>4.</a:t>
            </a:r>
            <a:r>
              <a:rPr b="0" lang="ru-RU" sz="37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ru-RU" sz="3700" spc="-1" strike="noStrike">
                <a:solidFill>
                  <a:srgbClr val="336666"/>
                </a:solidFill>
                <a:latin typeface="Arial"/>
              </a:rPr>
              <a:t>4. </a:t>
            </a:r>
            <a:r>
              <a:rPr b="1" lang="ru-RU" sz="4000" spc="-1" strike="noStrike" u="sng">
                <a:solidFill>
                  <a:srgbClr val="808000"/>
                </a:solidFill>
                <a:uFillTx/>
                <a:latin typeface="Times New Roman"/>
              </a:rPr>
              <a:t>Сформированность </a:t>
            </a:r>
            <a:r>
              <a:rPr b="1" lang="ru-RU" sz="3600" spc="-1" strike="noStrike" u="sng">
                <a:solidFill>
                  <a:srgbClr val="808000"/>
                </a:solidFill>
                <a:uFillTx/>
                <a:latin typeface="Arial"/>
                <a:ea typeface="Arial"/>
              </a:rPr>
              <a:t>словообразовательных</a:t>
            </a:r>
            <a:r>
              <a:rPr b="1" lang="ru-RU" sz="4000" spc="-1" strike="noStrike" u="sng">
                <a:solidFill>
                  <a:srgbClr val="808000"/>
                </a:solidFill>
                <a:uFillTx/>
                <a:latin typeface="Times New Roman"/>
              </a:rPr>
              <a:t> процессов 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79600" y="2023920"/>
            <a:ext cx="92152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пользоваться разными способами словообраз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 употреблять слова с уменьшительно-ласкательным значением (дождь - дождик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воизменение (стул – стулья, окно – окна, ухо – уши, звезда - звезд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гласование - умение образовывать слова в нужной форме, выделять звуковые и смысловые различия между словами, т.е (желтый мяч, красное яблоко, красивая ваза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ывать прилагательные от существительных (Чья лапа? медвежья, заячья, лисья; Варенье из -  яблочное, вишневое и т.д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(вышел из дома, рассказал о друг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520" y="380520"/>
            <a:ext cx="86058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Arial"/>
                <a:ea typeface="Arial"/>
              </a:rPr>
              <a:t>5</a:t>
            </a:r>
            <a:r>
              <a:rPr b="1" lang="ru-RU" sz="3600" spc="-1" strike="noStrike">
                <a:solidFill>
                  <a:srgbClr val="808000"/>
                </a:solidFill>
                <a:latin typeface="Arial"/>
                <a:ea typeface="Arial"/>
              </a:rPr>
              <a:t>.</a:t>
            </a:r>
            <a:r>
              <a:rPr b="1" lang="ru-RU" sz="3600" spc="-1" strike="noStrike" u="sng">
                <a:solidFill>
                  <a:srgbClr val="808000"/>
                </a:solidFill>
                <a:uFillTx/>
                <a:latin typeface="Arial"/>
                <a:ea typeface="Arial"/>
              </a:rPr>
              <a:t> Состояние слоговой структуры слова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79600" y="2023920"/>
            <a:ext cx="92152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стилетний ребенок умеет безошибочно произносить слова типа: велосипедист, экскурсовод и т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0640" y="642960"/>
            <a:ext cx="84628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336666"/>
                </a:solidFill>
                <a:latin typeface="Arial"/>
              </a:rPr>
              <a:t>6</a:t>
            </a:r>
            <a:r>
              <a:rPr b="0" lang="en-US" sz="3700" spc="-1" strike="noStrike">
                <a:solidFill>
                  <a:srgbClr val="336666"/>
                </a:solidFill>
                <a:latin typeface="Arial"/>
              </a:rPr>
              <a:t>. Сформированность грамматического строя речи:</a:t>
            </a:r>
            <a:endParaRPr b="0" lang="en-US" sz="37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79600" y="2166840"/>
            <a:ext cx="92152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акценты должны быть расставлены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и будущего первоклассника отвечать на вопросы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пользоваться развернутой фразовой речью, умение работать с предложение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 строить простые предложения, видеть связь слов в предложениях, распространять предложения второстепенными и однородными члена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ть с деформированным предложением, самостоятельно находить ошибки и устранять и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ть предложения по опорным словам и картинка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пересказом рассказа, сохраняя смысл и содержа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ть самостоятельно рассказ-опис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68120" y="231840"/>
            <a:ext cx="9844200" cy="6816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0640" y="642960"/>
            <a:ext cx="84628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66"/>
                </a:solidFill>
                <a:latin typeface="Arial"/>
              </a:rPr>
              <a:t>Почему важно готовить ребенка к школе?</a:t>
            </a:r>
            <a:endParaRPr b="0" lang="en-US" sz="37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90640" y="2166840"/>
            <a:ext cx="84628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аличие у первоклассников даже слабых отклонений в фонематическом и лексико-грамматическом развитии ведет к серьезным проблемам в усвоении программ общеобразовательной школы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dmin</cp:lastModifiedBy>
  <dcterms:modified xsi:type="dcterms:W3CDTF">2012-03-17T06:52:05Z</dcterms:modified>
  <cp:revision>29</cp:revision>
  <dc:subject/>
  <dc:title>PowerPoint Presentation</dc:title>
</cp:coreProperties>
</file>