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13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2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30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2.gif" ContentType="image/gif"/>
  <Override PartName="/ppt/media/image1.jpeg" ContentType="image/jpeg"/>
  <Override PartName="/ppt/media/image10.png" ContentType="image/png"/>
  <Override PartName="/ppt/media/image27.jpeg" ContentType="image/jpe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DC3-16DD-42F7-B90D-84E6F711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9E4-8CF0-4678-BBBD-146B2BC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5E45E-429C-4C9F-A57E-C7657CD5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2B27D-5BE4-4F59-8271-DE66218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C0A0E-0657-481B-8C1C-C595916B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67D5B-9FA8-4B94-A09C-970F0B34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78CA4-82BD-4FE2-85B6-EB3E5A5D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4CD5A-8DC6-4EE8-8D1F-5837108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0DB46-52FC-4782-8AE6-AA0D874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B7CD8-BED6-4958-8ABF-EE331C91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4623-E8B8-4E9C-A399-578B4EA2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7A7-AB7F-434C-9E54-191E1868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BF9-A0F7-4686-A21E-21B04C20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CABB-5FD9-4242-835F-75666ED9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D45D-D995-473D-A7A7-798D220D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F0BD-944A-4BEC-B0F0-77C0184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85F-3687-4C4E-A208-D9E762A6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B2F5-5141-410F-A8E2-C5852CB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DE3F-32D2-47E6-BB54-2159D861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51B9-C72B-4CA9-8EB4-D7D397BA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2CB-E654-477D-9AA3-A8564459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F605-E133-474B-B624-0E7EBFF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C0EB-9E0F-470A-A230-AACE0BC3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FBAB-713D-4A6D-8032-4C6FAAA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58FE-B0D7-49FD-A31A-72471075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7FDB-A4BB-4B3C-9620-028BE78F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20A1-CD59-44F8-B82E-A09CFF1F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2075-AC6E-446C-98C3-C900DB38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26B8-B17D-481D-8B74-D811FD03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F6E4-A4E7-4CE2-B50F-5A95E717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21A7-B4F2-4CA8-9A6E-A5743E0A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BF2-86A7-47A5-B915-0B13A335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5B0A-CD70-4970-8CF4-330B6218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31C4-CDDB-4F6A-95F0-FB711C4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345D-9F55-4CB7-933B-6A8150D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B3C9-A4CD-494C-8A28-0FFBF19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ED53-BC94-4B0F-BD5C-E8A5015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900F-3D0D-4F6A-BFDC-8F38BEBA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481C-1F75-4407-ADA3-A81B894C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29DE-3D48-43B6-8B73-3B9DDD1F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F58F-3D56-4DDC-9862-F789EC37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8ED30-D1EE-4780-8B52-F3216DD1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9B8-D6AB-474B-8277-B1A7817A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E1B0-DCF5-47F6-B6D8-ABB4CDFB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68A61-15A6-4510-8F46-AE76EDBD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3118-79D5-406A-AA83-596071C9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7FA91-AEAD-4C52-8254-ED4219F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B5AF-AD20-4647-AA8D-77F7AB7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B89E-9E89-4470-A812-B934E35D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200C-36B4-4EA3-9C0F-FDAD84C5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7E32-5B53-408F-9EB9-1EBD04EE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8909-602F-4F4B-AB41-F8A0B811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18A2-78AA-47D6-871E-B7F56BE9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12E-92BB-4242-93B4-34EC071A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E9F4-CF39-4A50-A46C-1504352B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8EDF-87A4-4941-852F-67B723D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1C26-D028-4C6A-887B-364297A4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7E7E-FB43-4266-8A2B-AEFF0E7F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4830-33CF-4534-A948-3E99E525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99A02-50BF-45A9-A2D2-D6ADDA56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BA8C8-DBF7-471A-B073-72575463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E5A57-B3A0-4650-A1F1-386E42BE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0989E-2E76-4F3F-AF70-A4CB26E5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737D-1063-4EA6-A399-4FE307A9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51B-81B4-4CF1-8E28-E13DD5D3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7F48-031A-4986-9D9D-A9AE3B05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B4018-4033-4951-A89D-32FCA41C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3F78C-8475-426D-BBE5-48CE79BC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2835-2CBC-4EAA-9728-E8565EB2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49AD0-A758-4BFA-A50F-71C7E875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849E4-D378-4939-8049-CCF25D41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11FD2-BBA4-493B-A841-B7076F5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F29BC-3633-4174-B14D-436C60EB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49494-F038-413B-9D6F-4721FE24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2E247-8FBA-49AF-A917-D45D101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A14-DD0D-410E-9F07-C2DEDF95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0CB3E-3F4B-4813-A9D8-013063FD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7426E-DE31-4A38-91A2-1F40FF8A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88682-A8C6-469C-AB44-DED44E34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B492B-D1BA-44A1-9C87-58BAEE60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B66E1-58A3-4877-B6BA-2C822C74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A1BB-7775-4437-A84C-16DD80DC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2F236-74CD-4729-84F8-6034729F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786F-EEBD-4CC1-A5E9-B40800A0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C9F15-CA62-4101-8913-9FAE8EE8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5E9E-A5F9-4530-8182-CFB9198A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890-63AA-4DA8-921E-24F52A64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33A90-3503-40E6-91FB-37D0FA0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D4657-5204-440D-B213-E222D57B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740AF-30EF-4C59-A1D8-A6B58ACC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C4510-A83A-477E-B02E-206A3548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EC47-06D9-4C3B-AAB2-1185CF77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62E0B-4F5E-4A4D-9327-705A358E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13962-29C5-4672-B614-C5992469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78AF-5853-4FD2-9245-934CE295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0C1C4-A0EC-4ECF-BFF1-12E1B3B4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A44E0-BFB9-4D65-A278-73215C2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DD8-6769-4A78-A87F-B0E6770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9B760-6958-45F8-8D89-B843D687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FF8C8-5B79-4DC8-B7CE-E970523B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91BDD-E7AD-4236-B538-DA7E560E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93AE5-10F6-42C2-8E26-59B1630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65A8D-A995-4406-8C65-0629CCC1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5DA52-33EA-4CD0-A9F6-FBD7F38D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5C23-36AB-4214-8890-F5954DB8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7EC31-72DE-41B2-9355-08F91C90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42B6-A2CA-492B-BBEC-461A0277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02D45-D8F9-4A00-B5D5-9D4C9724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08D8-883D-424B-9C97-EAB3E87C8573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2A84-1BCB-4DEA-9F13-74B86E2D6333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2ED0-C3F9-4059-9B10-6E2B3A4CF3B8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984D-3925-4E5F-9D3B-430E34CBFCB1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CB51-5F7C-4B5D-B929-1FCC77DBF3F1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E98-F1C4-4188-ABF2-933A60E59180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3D2A-0EBD-4426-9338-936E0CF194ED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7C64-73C5-4D21-AF6B-51E1B1CDCDEC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96D-EF54-4A0A-9F1B-386B8D250B32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24000" y="517680"/>
            <a:ext cx="8843760" cy="2517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571560" y="4142880"/>
            <a:ext cx="505764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Calibri"/>
              </a:rPr>
              <a:t>Донова Е. А.</a:t>
            </a: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Calibri"/>
              </a:rPr>
              <a:t>учитель математики</a:t>
            </a: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Calibri"/>
              </a:rPr>
              <a:t>МОУ Комсомольской СОШ</a:t>
            </a: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Calibri"/>
              </a:rPr>
              <a:t>С. Тюльпаны</a:t>
            </a: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01" name="Picture 2" descr="C:\Users\user22\Documents\Донова Е. А\Для диплома\24555.gif"/>
          <p:cNvPicPr/>
          <p:nvPr/>
        </p:nvPicPr>
        <p:blipFill>
          <a:blip r:embed="rId2"/>
          <a:stretch/>
        </p:blipFill>
        <p:spPr>
          <a:xfrm>
            <a:off x="500040" y="250020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C:\Users\user22\Documents\Донова Е. А\Для диплома\is.jpg"/>
          <p:cNvPicPr/>
          <p:nvPr/>
        </p:nvPicPr>
        <p:blipFill>
          <a:blip r:embed="rId1"/>
          <a:stretch/>
        </p:blipFill>
        <p:spPr>
          <a:xfrm>
            <a:off x="5143680" y="171468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435" name="Вертикальный свиток 5"/>
          <p:cNvSpPr/>
          <p:nvPr/>
        </p:nvSpPr>
        <p:spPr>
          <a:xfrm>
            <a:off x="571680" y="1571760"/>
            <a:ext cx="4643280" cy="4071960"/>
          </a:xfrm>
          <a:prstGeom prst="verticalScroll">
            <a:avLst>
              <a:gd name="adj" fmla="val 12500"/>
            </a:avLst>
          </a:pr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Заголовок 1" descr=""/>
          <p:cNvPicPr/>
          <p:nvPr/>
        </p:nvPicPr>
        <p:blipFill>
          <a:blip r:embed="rId2"/>
          <a:stretch/>
        </p:blipFill>
        <p:spPr>
          <a:xfrm>
            <a:off x="1511280" y="42084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71388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alibri"/>
              </a:rPr>
              <a:t>Треугольник, у которого все стороны равны, называется </a:t>
            </a:r>
            <a:r>
              <a:rPr b="0" i="1" lang="ru-RU" sz="2800" spc="-1" strike="noStrike">
                <a:solidFill>
                  <a:srgbClr val="603b14"/>
                </a:solidFill>
                <a:latin typeface="Calibri"/>
              </a:rPr>
              <a:t>равносторонним </a:t>
            </a:r>
            <a:r>
              <a:rPr b="0" lang="ru-RU" sz="2800" spc="-1" strike="noStrike">
                <a:solidFill>
                  <a:srgbClr val="603b14"/>
                </a:solidFill>
                <a:latin typeface="Calibri"/>
              </a:rPr>
              <a:t>или </a:t>
            </a:r>
            <a:r>
              <a:rPr b="0" i="1" lang="ru-RU" sz="2800" spc="-1" strike="noStrike">
                <a:solidFill>
                  <a:srgbClr val="603b14"/>
                </a:solidFill>
                <a:latin typeface="Calibri"/>
              </a:rPr>
              <a:t>правильным.</a:t>
            </a:r>
            <a:endParaRPr b="0" lang="en-US" sz="2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-6480" y="281160"/>
            <a:ext cx="8699760" cy="1150920"/>
          </a:xfrm>
          <a:prstGeom prst="rect">
            <a:avLst/>
          </a:prstGeom>
          <a:ln w="0">
            <a:noFill/>
          </a:ln>
        </p:spPr>
      </p:pic>
      <p:sp>
        <p:nvSpPr>
          <p:cNvPr id="439" name="Горизонтальный свиток 5"/>
          <p:cNvSpPr/>
          <p:nvPr/>
        </p:nvSpPr>
        <p:spPr>
          <a:xfrm>
            <a:off x="142920" y="428760"/>
            <a:ext cx="8001000" cy="4357440"/>
          </a:xfrm>
          <a:prstGeom prst="horizontalScroll">
            <a:avLst>
              <a:gd name="adj" fmla="val 12500"/>
            </a:avLst>
          </a:prstGeom>
          <a:solidFill>
            <a:srgbClr val="dbc1a7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363600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Сколько углов у тре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Сколько острых углов у треугольника все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Может ли равнобедренный треугольник быть тупоуголь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C:\Users\user22\Documents\Донова Е. А\School-картинки\professor.gif"/>
          <p:cNvPicPr/>
          <p:nvPr/>
        </p:nvPicPr>
        <p:blipFill>
          <a:blip r:embed="rId2"/>
          <a:stretch/>
        </p:blipFill>
        <p:spPr>
          <a:xfrm>
            <a:off x="5897520" y="2643120"/>
            <a:ext cx="3246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C:\Users\user22\Documents\Донова Е. А\Для диплома\CA9TJSW0CAJX40CMCA9V1GOQCAIQ6X4UCA3RR5ESCAJ5XA7KCAS5OY36CAQOFP9ECAXARHFYCA9HU416CAMSC3XVCA1YQJ4ACAPHTHBYCA42GD48CA2JZHYWCABN276SCAKRWCSFCASOZONECAJN4T1O.jpg"/>
          <p:cNvPicPr/>
          <p:nvPr/>
        </p:nvPicPr>
        <p:blipFill>
          <a:blip r:embed="rId2"/>
          <a:stretch/>
        </p:blipFill>
        <p:spPr>
          <a:xfrm rot="1047600">
            <a:off x="1211040" y="2782800"/>
            <a:ext cx="2230200" cy="2230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Users\user22\Documents\Донова Е. А\Для диплома\thumb-Bermuda_Triangle.jpg"/>
          <p:cNvPicPr/>
          <p:nvPr/>
        </p:nvPicPr>
        <p:blipFill>
          <a:blip r:embed="rId3"/>
          <a:stretch/>
        </p:blipFill>
        <p:spPr>
          <a:xfrm>
            <a:off x="5286240" y="2286000"/>
            <a:ext cx="3316320" cy="34196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12855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alibri"/>
              </a:rPr>
              <a:t>в портфеле</a:t>
            </a: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851360" y="135684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alibri"/>
              </a:rPr>
              <a:t>на географической карте</a:t>
            </a: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Cambria"/>
            </a:endParaRPr>
          </a:p>
        </p:txBody>
      </p:sp>
      <p:pic>
        <p:nvPicPr>
          <p:cNvPr id="447" name="Picture 3" descr="C:\Users\user22\Documents\Донова Е. А\Для диплома\CAGGV2RTCAK7CE2GCAO5GPLFCAWWNZUHCAYYXOEZCAOE801HCA6PR317CAQN5FRACA7485NLCAT932SLCA8JPYK7CA1G6M9OCAP56JQ3CAK7BDVGCAYRXQV7CAUF5TKTCA6HAZPTCA2WM862CA2000KP.jpg"/>
          <p:cNvPicPr/>
          <p:nvPr/>
        </p:nvPicPr>
        <p:blipFill>
          <a:blip r:embed="rId1"/>
          <a:stretch/>
        </p:blipFill>
        <p:spPr>
          <a:xfrm>
            <a:off x="642960" y="2286000"/>
            <a:ext cx="3489480" cy="2616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-360" y="571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на дорогах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57480" y="571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в архитектуре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50" name="Picture 4" descr="C:\Users\user22\Documents\Донова Е. А\Для диплома\CAQRRD8RCA2MWPTACAX1EXX5CA2X54RMCAQST3OZCAJAJ4QCCAZY611YCA9V95EZCA5GGM8DCAI6DIEFCAAOFVZ9CA8KFFOKCAVP1JMFCAJYLJK1CAOHYO8OCA2INSR1CAX3MUP3CAI47ONYCADDUCXA.jpg"/>
          <p:cNvPicPr/>
          <p:nvPr/>
        </p:nvPicPr>
        <p:blipFill>
          <a:blip r:embed="rId2"/>
          <a:stretch/>
        </p:blipFill>
        <p:spPr>
          <a:xfrm>
            <a:off x="5000760" y="2286000"/>
            <a:ext cx="3546360" cy="2405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Users\user22\Documents\Донова Е. А\Для диплома\6722.gif"/>
          <p:cNvPicPr/>
          <p:nvPr/>
        </p:nvPicPr>
        <p:blipFill>
          <a:blip r:embed="rId2"/>
          <a:stretch/>
        </p:blipFill>
        <p:spPr>
          <a:xfrm>
            <a:off x="2500200" y="157176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133200" y="281160"/>
            <a:ext cx="8242560" cy="1303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alibri"/>
              </a:rPr>
              <a:t>Вспомните, где ещё можно встретить треугольники?</a:t>
            </a:r>
            <a:endParaRPr b="0" lang="en-US" sz="2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alibri"/>
              </a:rPr>
              <a:t>Начертите треугольник в тетради и определите его вид.</a:t>
            </a:r>
            <a:endParaRPr b="0" lang="en-US" sz="2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55" name="Picture 3" descr="C:\Users\user22\Documents\Донова Е. А\School-картинки\fedot_b.jpg"/>
          <p:cNvPicPr/>
          <p:nvPr/>
        </p:nvPicPr>
        <p:blipFill>
          <a:blip r:embed="rId2"/>
          <a:stretch/>
        </p:blipFill>
        <p:spPr>
          <a:xfrm>
            <a:off x="5715000" y="1857240"/>
            <a:ext cx="2505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Горизонтальный свиток 4"/>
          <p:cNvSpPr/>
          <p:nvPr/>
        </p:nvSpPr>
        <p:spPr>
          <a:xfrm>
            <a:off x="500040" y="1428840"/>
            <a:ext cx="8215200" cy="2786040"/>
          </a:xfrm>
          <a:prstGeom prst="horizontalScroll">
            <a:avLst>
              <a:gd name="adj" fmla="val 12500"/>
            </a:avLst>
          </a:prstGeom>
          <a:solidFill>
            <a:srgbClr val="d9d5c7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03b14"/>
                </a:solidFill>
                <a:latin typeface="Calibri"/>
              </a:rPr>
              <a:t>Треугольником</a:t>
            </a:r>
            <a:r>
              <a:rPr b="1" lang="ru-RU" sz="2800" spc="-1" strike="noStrike">
                <a:solidFill>
                  <a:srgbClr val="603b14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Calibri"/>
              </a:rPr>
              <a:t>называется фигура, которая состоит из трёх точек, не лежащих на одной прямой, и трёх отрезков, попарно соединяющих эти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04" name="Равнобедренный треугольник 3"/>
          <p:cNvSpPr/>
          <p:nvPr/>
        </p:nvSpPr>
        <p:spPr>
          <a:xfrm rot="20007000">
            <a:off x="2651040" y="4203720"/>
            <a:ext cx="3500640" cy="1500120"/>
          </a:xfrm>
          <a:prstGeom prst="triangle">
            <a:avLst>
              <a:gd name="adj" fmla="val 49407"/>
            </a:avLst>
          </a:prstGeom>
          <a:solidFill>
            <a:srgbClr val="e1d1cc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864640" cy="1992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cxnSp>
        <p:nvCxnSpPr>
          <p:cNvPr id="407" name="Прямая со стрелкой 6"/>
          <p:cNvCxnSpPr>
            <a:stCxn id="406" idx="1"/>
            <a:endCxn id="406" idx="2"/>
          </p:cNvCxnSpPr>
          <p:nvPr/>
        </p:nvCxnSpPr>
        <p:spPr>
          <a:xfrm>
            <a:off x="457200" y="3862440"/>
            <a:ext cx="4115520" cy="2264400"/>
          </a:xfrm>
          <a:prstGeom prst="straightConnector1">
            <a:avLst/>
          </a:prstGeom>
          <a:ln w="57240">
            <a:solidFill>
              <a:srgbClr val="a5644e"/>
            </a:solidFill>
            <a:miter/>
            <a:headEnd len="med" type="oval" w="med"/>
            <a:tailEnd len="med" type="oval" w="med"/>
          </a:ln>
        </p:spPr>
      </p:cxnSp>
      <p:cxnSp>
        <p:nvCxnSpPr>
          <p:cNvPr id="408" name="Прямая со стрелкой 8"/>
          <p:cNvCxnSpPr>
            <a:stCxn id="406" idx="1"/>
          </p:cNvCxnSpPr>
          <p:nvPr/>
        </p:nvCxnSpPr>
        <p:spPr>
          <a:xfrm flipV="1">
            <a:off x="456120" y="1642320"/>
            <a:ext cx="8187480" cy="2221560"/>
          </a:xfrm>
          <a:prstGeom prst="straightConnector1">
            <a:avLst/>
          </a:prstGeom>
          <a:ln w="57240">
            <a:solidFill>
              <a:srgbClr val="a5644e"/>
            </a:solidFill>
            <a:miter/>
            <a:headEnd len="med" type="oval" w="med"/>
            <a:tailEnd len="med" type="oval" w="med"/>
          </a:ln>
        </p:spPr>
      </p:cxnSp>
      <p:cxnSp>
        <p:nvCxnSpPr>
          <p:cNvPr id="409" name="Прямая со стрелкой 10"/>
          <p:cNvCxnSpPr>
            <a:endCxn id="406" idx="2"/>
          </p:cNvCxnSpPr>
          <p:nvPr/>
        </p:nvCxnSpPr>
        <p:spPr>
          <a:xfrm flipH="1">
            <a:off x="4571280" y="1642680"/>
            <a:ext cx="4072680" cy="4483800"/>
          </a:xfrm>
          <a:prstGeom prst="straightConnector1">
            <a:avLst/>
          </a:prstGeom>
          <a:ln w="57240">
            <a:solidFill>
              <a:srgbClr val="a5644e"/>
            </a:solidFill>
            <a:miter/>
            <a:headEnd len="med" type="oval" w="med"/>
            <a:tailEnd len="med" type="oval" w="med"/>
          </a:ln>
        </p:spPr>
      </p:cxnSp>
      <p:pic>
        <p:nvPicPr>
          <p:cNvPr id="410" name="Прямоугольник 11" descr=""/>
          <p:cNvPicPr/>
          <p:nvPr/>
        </p:nvPicPr>
        <p:blipFill>
          <a:blip r:embed="rId2"/>
          <a:stretch/>
        </p:blipFill>
        <p:spPr>
          <a:xfrm>
            <a:off x="176040" y="2895480"/>
            <a:ext cx="1408320" cy="110340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оугольник 12" descr=""/>
          <p:cNvPicPr/>
          <p:nvPr/>
        </p:nvPicPr>
        <p:blipFill>
          <a:blip r:embed="rId3"/>
          <a:stretch/>
        </p:blipFill>
        <p:spPr>
          <a:xfrm>
            <a:off x="7742160" y="755640"/>
            <a:ext cx="1225800" cy="110340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оугольник 13" descr=""/>
          <p:cNvPicPr/>
          <p:nvPr/>
        </p:nvPicPr>
        <p:blipFill>
          <a:blip r:embed="rId4"/>
          <a:stretch/>
        </p:blipFill>
        <p:spPr>
          <a:xfrm>
            <a:off x="3882960" y="5041800"/>
            <a:ext cx="1206720" cy="1103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62080" y="1420920"/>
            <a:ext cx="904068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Cambria"/>
            </a:endParaRPr>
          </a:p>
        </p:txBody>
      </p:sp>
      <p:pic>
        <p:nvPicPr>
          <p:cNvPr id="415" name="Picture 2" descr="C:\Users\user22\Documents\Донова Е. А\Для диплома\CAJLPBFTCADNSMKACANZ931CCAO1UTQNCA4G8F0VCA0S2BVOCAVC1P8BCAMTYKJACACY35KECAAD48QCCACK0XQOCADVPWY3CAKLJMXUCA8ZHBLXCA25INMACAGCYCYPCAST79QGCAVFY0XDCA12XYF4.jpg"/>
          <p:cNvPicPr/>
          <p:nvPr/>
        </p:nvPicPr>
        <p:blipFill>
          <a:blip r:embed="rId1"/>
          <a:stretch/>
        </p:blipFill>
        <p:spPr>
          <a:xfrm>
            <a:off x="1000080" y="2214720"/>
            <a:ext cx="4038480" cy="385416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5" descr=""/>
          <p:cNvPicPr/>
          <p:nvPr/>
        </p:nvPicPr>
        <p:blipFill>
          <a:blip r:embed="rId2"/>
          <a:stretch/>
        </p:blipFill>
        <p:spPr>
          <a:xfrm>
            <a:off x="1238400" y="171360"/>
            <a:ext cx="6819840" cy="1809720"/>
          </a:xfrm>
          <a:prstGeom prst="rect">
            <a:avLst/>
          </a:prstGeom>
          <a:ln w="0">
            <a:noFill/>
          </a:ln>
        </p:spPr>
      </p:pic>
      <p:sp>
        <p:nvSpPr>
          <p:cNvPr id="417" name="Дуга 6"/>
          <p:cNvSpPr/>
          <p:nvPr/>
        </p:nvSpPr>
        <p:spPr>
          <a:xfrm>
            <a:off x="857160" y="535788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ffa6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Дуга 16"/>
          <p:cNvSpPr/>
          <p:nvPr/>
        </p:nvSpPr>
        <p:spPr>
          <a:xfrm rot="7683600">
            <a:off x="1969920" y="23274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ffa6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Дуга 17"/>
          <p:cNvSpPr/>
          <p:nvPr/>
        </p:nvSpPr>
        <p:spPr>
          <a:xfrm rot="15439800">
            <a:off x="4088880" y="530388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ffa6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8"/>
          <p:cNvSpPr/>
          <p:nvPr/>
        </p:nvSpPr>
        <p:spPr>
          <a:xfrm>
            <a:off x="4429080" y="2071800"/>
            <a:ext cx="442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Треугольник называется </a:t>
            </a:r>
            <a:r>
              <a:rPr b="0" i="1" lang="ru-RU" sz="3200" spc="-1" strike="noStrike">
                <a:solidFill>
                  <a:srgbClr val="603b14"/>
                </a:solidFill>
                <a:latin typeface="Calibri"/>
              </a:rPr>
              <a:t>остроугольным, </a:t>
            </a:r>
            <a:br>
              <a:rPr sz="3200"/>
            </a:b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если все три его угла — острые, то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меньше 9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Cambria"/>
            </a:endParaRPr>
          </a:p>
        </p:txBody>
      </p:sp>
      <p:pic>
        <p:nvPicPr>
          <p:cNvPr id="422" name="Picture 2" descr="C:\Users\user22\Documents\Донова Е. А\Для диплома\CAC9QTQNCABYHUG2CA2Z5C4VCALYBM0MCAPTXT3HCAU8FYG1CAE3WDLJCAZ04MDTCAF00RK6CAZLV7KZCA32Q254CAFBC28MCASRGEYBCAR3UZCICA5SJTSZCAOYKYW2CAABUD4DCAK17KS1CAQ421EI.jpg"/>
          <p:cNvPicPr/>
          <p:nvPr/>
        </p:nvPicPr>
        <p:blipFill>
          <a:blip r:embed="rId1"/>
          <a:stretch/>
        </p:blipFill>
        <p:spPr>
          <a:xfrm>
            <a:off x="571680" y="1785960"/>
            <a:ext cx="4721040" cy="450684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3" descr=""/>
          <p:cNvPicPr/>
          <p:nvPr/>
        </p:nvPicPr>
        <p:blipFill>
          <a:blip r:embed="rId2"/>
          <a:stretch/>
        </p:blipFill>
        <p:spPr>
          <a:xfrm>
            <a:off x="1238400" y="171360"/>
            <a:ext cx="6441840" cy="180972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5"/>
          <p:cNvSpPr/>
          <p:nvPr/>
        </p:nvSpPr>
        <p:spPr>
          <a:xfrm>
            <a:off x="3643200" y="2214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Треугольник называется </a:t>
            </a:r>
            <a:r>
              <a:rPr b="0" i="1" lang="ru-RU" sz="3200" spc="-1" strike="noStrike">
                <a:solidFill>
                  <a:srgbClr val="603b14"/>
                </a:solidFill>
                <a:latin typeface="Calibri"/>
              </a:rPr>
              <a:t>тупоугольным, </a:t>
            </a: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если один из его углов — тупой, то есть </a:t>
            </a:r>
            <a:br>
              <a:rPr sz="3200"/>
            </a:b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больше 9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Дуга 6"/>
          <p:cNvSpPr/>
          <p:nvPr/>
        </p:nvSpPr>
        <p:spPr>
          <a:xfrm rot="21420000">
            <a:off x="1452240" y="559548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ffa6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user22\Documents\Донова Е. А\Для диплома\images.jpg"/>
          <p:cNvPicPr/>
          <p:nvPr/>
        </p:nvPicPr>
        <p:blipFill>
          <a:blip r:embed="rId2"/>
          <a:stretch/>
        </p:blipFill>
        <p:spPr>
          <a:xfrm rot="1770600">
            <a:off x="928800" y="2428920"/>
            <a:ext cx="4078080" cy="24350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928680" y="1500120"/>
            <a:ext cx="47149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Треугольник называется </a:t>
            </a:r>
            <a:r>
              <a:rPr b="0" i="1" lang="ru-RU" sz="3200" spc="-1" strike="noStrike">
                <a:solidFill>
                  <a:srgbClr val="603b14"/>
                </a:solidFill>
                <a:latin typeface="Calibri"/>
              </a:rPr>
              <a:t>прямоугольным</a:t>
            </a: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если у него есть </a:t>
            </a:r>
            <a:br>
              <a:rPr sz="3200"/>
            </a:b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прямой угол, то есть </a:t>
            </a:r>
            <a:br>
              <a:rPr sz="3200"/>
            </a:br>
            <a:r>
              <a:rPr b="0" lang="ru-RU" sz="3200" spc="-1" strike="noStrike">
                <a:solidFill>
                  <a:srgbClr val="603b14"/>
                </a:solidFill>
                <a:latin typeface="Calibri"/>
              </a:rPr>
              <a:t>равный  90°.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29" name="Прямоугольник 6" descr=""/>
          <p:cNvPicPr/>
          <p:nvPr/>
        </p:nvPicPr>
        <p:blipFill>
          <a:blip r:embed="rId3"/>
          <a:stretch/>
        </p:blipFill>
        <p:spPr>
          <a:xfrm>
            <a:off x="738360" y="171360"/>
            <a:ext cx="70768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493560" y="933480"/>
            <a:ext cx="838224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53880" y="341280"/>
            <a:ext cx="8697960" cy="1390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C:\Users\user22\Documents\Донова Е. А\Для диплома\CAW9IH0ICAC2ILWTCA0RSENLCAYGV2WRCABITSAQCAHF1V5VCAF69IIZCAXGE635CADT7SAZCAG780TCCANPS2EJCAHUVYE0CA13ASZ2CAWDBH2KCA1WYROBCAHDACFTCA726V2CCA72QJ4ECAJ822YJ.jpg"/>
          <p:cNvPicPr/>
          <p:nvPr/>
        </p:nvPicPr>
        <p:blipFill>
          <a:blip r:embed="rId2"/>
          <a:stretch/>
        </p:blipFill>
        <p:spPr>
          <a:xfrm>
            <a:off x="5572080" y="2143080"/>
            <a:ext cx="2852640" cy="3071880"/>
          </a:xfrm>
          <a:prstGeom prst="rect">
            <a:avLst/>
          </a:prstGeom>
          <a:ln w="0">
            <a:noFill/>
          </a:ln>
        </p:spPr>
      </p:pic>
      <p:sp>
        <p:nvSpPr>
          <p:cNvPr id="433" name="Вертикальный свиток 5"/>
          <p:cNvSpPr/>
          <p:nvPr/>
        </p:nvSpPr>
        <p:spPr>
          <a:xfrm>
            <a:off x="714240" y="1857240"/>
            <a:ext cx="4643640" cy="4000680"/>
          </a:xfrm>
          <a:prstGeom prst="verticalScroll">
            <a:avLst>
              <a:gd name="adj" fmla="val 12500"/>
            </a:avLst>
          </a:pr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Calibri"/>
                <a:ea typeface="Arial"/>
              </a:rPr>
              <a:t>Треугольник называется </a:t>
            </a:r>
            <a:r>
              <a:rPr b="0" i="1" lang="ru-RU" sz="3200" spc="-1" strike="noStrike">
                <a:solidFill>
                  <a:srgbClr val="603b14"/>
                </a:solidFill>
                <a:latin typeface="Calibri"/>
                <a:ea typeface="Arial"/>
              </a:rPr>
              <a:t>равнобедренным, </a:t>
            </a:r>
            <a:r>
              <a:rPr b="0" lang="ru-RU" sz="3200" spc="-1" strike="noStrike">
                <a:solidFill>
                  <a:srgbClr val="603b14"/>
                </a:solidFill>
                <a:latin typeface="Calibri"/>
                <a:ea typeface="Arial"/>
              </a:rPr>
              <a:t>если у него две сторон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3:57:19Z</dcterms:created>
  <dc:creator>user22</dc:creator>
  <dc:description/>
  <dc:language>en-US</dc:language>
  <cp:lastModifiedBy>Мария</cp:lastModifiedBy>
  <dcterms:modified xsi:type="dcterms:W3CDTF">2011-01-25T13:46:23Z</dcterms:modified>
  <cp:revision>80</cp:revision>
  <dc:subject/>
  <dc:title>ТРЕУГОЛЬНИКИ</dc:title>
</cp:coreProperties>
</file>