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gif" ContentType="image/gif"/>
  <Override PartName="/ppt/media/image23.gif" ContentType="image/gif"/>
  <Override PartName="/ppt/media/image22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jpeg" ContentType="image/jpeg"/>
  <Override PartName="/ppt/media/image29.gif" ContentType="image/gif"/>
  <Override PartName="/ppt/media/image21.gif" ContentType="image/gif"/>
  <Override PartName="/ppt/media/image19.gif" ContentType="image/gif"/>
  <Override PartName="/ppt/media/image14.jpeg" ContentType="image/jpeg"/>
  <Override PartName="/ppt/media/image1.png" ContentType="image/png"/>
  <Override PartName="/ppt/media/image12.gif" ContentType="image/gif"/>
  <Override PartName="/ppt/media/image13.gif" ContentType="image/gif"/>
  <Override PartName="/ppt/media/image8.gif" ContentType="image/gif"/>
  <Override PartName="/ppt/media/image38.gif" ContentType="image/gif"/>
  <Override PartName="/ppt/media/image40.gif" ContentType="image/gif"/>
  <Override PartName="/ppt/media/image9.gif" ContentType="image/gif"/>
  <Override PartName="/ppt/media/image39.gif" ContentType="image/gif"/>
  <Override PartName="/ppt/media/image41.gif" ContentType="image/gif"/>
  <Override PartName="/ppt/media/image31.gif" ContentType="image/gif"/>
  <Override PartName="/ppt/media/image32.png" ContentType="image/png"/>
  <Override PartName="/ppt/media/image34.gif" ContentType="image/gif"/>
  <Override PartName="/ppt/media/image4.gif" ContentType="image/gif"/>
  <Override PartName="/ppt/media/image27.gif" ContentType="image/gif"/>
  <Override PartName="/ppt/media/image30.gif" ContentType="image/gif"/>
  <Override PartName="/ppt/media/image28.gif" ContentType="image/gif"/>
  <Override PartName="/ppt/media/image42.gif" ContentType="image/gif"/>
  <Override PartName="/ppt/media/image37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36.gif" ContentType="image/gif"/>
  <Override PartName="/ppt/media/image10.gif" ContentType="image/gif"/>
  <Override PartName="/ppt/media/image5.gif" ContentType="image/gif"/>
  <Override PartName="/ppt/media/image35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2.gif" ContentType="image/gif"/>
  <Override PartName="/ppt/media/image2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3179-88FB-4662-AEF0-38094481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3F84-A841-441E-993C-7FB6637E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3DB-5090-4276-93F4-1147B975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051C-EBF5-4908-B19E-3185CBB0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6F9-B688-4F45-8DD4-47829150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D74D-4512-4521-907B-7B87A3D7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F59C-8E97-4607-897B-8EDB8CC1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A6D-42F5-4D59-8688-76BA7DBD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EA69-B7AA-4065-A16C-3056A3D8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C1A-4130-40FD-AD54-B54ADBF4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A343-87A6-40BA-8C9D-B53CD2A6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926-BC72-4EFE-A52B-764C0928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799D-00F8-4937-8A68-5E5646235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7.gif"/><Relationship Id="rId8" Type="http://schemas.openxmlformats.org/officeDocument/2006/relationships/image" Target="../media/image38.gif"/><Relationship Id="rId9" Type="http://schemas.openxmlformats.org/officeDocument/2006/relationships/image" Target="../media/image39.gif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Arial"/>
              </a:rPr>
              <a:t>Системы сч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27640" y="404640"/>
            <a:ext cx="4248000" cy="648000"/>
          </a:xfrm>
          <a:prstGeom prst="foldedCorner">
            <a:avLst>
              <a:gd name="adj" fmla="val 21337"/>
            </a:avLst>
          </a:prstGeom>
          <a:solidFill>
            <a:srgbClr val="f6d2b4">
              <a:alpha val="42000"/>
            </a:srgbClr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«Всё есть числ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428760" cy="619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258920" y="4941720"/>
            <a:ext cx="476280" cy="619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26920" y="3429000"/>
            <a:ext cx="667080" cy="619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788000" y="5805360"/>
            <a:ext cx="495360" cy="619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 rot="440400">
            <a:off x="6732720" y="5516640"/>
            <a:ext cx="447480" cy="619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 rot="2191200">
            <a:off x="7524360" y="4005000"/>
            <a:ext cx="544680" cy="936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7524720" y="1484280"/>
            <a:ext cx="744480" cy="100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826920" y="1916280"/>
            <a:ext cx="428760" cy="57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2843280" y="260280"/>
            <a:ext cx="428400" cy="571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4427640" y="1484280"/>
            <a:ext cx="428400" cy="571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2627280" y="5445000"/>
            <a:ext cx="428760" cy="571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6659640" y="1700280"/>
            <a:ext cx="428400" cy="571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59280" y="3789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Урок №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Comic Sans MS"/>
              </a:rPr>
              <a:t>В саду 100 фруктовых деревьев – 14 яблонь, 42 груши. В какой системе счисления подсчитаны деревья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1197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Перевести с помощью программы Калькулятор номер наступающего года в двоичную,      восьмеричную, шестнадцатеричную системы счисления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404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Comic Sans MS"/>
              </a:rPr>
              <a:t>Практи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9640" y="4508640"/>
            <a:ext cx="1702080" cy="1944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516720" y="4653000"/>
            <a:ext cx="1814400" cy="201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500720" y="4653000"/>
            <a:ext cx="1618920" cy="180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556000" y="4653000"/>
            <a:ext cx="1619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63356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«Всё есть число», - говорили мудрецы, подчеркивая необычайно важную роль чисел в жизни людей.</a:t>
            </a:r>
            <a:br>
              <a:rPr sz="2800"/>
            </a:b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У каждого народа была своя собственная или позаимствованная у соседа система записи чисел. Одни использовали буковки, другие - значки, третьи - закорючки. У кого-то получалось удобнее, у кого-то не оч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3284280"/>
            <a:ext cx="822960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798560" cy="280836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6084720" y="2565360"/>
            <a:ext cx="370080" cy="355680"/>
            <a:chOff x="6084720" y="2565360"/>
            <a:chExt cx="370080" cy="355680"/>
          </a:xfrm>
        </p:grpSpPr>
        <p:sp>
          <p:nvSpPr>
            <p:cNvPr id="60" name=""/>
            <p:cNvSpPr/>
            <p:nvPr/>
          </p:nvSpPr>
          <p:spPr>
            <a:xfrm>
              <a:off x="6084720" y="2565360"/>
              <a:ext cx="0" cy="237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07840" y="2565360"/>
              <a:ext cx="0" cy="237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31320" y="2565360"/>
              <a:ext cx="0" cy="296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54800" y="2565360"/>
              <a:ext cx="0" cy="355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443640" y="3357720"/>
            <a:ext cx="1109520" cy="560160"/>
            <a:chOff x="6443640" y="3357720"/>
            <a:chExt cx="1109520" cy="560160"/>
          </a:xfrm>
        </p:grpSpPr>
        <p:sp>
          <p:nvSpPr>
            <p:cNvPr id="65" name=""/>
            <p:cNvSpPr/>
            <p:nvPr/>
          </p:nvSpPr>
          <p:spPr>
            <a:xfrm>
              <a:off x="6751800" y="3758040"/>
              <a:ext cx="184680" cy="15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a5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6443640" y="3357720"/>
              <a:ext cx="1109520" cy="400320"/>
              <a:chOff x="6443640" y="3357720"/>
              <a:chExt cx="1109520" cy="400320"/>
            </a:xfrm>
          </p:grpSpPr>
          <p:sp>
            <p:nvSpPr>
              <p:cNvPr id="67" name=""/>
              <p:cNvSpPr/>
              <p:nvPr/>
            </p:nvSpPr>
            <p:spPr>
              <a:xfrm>
                <a:off x="6628320" y="3437640"/>
                <a:ext cx="246600" cy="16020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5a5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566760" y="3597840"/>
                <a:ext cx="246600" cy="16020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5a5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443640" y="3357720"/>
                <a:ext cx="246600" cy="16020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5a5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751800" y="3517920"/>
                <a:ext cx="246600" cy="16020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5a5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874920" y="3357720"/>
                <a:ext cx="246600" cy="16020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5a5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121880" y="3597840"/>
                <a:ext cx="246600" cy="16020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5a5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306560" y="3357720"/>
                <a:ext cx="246600" cy="16020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5a5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7093080" y="4292640"/>
            <a:ext cx="1419120" cy="2085840"/>
            <a:chOff x="7093080" y="4292640"/>
            <a:chExt cx="1419120" cy="2085840"/>
          </a:xfrm>
        </p:grpSpPr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7093080" y="5011920"/>
              <a:ext cx="1197000" cy="13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7093080" y="4292640"/>
              <a:ext cx="1419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33"/>
                  </a:solidFill>
                  <a:latin typeface="Arial"/>
                  <a:ea typeface="Arial"/>
                </a:rPr>
                <a:t>Так выглядели цифры в Месопотам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9640" y="1700280"/>
            <a:ext cx="8064720" cy="3313080"/>
          </a:xfrm>
          <a:prstGeom prst="foldedCorner">
            <a:avLst>
              <a:gd name="adj" fmla="val 21143"/>
            </a:avLst>
          </a:prstGeom>
          <a:solidFill>
            <a:srgbClr val="f6d2b4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Знаки</a:t>
            </a: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, используемые при записи чисе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называются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циф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Способ записи чисел с помощью зада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набора специальных знаков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Система счис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700360" y="692280"/>
            <a:ext cx="990720" cy="79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427640" y="260280"/>
            <a:ext cx="1009440" cy="819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866880" cy="838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826920" y="566100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2340000" y="5300640"/>
            <a:ext cx="914400" cy="847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4500720" y="5589720"/>
            <a:ext cx="952200" cy="771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7020000" y="5589720"/>
            <a:ext cx="914400" cy="799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1042920" y="620640"/>
            <a:ext cx="95256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Comic Sans MS"/>
              </a:rPr>
              <a:t>Виды систем сч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59280" y="2637000"/>
            <a:ext cx="3889440" cy="3671640"/>
          </a:xfrm>
          <a:custGeom>
            <a:avLst/>
            <a:gdLst>
              <a:gd name="textAreaLeft" fmla="*/ 887760 w 3889440"/>
              <a:gd name="textAreaRight" fmla="*/ 3001680 w 3889440"/>
              <a:gd name="textAreaTop" fmla="*/ 838080 h 3671640"/>
              <a:gd name="textAreaBottom" fmla="*/ 2833560 h 36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6d2b4"/>
              </a:gs>
            </a:gsLst>
            <a:lin ang="5400000"/>
          </a:gra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Arial"/>
              </a:rPr>
              <a:t>Непозици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2708280"/>
            <a:ext cx="3889440" cy="3672000"/>
          </a:xfrm>
          <a:custGeom>
            <a:avLst/>
            <a:gdLst>
              <a:gd name="textAreaLeft" fmla="*/ 887760 w 3889440"/>
              <a:gd name="textAreaRight" fmla="*/ 3001680 w 3889440"/>
              <a:gd name="textAreaTop" fmla="*/ 838080 h 3672000"/>
              <a:gd name="textAreaBottom" fmla="*/ 283392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6d2b4"/>
              </a:gs>
            </a:gsLst>
            <a:lin ang="5400000"/>
          </a:gra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Arial"/>
              </a:rPr>
              <a:t>Позици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95640" y="1484280"/>
            <a:ext cx="288720" cy="1008000"/>
          </a:xfrm>
          <a:prstGeom prst="downArrow">
            <a:avLst>
              <a:gd name="adj1" fmla="val 70333"/>
              <a:gd name="adj2" fmla="val 76970"/>
            </a:avLst>
          </a:prstGeom>
          <a:solidFill>
            <a:srgbClr val="f6d2b4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1413000"/>
            <a:ext cx="288720" cy="1008000"/>
          </a:xfrm>
          <a:prstGeom prst="downArrow">
            <a:avLst>
              <a:gd name="adj1" fmla="val 70333"/>
              <a:gd name="adj2" fmla="val 76970"/>
            </a:avLst>
          </a:prstGeom>
          <a:solidFill>
            <a:srgbClr val="f6d2b4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979640" y="4797360"/>
            <a:ext cx="7700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12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940360" y="4797360"/>
            <a:ext cx="16416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СXXI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492360" y="1773360"/>
            <a:ext cx="571680" cy="714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95280" y="1341360"/>
            <a:ext cx="571680" cy="714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956720" y="1125360"/>
            <a:ext cx="571320" cy="714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435640" y="1916280"/>
            <a:ext cx="571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3300"/>
                </a:solidFill>
                <a:latin typeface="Comic Sans MS"/>
              </a:rPr>
              <a:t>Позиционные системы счис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87280" y="692280"/>
          <a:ext cx="8677440" cy="3387600"/>
        </p:xfrm>
        <a:graphic>
          <a:graphicData uri="http://schemas.openxmlformats.org/drawingml/2006/table">
            <a:tbl>
              <a:tblPr/>
              <a:tblGrid>
                <a:gridCol w="2752920"/>
                <a:gridCol w="744480"/>
                <a:gridCol w="5180040"/>
              </a:tblGrid>
              <a:tr h="88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Comic Sans MS"/>
                        </a:rPr>
                        <a:t>Система счис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280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3300"/>
                          </a:solidFill>
                          <a:latin typeface="Comic Sans MS"/>
                        </a:rPr>
                        <a:t>Ос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280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Comic Sans MS"/>
                        </a:rPr>
                        <a:t>Алфавит циф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28080">
                      <a:solidFill>
                        <a:srgbClr val="993300"/>
                      </a:solidFill>
                    </a:lnR>
                    <a:lnT w="280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Comic Sans MS"/>
                        </a:rPr>
                        <a:t>Десяти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Comic Sans MS"/>
                        </a:rPr>
                        <a:t>0, 1, 2, 3, 4, 5, 6, 7, 8,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280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Comic Sans MS"/>
                        </a:rPr>
                        <a:t>Двои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Comic Sans MS"/>
                        </a:rPr>
                        <a:t>0,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280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Comic Sans MS"/>
                        </a:rPr>
                        <a:t>Восьмери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Comic Sans MS"/>
                        </a:rPr>
                        <a:t>0, 1, 2, 3, 4, 5, 6,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280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Comic Sans MS"/>
                        </a:rPr>
                        <a:t>Шестнадцатери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280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280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33"/>
                          </a:solidFill>
                          <a:latin typeface="Comic Sans MS"/>
                        </a:rPr>
                        <a:t>0, 1, 2, 3, 4, 5, 6, 7, 8, 9, </a:t>
                      </a: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Comic Sans MS"/>
                        </a:rPr>
                        <a:t>A, B, C, D, E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280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28080">
                      <a:solidFill>
                        <a:srgbClr val="99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250920" y="4292640"/>
            <a:ext cx="8713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55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1,08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запись десятичного числа в свернут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551,0810 = 5*10</a:t>
            </a:r>
            <a:r>
              <a:rPr b="1" lang="ru-RU" sz="2000" spc="-1" strike="noStrike" baseline="30000">
                <a:solidFill>
                  <a:srgbClr val="9933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+ 5*10</a:t>
            </a:r>
            <a:r>
              <a:rPr b="1" lang="ru-RU" sz="2000" spc="-1" strike="noStrike" baseline="30000">
                <a:solidFill>
                  <a:srgbClr val="9933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+ 1*10</a:t>
            </a:r>
            <a:r>
              <a:rPr b="1" lang="ru-RU" sz="2000" spc="-1" strike="noStrike" baseline="30000">
                <a:solidFill>
                  <a:srgbClr val="9933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+ 0*10</a:t>
            </a:r>
            <a:r>
              <a:rPr b="1" lang="ru-RU" sz="2000" spc="-1" strike="noStrike" baseline="30000">
                <a:solidFill>
                  <a:srgbClr val="993300"/>
                </a:solidFill>
                <a:latin typeface="Arial"/>
              </a:rPr>
              <a:t>-1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+ 8*10</a:t>
            </a:r>
            <a:r>
              <a:rPr b="1" lang="ru-RU" sz="2000" spc="-1" strike="noStrike" baseline="30000">
                <a:solidFill>
                  <a:srgbClr val="993300"/>
                </a:solidFill>
                <a:latin typeface="Arial"/>
              </a:rPr>
              <a:t>-2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зап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числа в развернут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101,01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–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запись двоичного числа в свернут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101,012 = 1*2</a:t>
            </a:r>
            <a:r>
              <a:rPr b="1" lang="ru-RU" sz="2000" spc="-1" strike="noStrike" baseline="30000">
                <a:solidFill>
                  <a:srgbClr val="9933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+ 0*2</a:t>
            </a:r>
            <a:r>
              <a:rPr b="1" lang="ru-RU" sz="2000" spc="-1" strike="noStrike" baseline="30000">
                <a:solidFill>
                  <a:srgbClr val="9933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+ 1*2</a:t>
            </a:r>
            <a:r>
              <a:rPr b="1" lang="ru-RU" sz="2000" spc="-1" strike="noStrike" baseline="30000">
                <a:solidFill>
                  <a:srgbClr val="9933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+ 0*2</a:t>
            </a:r>
            <a:r>
              <a:rPr b="1" lang="ru-RU" sz="2000" spc="-1" strike="noStrike" baseline="30000">
                <a:solidFill>
                  <a:srgbClr val="993300"/>
                </a:solidFill>
                <a:latin typeface="Arial"/>
              </a:rPr>
              <a:t>-1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+ 1*2</a:t>
            </a:r>
            <a:r>
              <a:rPr b="1" lang="ru-RU" sz="2000" spc="-1" strike="noStrike" baseline="30000">
                <a:solidFill>
                  <a:srgbClr val="993300"/>
                </a:solidFill>
                <a:latin typeface="Arial"/>
              </a:rPr>
              <a:t>-2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зап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числа в развернут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67640" y="2421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112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8317080" y="476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7524720" y="1268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Comic Sans MS"/>
              </a:rPr>
              <a:t>763,45 </a:t>
            </a:r>
            <a:r>
              <a:rPr b="1" lang="en-US" sz="2000" spc="-1" strike="noStrike">
                <a:solidFill>
                  <a:srgbClr val="993300"/>
                </a:solidFill>
                <a:latin typeface="Comic Sans MS"/>
              </a:rPr>
              <a:t>– </a:t>
            </a:r>
            <a:r>
              <a:rPr b="1" lang="en-US" sz="2400" spc="-1" strike="noStrike">
                <a:solidFill>
                  <a:srgbClr val="993300"/>
                </a:solidFill>
                <a:latin typeface="Comic Sans MS"/>
              </a:rPr>
              <a:t>запись восьмеричного числа в свернутой форме</a:t>
            </a:r>
            <a:br>
              <a:rPr sz="2000"/>
            </a:br>
            <a:r>
              <a:rPr b="1" lang="en-US" sz="3600" spc="-1" strike="noStrike">
                <a:solidFill>
                  <a:srgbClr val="993300"/>
                </a:solidFill>
                <a:latin typeface="Comic Sans MS"/>
              </a:rPr>
              <a:t>7*8</a:t>
            </a:r>
            <a:r>
              <a:rPr b="1" lang="en-US" sz="3600" spc="-1" strike="noStrike" baseline="30000">
                <a:solidFill>
                  <a:srgbClr val="993300"/>
                </a:solidFill>
                <a:latin typeface="Comic Sans MS"/>
              </a:rPr>
              <a:t>2 </a:t>
            </a:r>
            <a:r>
              <a:rPr b="1" lang="en-US" sz="3600" spc="-1" strike="noStrike">
                <a:solidFill>
                  <a:srgbClr val="993300"/>
                </a:solidFill>
                <a:latin typeface="Comic Sans MS"/>
              </a:rPr>
              <a:t>+ 6*8</a:t>
            </a:r>
            <a:r>
              <a:rPr b="1" lang="en-US" sz="3600" spc="-1" strike="noStrike" baseline="30000">
                <a:solidFill>
                  <a:srgbClr val="993300"/>
                </a:solidFill>
                <a:latin typeface="Comic Sans MS"/>
              </a:rPr>
              <a:t>1 </a:t>
            </a:r>
            <a:r>
              <a:rPr b="1" lang="en-US" sz="3600" spc="-1" strike="noStrike">
                <a:solidFill>
                  <a:srgbClr val="993300"/>
                </a:solidFill>
                <a:latin typeface="Comic Sans MS"/>
              </a:rPr>
              <a:t>+ 3*8</a:t>
            </a:r>
            <a:r>
              <a:rPr b="1" lang="en-US" sz="3600" spc="-1" strike="noStrike" baseline="30000">
                <a:solidFill>
                  <a:srgbClr val="993300"/>
                </a:solidFill>
                <a:latin typeface="Comic Sans MS"/>
              </a:rPr>
              <a:t>0 </a:t>
            </a:r>
            <a:r>
              <a:rPr b="1" lang="en-US" sz="3600" spc="-1" strike="noStrike">
                <a:solidFill>
                  <a:srgbClr val="993300"/>
                </a:solidFill>
                <a:latin typeface="Comic Sans MS"/>
              </a:rPr>
              <a:t>+</a:t>
            </a:r>
            <a:r>
              <a:rPr b="1" lang="en-US" sz="3600" spc="-1" strike="noStrike" baseline="30000">
                <a:solidFill>
                  <a:srgbClr val="99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Comic Sans MS"/>
              </a:rPr>
              <a:t>4*8</a:t>
            </a:r>
            <a:r>
              <a:rPr b="1" lang="en-US" sz="3600" spc="-1" strike="noStrike" baseline="30000">
                <a:solidFill>
                  <a:srgbClr val="993300"/>
                </a:solidFill>
                <a:latin typeface="Comic Sans MS"/>
              </a:rPr>
              <a:t>-1 </a:t>
            </a:r>
            <a:r>
              <a:rPr b="1" lang="en-US" sz="3600" spc="-1" strike="noStrike">
                <a:solidFill>
                  <a:srgbClr val="993300"/>
                </a:solidFill>
                <a:latin typeface="Comic Sans MS"/>
              </a:rPr>
              <a:t>+ 5*8</a:t>
            </a:r>
            <a:r>
              <a:rPr b="1" lang="en-US" sz="3600" spc="-1" strike="noStrike" baseline="30000">
                <a:solidFill>
                  <a:srgbClr val="993300"/>
                </a:solidFill>
                <a:latin typeface="Comic Sans MS"/>
              </a:rPr>
              <a:t>-2</a:t>
            </a:r>
            <a:r>
              <a:rPr b="1" lang="en-US" sz="2000" spc="-1" strike="noStrike" baseline="30000">
                <a:solidFill>
                  <a:srgbClr val="99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Comic Sans MS"/>
              </a:rPr>
              <a:t>– </a:t>
            </a: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запись числа в развернутой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357720"/>
            <a:ext cx="9144000" cy="23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Comic Sans MS"/>
              </a:rPr>
              <a:t>А</a:t>
            </a:r>
            <a:r>
              <a:rPr b="1" lang="en-US" sz="4400" spc="-1" strike="noStrike">
                <a:solidFill>
                  <a:srgbClr val="ff9900"/>
                </a:solidFill>
                <a:latin typeface="Comic Sans MS"/>
              </a:rPr>
              <a:t>B</a:t>
            </a:r>
            <a:r>
              <a:rPr b="1" lang="ru-RU" sz="4400" spc="-1" strike="noStrike">
                <a:solidFill>
                  <a:srgbClr val="ff9900"/>
                </a:solidFill>
                <a:latin typeface="Comic Sans MS"/>
              </a:rPr>
              <a:t>6</a:t>
            </a:r>
            <a:r>
              <a:rPr b="1" lang="en-US" sz="4400" spc="-1" strike="noStrike">
                <a:solidFill>
                  <a:srgbClr val="ff9900"/>
                </a:solidFill>
                <a:latin typeface="Comic Sans MS"/>
              </a:rPr>
              <a:t>F79</a:t>
            </a:r>
            <a:r>
              <a:rPr b="1" lang="ru-RU" sz="2800" spc="-1" strike="noStrike">
                <a:solidFill>
                  <a:srgbClr val="ff9900"/>
                </a:solidFill>
                <a:latin typeface="Comic Sans MS"/>
              </a:rPr>
              <a:t> - запись шестнадцатеричного числа в свернутой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A*16</a:t>
            </a:r>
            <a:r>
              <a:rPr b="1" lang="en-US" sz="3200" spc="-1" strike="noStrike" baseline="30000">
                <a:solidFill>
                  <a:srgbClr val="ff9900"/>
                </a:solidFill>
                <a:latin typeface="Comic Sans MS"/>
              </a:rPr>
              <a:t>5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+B*16</a:t>
            </a:r>
            <a:r>
              <a:rPr b="1" lang="en-US" sz="3200" spc="-1" strike="noStrike" baseline="30000">
                <a:solidFill>
                  <a:srgbClr val="ff9900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 +6*16</a:t>
            </a:r>
            <a:r>
              <a:rPr b="1" lang="en-US" sz="3200" spc="-1" strike="noStrike" baseline="30000">
                <a:solidFill>
                  <a:srgbClr val="ff9900"/>
                </a:solidFill>
                <a:latin typeface="Comic Sans MS"/>
              </a:rPr>
              <a:t>3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+F*16</a:t>
            </a:r>
            <a:r>
              <a:rPr b="1" lang="en-US" sz="3200" spc="-1" strike="noStrike" baseline="30000">
                <a:solidFill>
                  <a:srgbClr val="ff9900"/>
                </a:solidFill>
                <a:latin typeface="Comic Sans MS"/>
              </a:rPr>
              <a:t>2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+7*16</a:t>
            </a:r>
            <a:r>
              <a:rPr b="1" lang="en-US" sz="3200" spc="-1" strike="noStrike" baseline="30000">
                <a:solidFill>
                  <a:srgbClr val="ff9900"/>
                </a:solidFill>
                <a:latin typeface="Comic Sans MS"/>
              </a:rPr>
              <a:t>1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+9*16</a:t>
            </a:r>
            <a:r>
              <a:rPr b="1" lang="en-US" sz="3200" spc="-1" strike="noStrike" baseline="30000">
                <a:solidFill>
                  <a:srgbClr val="ff9900"/>
                </a:solidFill>
                <a:latin typeface="Comic Sans MS"/>
              </a:rPr>
              <a:t>0</a:t>
            </a:r>
            <a:r>
              <a:rPr b="1" lang="ru-RU" sz="3200" spc="-1" strike="noStrike">
                <a:solidFill>
                  <a:srgbClr val="ff9900"/>
                </a:solidFill>
                <a:latin typeface="Comic Sans MS"/>
              </a:rPr>
              <a:t>–</a:t>
            </a:r>
            <a:r>
              <a:rPr b="1" lang="ru-RU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ff9900"/>
                </a:solidFill>
                <a:latin typeface="Comic Sans MS"/>
              </a:rPr>
              <a:t>запись числа в развернутой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Comic Sans MS"/>
              </a:rPr>
              <a:t>Задание 1. Укажите, какие числа записаны с ошибками.</a:t>
            </a:r>
            <a:br>
              <a:rPr sz="3600"/>
            </a:br>
            <a:r>
              <a:rPr b="1" lang="ru-RU" sz="3600" spc="-1" strike="noStrike">
                <a:solidFill>
                  <a:srgbClr val="993300"/>
                </a:solidFill>
                <a:latin typeface="Comic Sans MS"/>
              </a:rPr>
              <a:t> Ответ обоснуйте.</a:t>
            </a:r>
            <a:br>
              <a:rPr sz="4000"/>
            </a:b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156</a:t>
            </a:r>
            <a:r>
              <a:rPr b="1" lang="ru-RU" sz="5400" spc="-1" strike="noStrike" baseline="-25000">
                <a:solidFill>
                  <a:srgbClr val="ff9900"/>
                </a:solidFill>
                <a:latin typeface="Arial"/>
              </a:rPr>
              <a:t>7</a:t>
            </a: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;  3005,23</a:t>
            </a:r>
            <a:r>
              <a:rPr b="1" lang="ru-RU" sz="54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;  185,794</a:t>
            </a:r>
            <a:r>
              <a:rPr b="1" lang="ru-RU" sz="5400" spc="-1" strike="noStrike" baseline="-25000">
                <a:solidFill>
                  <a:srgbClr val="ff9900"/>
                </a:solidFill>
                <a:latin typeface="Arial"/>
              </a:rPr>
              <a:t>8</a:t>
            </a: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;  1102</a:t>
            </a:r>
            <a:r>
              <a:rPr b="1" lang="ru-RU" sz="54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;  1345,52</a:t>
            </a:r>
            <a:r>
              <a:rPr b="1" lang="ru-RU" sz="5400" spc="-1" strike="noStrike" baseline="-25000">
                <a:solidFill>
                  <a:srgbClr val="ff9900"/>
                </a:solidFill>
                <a:latin typeface="Arial"/>
              </a:rPr>
              <a:t>6</a:t>
            </a: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;  112, 011</a:t>
            </a:r>
            <a:r>
              <a:rPr b="1" lang="ru-RU" sz="54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;  16,545</a:t>
            </a:r>
            <a:r>
              <a:rPr b="1" lang="ru-RU" sz="5400" spc="-1" strike="noStrike" baseline="-25000">
                <a:solidFill>
                  <a:srgbClr val="ff9900"/>
                </a:solidFill>
                <a:latin typeface="Arial"/>
              </a:rPr>
              <a:t>5</a:t>
            </a: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;  В105,А</a:t>
            </a:r>
            <a:r>
              <a:rPr b="1" lang="ru-RU" sz="5400" spc="-1" strike="noStrike" baseline="-25000">
                <a:solidFill>
                  <a:srgbClr val="ff9900"/>
                </a:solidFill>
                <a:latin typeface="Arial"/>
              </a:rPr>
              <a:t>11</a:t>
            </a: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;  13АЕ,1К</a:t>
            </a:r>
            <a:r>
              <a:rPr b="1" lang="ru-RU" sz="5400" spc="-1" strike="noStrike" baseline="-25000">
                <a:solidFill>
                  <a:srgbClr val="ff9900"/>
                </a:solidFill>
                <a:latin typeface="Arial"/>
              </a:rPr>
              <a:t>16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59280" y="580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26920" y="587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8317080" y="530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7524720" y="3500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7740720" y="13413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686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Comic Sans MS"/>
              </a:rPr>
              <a:t>Задание 2. Запишите в развернутой форме числ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2133720"/>
            <a:ext cx="3754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3300"/>
                </a:solidFill>
                <a:latin typeface="Comic Sans MS"/>
              </a:rPr>
              <a:t>N</a:t>
            </a:r>
            <a:r>
              <a:rPr b="1" i="1" lang="en-US" sz="3600" spc="-1" strike="noStrike" baseline="-25000">
                <a:solidFill>
                  <a:srgbClr val="993300"/>
                </a:solidFill>
                <a:latin typeface="Comic Sans MS"/>
              </a:rPr>
              <a:t>8 </a:t>
            </a:r>
            <a:r>
              <a:rPr b="1" i="1" lang="en-US" sz="3600" spc="-1" strike="noStrike">
                <a:solidFill>
                  <a:srgbClr val="993300"/>
                </a:solidFill>
                <a:latin typeface="Comic Sans MS"/>
              </a:rPr>
              <a:t>= 7764</a:t>
            </a:r>
            <a:r>
              <a:rPr b="1" i="1" lang="ru-RU" sz="3600" spc="-1" strike="noStrike">
                <a:solidFill>
                  <a:srgbClr val="993300"/>
                </a:solidFill>
                <a:latin typeface="Comic Sans MS"/>
              </a:rPr>
              <a:t>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500280"/>
            <a:ext cx="3671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3300"/>
                </a:solidFill>
                <a:latin typeface="Comic Sans MS"/>
              </a:rPr>
              <a:t>N</a:t>
            </a:r>
            <a:r>
              <a:rPr b="1" i="1" lang="en-US" sz="3600" spc="-1" strike="noStrike" baseline="-25000">
                <a:solidFill>
                  <a:srgbClr val="993300"/>
                </a:solidFill>
                <a:latin typeface="Comic Sans MS"/>
              </a:rPr>
              <a:t>5 </a:t>
            </a:r>
            <a:r>
              <a:rPr b="1" i="1" lang="ru-RU" sz="3600" spc="-1" strike="noStrike">
                <a:solidFill>
                  <a:srgbClr val="993300"/>
                </a:solidFill>
                <a:latin typeface="Comic Sans MS"/>
              </a:rPr>
              <a:t>= 2430,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084640"/>
            <a:ext cx="3768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3300"/>
                </a:solidFill>
                <a:latin typeface="Comic Sans MS"/>
              </a:rPr>
              <a:t>N</a:t>
            </a:r>
            <a:r>
              <a:rPr b="1" i="1" lang="en-US" sz="3600" spc="-1" strike="noStrike" baseline="-25000">
                <a:solidFill>
                  <a:srgbClr val="993300"/>
                </a:solidFill>
                <a:latin typeface="Comic Sans MS"/>
              </a:rPr>
              <a:t>16</a:t>
            </a:r>
            <a:r>
              <a:rPr b="1" i="1" lang="en-US" sz="36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1" i="1" lang="ru-RU" sz="3600" spc="-1" strike="noStrike">
                <a:solidFill>
                  <a:srgbClr val="993300"/>
                </a:solidFill>
                <a:latin typeface="Comic Sans MS"/>
              </a:rPr>
              <a:t>= 3</a:t>
            </a:r>
            <a:r>
              <a:rPr b="1" i="1" lang="en-US" sz="3600" spc="-1" strike="noStrike">
                <a:solidFill>
                  <a:srgbClr val="993300"/>
                </a:solidFill>
                <a:latin typeface="Comic Sans MS"/>
              </a:rPr>
              <a:t>AF,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11400" y="2637000"/>
            <a:ext cx="663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7*8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+ 7*8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2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6*8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+4*8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0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 1*8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407664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2*5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+ 4*5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2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3*5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+0*5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+ 4*5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 3*5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580536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3*16</a:t>
            </a:r>
            <a:r>
              <a:rPr b="1" lang="ru-RU" sz="36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+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16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1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F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16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16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16</a:t>
            </a:r>
            <a:r>
              <a:rPr b="1" lang="ru-RU" sz="3600" spc="-1" strike="noStrike" baseline="30000">
                <a:solidFill>
                  <a:srgbClr val="cc3300"/>
                </a:solidFill>
                <a:latin typeface="Arial"/>
              </a:rPr>
              <a:t>-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mic Sans MS"/>
              </a:rPr>
              <a:t>Задание 3.Переведите число из римской системы счисления в десятичную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56000" y="1773360"/>
            <a:ext cx="431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2349360"/>
            <a:ext cx="2232000" cy="1656000"/>
          </a:xfrm>
          <a:custGeom>
            <a:avLst/>
            <a:gdLst>
              <a:gd name="textAreaLeft" fmla="*/ 509400 w 2232000"/>
              <a:gd name="textAreaRight" fmla="*/ 1722600 w 2232000"/>
              <a:gd name="textAreaTop" fmla="*/ 378000 h 1656000"/>
              <a:gd name="textAreaBottom" fmla="*/ 127800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3300"/>
                </a:solidFill>
                <a:latin typeface="Arial"/>
              </a:rPr>
              <a:t>4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4365720"/>
            <a:ext cx="2232000" cy="1655640"/>
          </a:xfrm>
          <a:custGeom>
            <a:avLst/>
            <a:gdLst>
              <a:gd name="textAreaLeft" fmla="*/ 509400 w 2232000"/>
              <a:gd name="textAreaRight" fmla="*/ 1722600 w 2232000"/>
              <a:gd name="textAreaTop" fmla="*/ 378000 h 1655640"/>
              <a:gd name="textAreaBottom" fmla="*/ 127764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3300"/>
                </a:solidFill>
                <a:latin typeface="Arial"/>
              </a:rPr>
              <a:t>34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2349360"/>
            <a:ext cx="3382920" cy="1584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4508640"/>
            <a:ext cx="3382920" cy="1584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CXLV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2349360"/>
            <a:ext cx="3816360" cy="1584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3300"/>
                </a:solidFill>
                <a:latin typeface="Arial"/>
              </a:rPr>
              <a:t>XLI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4508640"/>
            <a:ext cx="3816360" cy="1584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3300"/>
                </a:solidFill>
                <a:latin typeface="Arial"/>
              </a:rPr>
              <a:t>CCCXLVI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55640" y="155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5076720" y="580536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7596360" y="1700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8317080" y="6093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5076720" y="386064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6227640" y="177336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5:20:58Z</dcterms:created>
  <dc:creator>НаталЬя</dc:creator>
  <dc:description/>
  <dc:language>en-US</dc:language>
  <cp:lastModifiedBy>НаталЬя</cp:lastModifiedBy>
  <dcterms:modified xsi:type="dcterms:W3CDTF">2010-02-21T14:31:08Z</dcterms:modified>
  <cp:revision>11</cp:revision>
  <dc:subject/>
  <dc:title>Системы счисления</dc:title>
</cp:coreProperties>
</file>