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CF6-DEC8-4AF9-AE57-6F69CBDD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209-6B09-433B-AC89-A05A9DDA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F5F-3E31-460B-A181-F7D80530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241-7D6E-4963-83BB-46CC9B87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E406E-0762-4B0B-9F3A-0E0406C8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5BEE-B3DC-437D-B308-4DDE75D6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B0833-F0D6-476F-B7F7-C410FB4D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651A4-2724-4D2F-8473-BEBA278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2024A-4FC7-4E17-AE44-D1A2A5F8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E1A9D-DFF4-44A1-9126-578FB619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70DEB-5AEE-4FE5-A645-133CCFE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FA3-EBED-495A-A0C3-E6721C19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CE1C-8146-4BD9-BA12-77FCB8B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2C325-2393-4DD4-9833-0474630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463E-3BF9-4E14-9627-E19BDB8A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4D7EB-DD96-4C95-A8D4-212D2D61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4F4A-F1A4-4090-96A5-0E1A3C27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2000-0965-4833-AFE7-82E91396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A189-FE6A-4457-9833-AAA50856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253C-9DE3-4AF8-B06D-EC37B42A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ABB4-7B53-4FB6-9263-E368C4F0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353C-6B16-433C-A679-0688565E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246-24C0-4E51-AF66-6F0A78F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FDB3-82CA-4B16-ACBD-205BEF10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ACA4-3C85-4AB4-A390-BA349DC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86A9-8207-4C5A-B4D7-0FD04C90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C404-4111-4B8E-BA48-FBE81BDF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25DA-BB65-4013-BF6A-C6F1178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B3E0-E001-4331-B083-12913AF2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66F0-D777-48A1-A8BA-574875AC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A777D-DB04-48CA-99C8-A864CE21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CDFCD-D42A-4D91-AD09-F490116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8D947-2D81-42B6-93E9-B936C5F1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2A0-3F62-42EB-AEC1-5D8CBB5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FD4AF-AE4A-4FCC-92B3-48EF9E62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BCB7A-FCF0-4FAD-8EFE-F5D55E2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071B2-612B-4638-A120-3887A263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3145E-76D0-40BB-897D-349B14F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CD97C-D383-4F56-8E2E-7813F76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A3D0B-15A0-4386-807A-95A6DD9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E323A-2724-4E86-9948-4C35635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56EC4-51B5-40E9-A270-B98ECC18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D0A83-1E78-4FB8-9045-DF567469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6A0E2-379E-4214-9C38-F9871052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7C0-E677-4923-A7B4-D11057DB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C9EA6-3F1F-4F2F-99A0-8085090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F1675-E997-4F9C-87F5-05C060DD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27BD0-0269-45C5-806B-7F609A8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D146D-ECFF-4AA5-AEB8-B525610A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2E05D-A50F-4672-B32E-9969CAA5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9B8F2-4674-4865-AB26-C86C7AF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D2AE9-4A8D-4E3A-99D9-0A561AA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52033-ABF8-472B-8CD9-CF9D5F49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F0878-F629-4917-B365-FFEDD59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33944-09B2-41EE-B1F7-1DEE7B7A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7DC-0F24-400E-9072-10FB96C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EEE72-43E5-4F7F-AC8B-744F8749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6B102-15BF-4771-BFB1-96C4BE2E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2BA6B-E8BF-4CF4-BA06-F2D7B4F7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BDAA2-0BA1-4EB3-A564-B5DA7AB7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EE481-543D-4375-B58B-250809FD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882D7-6A86-4FF4-BF2C-F193E2A6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88B9C-9491-4BF2-AD73-AEFE602D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57218-CF77-4C4F-8199-A5DC118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3D9A6-1B4F-43BA-AAB2-AB2A334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AA978-D5D0-4B08-BE9E-5E96A254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86E-D2B7-47A7-904A-50857D4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DF636-402C-40B9-85F3-9A5F885D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1AA57-F109-4063-85C2-1B9746AC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5D7D0-97C3-4E8A-84FB-C440BDC5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556-0EDC-4B2F-979E-C2F8AC9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B01-67C3-471B-9628-BA80A21E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D21-309B-4045-A25A-0D3E811E832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C9E4-19E4-4FC3-9030-44882520561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2392-8883-48E9-8E62-A862BAD99C5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9C0B-DE8D-4305-9D0E-CC757E0E7DD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688-1925-49F3-9D94-9CB23B4653B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60C-0728-4481-946F-0A9CB195E26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Monotype Corsiva"/>
              </a:rPr>
              <a:t>Выполнила: Аршиева К 9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Monotype Corsiva"/>
              </a:rPr>
              <a:t>Преподаватель: Литвиненко С.Ю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1109520"/>
            <a:ext cx="8321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493560" y="249120"/>
            <a:ext cx="7937640" cy="970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440" y="1285920"/>
            <a:ext cx="79246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Monotype Corsiva"/>
              </a:rPr>
              <a:t>Биограф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Monotype Corsiva"/>
              </a:rPr>
              <a:t>Реформа русского стихосложен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611280" y="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Биограф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Рисунок 2" descr="гн.jpg"/>
          <p:cNvPicPr/>
          <p:nvPr/>
        </p:nvPicPr>
        <p:blipFill>
          <a:blip r:embed="rId2"/>
          <a:stretch/>
        </p:blipFill>
        <p:spPr>
          <a:xfrm>
            <a:off x="6211800" y="0"/>
            <a:ext cx="2932200" cy="37069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179280" y="419040"/>
            <a:ext cx="8964720" cy="666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Родился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5 марта (22 февраля)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в 1703 году в Астрахани, в семье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вященника. Учился в школе монахов-капуцинов и должен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был принять сан, но, по невыясненным причинам, в 1723 убежал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Москву и поступил в Славяно-греко-латинскую академию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1726 году Тредиаковский, не кончив курса в Академии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отправился в Голландию и пробыл два года в Гааге. Затем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отправился в Париж и обучался в Сорбонн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ернувшись в 1730 Россию, Тредиаковский издал перевод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романа Поля Тальмана «Езда в остров любви» (1730)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К переводу прилагались стихи самого Тредиаковского, на русском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французском языках и латыни. Успех книге обеспечило само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одержание книги, посвящённое изображению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чувств изящной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любви и уважения к женщине, новых в то время для русских читателе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той же книге Тредиаковский помести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редисловие, в котор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первые высказал мысль об употреблении в литературных произведениях русского, а не старославянского языка, как было до того времени. Был придворным Анны Иоаннов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1733 принят на службу в Академию наук.После смерти Анны Иоанновны его положение при дворе значительно ухудшилось. Следующие годы Тредиаковский жил в крайней нужде, и его свадьба в 1742 году только усугубила это положение. Лишь в 1745 одновременно с Ломоносовым его назначили профессором Академии по кафедре элоквенции, и это улучшило его материальное состояние.Тредиаковский активно занимался переводами и издал девятитомную «Древнюю историю» Ролленя, и шестнадцатитомную «Римскую историю» того же автора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1766 он издал «Телемахиду» — вольный перевод «Приключений Телемаха» Фенелона, выполненный гекзаметр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Умер Тредиаковский 17(6) августа 1769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468360" y="-243000"/>
            <a:ext cx="8242200" cy="773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0" y="269280"/>
            <a:ext cx="93250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Тредиаковский является одним из основателей силлабо-тонического стихосложения в России.(Поэзия XVI — начала XVII строилась на силлабической основе, то есть ударения в стихе не были упорядочены, фиксированным было только количество слогов. Такой тип стиха пришёл в Россию из Польши.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1735 Тредиаковский издал «Новый и краткий способ к сложению стихов Российских». В этой работе он ввёл понятие стихотворной стопы, а на её основе — понятие ямба и хорея. Стихотворные строки Тредиаковский предложил строить на основе хорея: «тот стих … совершенен и лучше, который состоит только из хореев … а тот весьма худ, который весь ямбы составляют». Фактически, Тредиаковский предложил обновить традиционные размеры силлабического стихосложения (13-ти и 11-ти-сложниые) путём введения постоянных ударений и цезур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своём труде Тредиаковский также дал определения различных жанров: сонета, рондо,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пистолы, элегии, оды и пр.; приводит многочисленные пример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 критикой стихосложения, предложенного Тредиаковским, выступил Ломоносов. В «Письме о правилах российского стихотворства» (1739) он указал, что кроме хорея, в русской поэзии можно использовать ямб, а также трёхдольные размеры — дактиль, амфибрахий, анапест. Также Ломоносов оспорил утверждение Тредиаковского, согласно которому в стихе могут использоваться только женские рифмы, введя в русский стих мужские и дактилические рифм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 целом, Тредиаковский принял систему, предложенную Ломоносовым, и даже переписал несколько своих прежних од, с тем, чтобы они соответствовали новым правилам стихосложения. Тем не менее, один вопрос вызвал дальнейшее обсужден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Ломоносов считал, что ямбические размеры подходят для написания героических произведений, в частности, оды, а хорей «с природы нежность и приятность имеющий, должен составлять собой только элегический род стихотворения». Этого же мнения придерживался и Сумароков. Тредиаковский же считал, что размер сам по себе никаких эмоциональных оттенков не несет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тот спор нашёл следующее продолжение: спорившие поэты выпустили книгу «Три оды парафрастические псалма 143». В ней один и тот же псалом был переведён: Ломоносовым и Сумароковым — ямбом, а Тредиаковским — хореем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2"/>
          <a:stretch/>
        </p:blipFill>
        <p:spPr>
          <a:xfrm>
            <a:off x="706320" y="103320"/>
            <a:ext cx="7937640" cy="976320"/>
          </a:xfrm>
          <a:prstGeom prst="rect">
            <a:avLst/>
          </a:prstGeom>
          <a:ln w="0">
            <a:noFill/>
          </a:ln>
        </p:spPr>
      </p:pic>
      <p:pic>
        <p:nvPicPr>
          <p:cNvPr id="262" name="Текст 2" descr=""/>
          <p:cNvPicPr/>
          <p:nvPr/>
        </p:nvPicPr>
        <p:blipFill>
          <a:blip r:embed="rId3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772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0008-132.jpg"/>
          <p:cNvPicPr/>
          <p:nvPr/>
        </p:nvPicPr>
        <p:blipFill>
          <a:blip r:embed="rId3"/>
          <a:stretch/>
        </p:blipFill>
        <p:spPr>
          <a:xfrm>
            <a:off x="268200" y="981000"/>
            <a:ext cx="3297240" cy="51087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5"/>
          <p:cNvSpPr/>
          <p:nvPr/>
        </p:nvSpPr>
        <p:spPr>
          <a:xfrm>
            <a:off x="3714840" y="9288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* * *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удь жестока, будь упорна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удь спесива, несговорн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уде отныне могу еще осердитьс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 мой гнев в моем сердце имеет хранить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х, нет! хоть в какой напаст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за явят мои стра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вы не увидите мое сердце смело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б оно противу вас когда зашумел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Я вас имею умолять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бы ко мне милость явля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уде отныне могу еще осердитьс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 мой гнев в моем сердце имеет хранить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1730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2786040" y="285840"/>
            <a:ext cx="3500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З </a:t>
            </a: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АРГЕНИДЫ</a:t>
            </a: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е всегда дожди льют наводнение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и в морях от бурь завсе волнение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 полгода лед в странах армянских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етр престает на горах Гарганских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едры не всегда вихрем ломаются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Листа не в весь год рощи лишаются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ведро после туч бывает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весну и дерево процветает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альгий! Ты ж всегда вне утешения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ын скончался! мнишь: нет украшения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ражен тем, в вечер слезы точишь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утро слезами ж лице всё мочишь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естор века с три пребыл ли слезнейшим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азлучившись сам с чадом любезнейшим?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риам на всяк день по Троил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лакал ли горько в такой же силе?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ремя отложить слабость сердечную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Лучше прославлять честь долговечную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ш Кесарь Август победитель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Тигра, Евфрата есть укротитель…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&lt;1751</a:t>
            </a: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357120" y="285840"/>
            <a:ext cx="457200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СТИХИ ПОХВАЛЬНЫЕ РОСС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Начну на флейте стихи печальны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ря на Россию чрез страны дальны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бо все днесь мне ее доброты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Мыслить умам есть много охот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оссия мати! свет мой безмерный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зволь то, чадо прошу твой верный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Ах, как сидишь ты на троне красно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ебо российску ты солнце ясно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расят иных всех златые скиптры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драгоценна порфира, митры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Ты собой скипетр твой украсила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лицем светлым венец почтил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 благородстве твоем высоком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то бы не ведал в свете широком?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рямое сама вся благородство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Божие ты, ей! светло изводство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4140360" y="1989000"/>
            <a:ext cx="4572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тебе вся вера благочестивым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 тебе примесу нет нечестивым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тебе не будет веры двойныя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 тебе не смеют приступить злы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Твои все люди суть православны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храбростию повсюду славны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Чада достойны таковой мати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езде готовы за тебя стат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Чем ты, Россия, не изобильна?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Где ты, Россия, не была сильна?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окровище всех добр ты едина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сегда богата, славе причин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оль в тебе звезды все здравьем блещут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россияне коль громко плещут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иват Россия! виват драгая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иват надежда! виват благая..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&lt;1728&gt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5:36:38Z</dcterms:created>
  <dc:creator>Panik'ёрша</dc:creator>
  <dc:description/>
  <dc:language>en-US</dc:language>
  <cp:lastModifiedBy>User</cp:lastModifiedBy>
  <dcterms:modified xsi:type="dcterms:W3CDTF">2010-02-25T14:15:54Z</dcterms:modified>
  <cp:revision>11</cp:revision>
  <dc:subject/>
  <dc:title>Василий Кириллович Тредиаковский</dc:title>
</cp:coreProperties>
</file>