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E1F2-4B83-486D-8EA3-E860BED8FB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E34E-F93D-42FD-9AA4-BFED48AF73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B61-841C-46C8-953E-39B2E46F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063-A473-4DA6-A406-0023DF23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9BDA-86A0-4A2E-B5AC-78CF1F1A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C76-7DFB-437E-977E-A53D0CA5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C8C6-1D6F-4576-9B7C-98062450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9190-56EB-4064-853F-CDD834E9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CE4E-FD70-4D24-B223-651703B3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D155-5BE2-4ED0-A64B-5CD92A4F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55D5-6C11-4D0D-AFA4-48A173C4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6CD0-05B0-4857-BA43-083C74D7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66D3-E980-4ED8-87CC-BE22C933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7F81-078C-495B-908C-E22B1B13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6400-70CB-4A9F-82A6-F7CB76EB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488D-B886-409B-A362-019D337B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75D1-8A18-4B89-8108-34C83088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2EAA-EDD3-438D-8863-3B3A4921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ACEB-8ED7-4577-BEA6-0D3C5521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C5C-7FF5-469C-965B-8AC44BD0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6053-7676-47C5-BB49-022E8B2E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2B7-A818-49FE-AAE6-28DCC154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263A-1EC8-429F-846E-2289DC8C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D61E-22DE-4A61-83C1-6705C5FF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42A0-7003-4F19-A9E9-8C2FCA8C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449-9CE5-496A-9D32-D6F46B34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F55E-AE74-4757-BC08-61D2B36331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39C1-73DE-46CC-9BAC-5386266393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Урок-презентация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4 клас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5300640"/>
            <a:ext cx="9144000" cy="155736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468360" y="1989000"/>
            <a:ext cx="8351640" cy="4032360"/>
          </a:xfrm>
          <a:prstGeom prst="rect">
            <a:avLst/>
          </a:prstGeom>
          <a:solidFill>
            <a:srgbClr val="ffe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2411280" y="2492280"/>
            <a:ext cx="1008360" cy="115272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5940360" y="2492280"/>
            <a:ext cx="1008000" cy="115272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4211640" y="2492280"/>
            <a:ext cx="1008000" cy="115272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2411280" y="3860640"/>
            <a:ext cx="1008360" cy="115272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5940360" y="3860640"/>
            <a:ext cx="1008000" cy="115272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2916360" y="386064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2916360" y="249228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4716360" y="249228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443640" y="249228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6443640" y="386064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2916360" y="42210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2916360" y="285264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4716360" y="285264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6443640" y="285264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6443640" y="42210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826920" y="2492280"/>
            <a:ext cx="1008360" cy="115272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12" name="Rectangle 20"/>
          <p:cNvSpPr/>
          <p:nvPr/>
        </p:nvSpPr>
        <p:spPr>
          <a:xfrm>
            <a:off x="7524720" y="2492280"/>
            <a:ext cx="1008000" cy="115272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13" name="Line 21"/>
          <p:cNvSpPr/>
          <p:nvPr/>
        </p:nvSpPr>
        <p:spPr>
          <a:xfrm>
            <a:off x="1332000" y="249228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8028000" y="249228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15" name="Line 23"/>
          <p:cNvSpPr/>
          <p:nvPr/>
        </p:nvSpPr>
        <p:spPr>
          <a:xfrm>
            <a:off x="1332000" y="386064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7524720" y="3860640"/>
            <a:ext cx="1008000" cy="115272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826920" y="3860640"/>
            <a:ext cx="1008360" cy="115272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18" name="Line 26"/>
          <p:cNvSpPr/>
          <p:nvPr/>
        </p:nvSpPr>
        <p:spPr>
          <a:xfrm>
            <a:off x="8028000" y="386064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19" name="Line 27"/>
          <p:cNvSpPr/>
          <p:nvPr/>
        </p:nvSpPr>
        <p:spPr>
          <a:xfrm>
            <a:off x="1332000" y="386064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20" name="Line 28"/>
          <p:cNvSpPr/>
          <p:nvPr/>
        </p:nvSpPr>
        <p:spPr>
          <a:xfrm>
            <a:off x="1332000" y="285264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21" name="Line 29"/>
          <p:cNvSpPr/>
          <p:nvPr/>
        </p:nvSpPr>
        <p:spPr>
          <a:xfrm>
            <a:off x="1332000" y="42210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22" name="Line 30"/>
          <p:cNvSpPr/>
          <p:nvPr/>
        </p:nvSpPr>
        <p:spPr>
          <a:xfrm>
            <a:off x="8028000" y="42210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23" name="Line 31"/>
          <p:cNvSpPr/>
          <p:nvPr/>
        </p:nvSpPr>
        <p:spPr>
          <a:xfrm>
            <a:off x="8028000" y="285264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24" name="Rectangle 32"/>
          <p:cNvSpPr/>
          <p:nvPr/>
        </p:nvSpPr>
        <p:spPr>
          <a:xfrm>
            <a:off x="4067280" y="3933720"/>
            <a:ext cx="1296720" cy="2087640"/>
          </a:xfrm>
          <a:prstGeom prst="rect">
            <a:avLst/>
          </a:prstGeom>
          <a:solidFill>
            <a:srgbClr val="8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25" name="Rectangle 33"/>
          <p:cNvSpPr/>
          <p:nvPr/>
        </p:nvSpPr>
        <p:spPr>
          <a:xfrm>
            <a:off x="4356000" y="4149720"/>
            <a:ext cx="720720" cy="71928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4356000" y="5013360"/>
            <a:ext cx="720720" cy="71928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27" name="Oval 35"/>
          <p:cNvSpPr/>
          <p:nvPr/>
        </p:nvSpPr>
        <p:spPr>
          <a:xfrm>
            <a:off x="5148360" y="486900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pic>
        <p:nvPicPr>
          <p:cNvPr id="228" name="Picture 36" descr="Безымянный"/>
          <p:cNvPicPr/>
          <p:nvPr/>
        </p:nvPicPr>
        <p:blipFill>
          <a:blip r:embed="rId1"/>
          <a:stretch/>
        </p:blipFill>
        <p:spPr>
          <a:xfrm>
            <a:off x="7956720" y="1197000"/>
            <a:ext cx="838080" cy="733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7" descr="Безымянный"/>
          <p:cNvPicPr/>
          <p:nvPr/>
        </p:nvPicPr>
        <p:blipFill>
          <a:blip r:embed="rId2"/>
          <a:stretch/>
        </p:blipFill>
        <p:spPr>
          <a:xfrm>
            <a:off x="7020000" y="1197000"/>
            <a:ext cx="838080" cy="733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8" descr="Безымянный"/>
          <p:cNvPicPr/>
          <p:nvPr/>
        </p:nvPicPr>
        <p:blipFill>
          <a:blip r:embed="rId3"/>
          <a:stretch/>
        </p:blipFill>
        <p:spPr>
          <a:xfrm>
            <a:off x="6084720" y="1197000"/>
            <a:ext cx="838440" cy="7333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9"/>
          <p:cNvSpPr/>
          <p:nvPr/>
        </p:nvSpPr>
        <p:spPr>
          <a:xfrm>
            <a:off x="46836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Шли по крыше три кота</a:t>
            </a:r>
            <a:endParaRPr b="0" lang="en-US" sz="40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Три кота Василия</a:t>
            </a:r>
            <a:endParaRPr b="0" lang="en-US" sz="40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Поднимали три хвоста</a:t>
            </a:r>
            <a:endParaRPr b="0" lang="en-US" sz="40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Прямо в небо синее</a:t>
            </a:r>
            <a:endParaRPr b="0" lang="en-US" sz="40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Сели киски  на карниз</a:t>
            </a:r>
            <a:endParaRPr b="0" lang="en-US" sz="40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Посмотрели вверх и вниз</a:t>
            </a:r>
            <a:endParaRPr b="0" lang="en-US" sz="40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И сказали три кота</a:t>
            </a:r>
            <a:endParaRPr b="0" lang="en-US" sz="40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Красота, красота</a:t>
            </a:r>
            <a:endParaRPr b="0" lang="en-US" sz="40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32" name="Text Box 41"/>
          <p:cNvSpPr/>
          <p:nvPr/>
        </p:nvSpPr>
        <p:spPr>
          <a:xfrm>
            <a:off x="1959120" y="0"/>
            <a:ext cx="41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33" name="Text Box 42"/>
          <p:cNvSpPr/>
          <p:nvPr/>
        </p:nvSpPr>
        <p:spPr>
          <a:xfrm>
            <a:off x="1600200" y="285840"/>
            <a:ext cx="405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07407E-006 C -4.72222E-006 0.00324 -0.146 0.00579 -0.33003 0.00579 C -0.5118 0.00579 -0.66006 0.00324 -0.66006 -4.07407E-006 C -0.66006 -0.00301 -0.5118 -0.00532 -0.33003 -0.00532 C -0.146 -0.00532 -4.72222E-006 -0.00301 -4.72222E-006 -4.07407E-006 Z">
                                      <p:cBhvr>
                                        <p:cTn id="131" dur="5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4444E-006 C 5.55556E-007 0.00278 -0.15035 0.00533 -0.3349 0.00533 C -0.51944 0.00533 -0.6691 0.00278 -0.6691 -4.44444E-006 C -0.6691 -0.003 -0.51944 -0.00486 -0.3349 -0.00486 C -0.15035 -0.00486 5.55556E-007 -0.003 5.55556E-007 -4.44444E-006 Z">
                                      <p:cBhvr>
                                        <p:cTn id="133" dur="5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22222E-006 C 3.61111E-006 0.00324 -0.14844 0.00602 -0.33073 0.00602 C -0.51181 0.00602 -0.66111 0.00324 -0.66111 2.22222E-006 C -0.66111 -0.00324 -0.51181 -0.00509 -0.33073 -0.00509 C -0.14844 -0.00509 3.61111E-006 -0.00324 3.61111E-006 2.22222E-006 Z">
                                      <p:cBhvr>
                                        <p:cTn id="135" dur="5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Какими прилагательными нужно заполнить предложение, чтобы о каждом дереве сказать что-то своё, особенно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ы любим (какую?) … ёлочку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рёзку, … осинку, … рябинк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ва для справки: (пушистую, стройную, трепетную, нарядную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Самостоятельная работ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пражнение № 33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иши одно из четверостиший. Укажите падеж прилагательных. Выделите оконч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1-ом четверостишье разобрать слово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рустную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как часть реч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 2-ом четверостишье звуко–буквенный разбор слова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казку.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85800" y="1484280"/>
          <a:ext cx="7696080" cy="446580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446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Грустную – прилаг.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акую?)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Н.ф.- грустный.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В ж.р., В.п., ед.ч.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Второстеп. Член.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азку - 2 слога;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-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гл.,глух.,тв.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гл., глух., тв.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глас., удар.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-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гл., глух., тв.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гл, глух., тв.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у-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- глас., беуд.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б., 6зв.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бобщени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696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 какой вопрос отвечают имена прилагательные в винительном падеже? Какие имеют окончан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 какой вопрос отвечают имена прилагательные в творительном падеже? Какие имеют окончани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авило: стр.147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пражнение №33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Винительный и творительный падежи имён прилагательных женского род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звивать умение различать винительный и творительный падежи имён прилагательных женского род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вильно писать безударные окончания имён прилагательны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огащать лексику язы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креплять знания звуко- буквенного разбора слов, и разбора слов как части реч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спитывать интерес к предмет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ловарный диктант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7696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900000" y="1484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ет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л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852720" y="3141720"/>
            <a:ext cx="188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сия,</a:t>
            </a:r>
            <a:endParaRPr b="0" lang="en-US" sz="40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826920" y="2205000"/>
            <a:ext cx="29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сс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ояние,</a:t>
            </a:r>
            <a:endParaRPr b="0" lang="en-US" sz="40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901440" y="3141720"/>
            <a:ext cx="253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ил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етр,</a:t>
            </a:r>
            <a:endParaRPr b="0" lang="en-US" sz="40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1045080" y="4724280"/>
            <a:ext cx="24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едле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нн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,</a:t>
            </a:r>
            <a:endParaRPr b="0" lang="en-US" sz="40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3852720" y="4724280"/>
            <a:ext cx="289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рамм.</a:t>
            </a:r>
            <a:endParaRPr b="0" lang="en-US" sz="40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4067640" y="2205000"/>
            <a:ext cx="367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л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тричество,</a:t>
            </a:r>
            <a:endParaRPr b="0" lang="en-US" sz="40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3924360" y="4005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л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тр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танция,</a:t>
            </a:r>
            <a:endParaRPr b="0" lang="en-US" sz="40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828720" y="3933720"/>
            <a:ext cx="28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лектр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оз,</a:t>
            </a:r>
            <a:endParaRPr b="0" lang="en-US" sz="40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6229440" y="3141720"/>
            <a:ext cx="190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ос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ь,</a:t>
            </a:r>
            <a:endParaRPr b="0" lang="en-US" sz="40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5796000" y="1484280"/>
            <a:ext cx="28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нж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ер,</a:t>
            </a:r>
            <a:endParaRPr b="0" lang="en-US" sz="40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3348000" y="1484280"/>
            <a:ext cx="244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ектор,</a:t>
            </a:r>
            <a:endParaRPr b="0" lang="en-US" sz="40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к понимаете смыс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их пословиц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од лежачий камень и вода не течё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 грамотой вскачь, а без грамоты хоть плач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Что написано пером, не вырубишь топор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478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росклоняйте прилагательные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молодая, ранняя (травка)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 в единственном числ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6960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34560" y="1844280"/>
            <a:ext cx="8209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деж. Вопрос. Прилагательны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.п.(какая?) молодая, ранняя (травка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.п. (какой?) молодой, ранней (травки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.п. (какой?) молодой, ранней (травке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п. (какую?) молодую, раннюю (травк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.п. (какой?) молодой, ранней (травкой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.п. (о какой?) о молодой, ранней ( травке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Как различаются винительный и творительный падежи прилагательных женского род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.п.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Т.п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ую?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какой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асковую, синюю         ласковой (-ою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волну)                          синей (-ею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волной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3708360" y="3645000"/>
            <a:ext cx="647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268360" y="2708280"/>
            <a:ext cx="50328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88" name="Rectangle 7"/>
          <p:cNvSpPr/>
          <p:nvPr/>
        </p:nvSpPr>
        <p:spPr>
          <a:xfrm flipH="1">
            <a:off x="6659640" y="4149720"/>
            <a:ext cx="4334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89" name="Rectangle 8"/>
          <p:cNvSpPr/>
          <p:nvPr/>
        </p:nvSpPr>
        <p:spPr>
          <a:xfrm flipH="1">
            <a:off x="6516720" y="3645000"/>
            <a:ext cx="503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90" name="Rectangle 9"/>
          <p:cNvSpPr/>
          <p:nvPr/>
        </p:nvSpPr>
        <p:spPr>
          <a:xfrm flipH="1">
            <a:off x="6587280" y="2708280"/>
            <a:ext cx="505080" cy="34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91" name="Rectangle 10"/>
          <p:cNvSpPr/>
          <p:nvPr/>
        </p:nvSpPr>
        <p:spPr>
          <a:xfrm flipH="1">
            <a:off x="2340000" y="3645000"/>
            <a:ext cx="503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71280" y="-819360"/>
            <a:ext cx="6838920" cy="30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одберите к существительным подходящие по смыслу имена прилагательные. Выделите оконча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696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.. грушей, … ночью, … траву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... тропинку, … погоду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нигой, … осенью, … речку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 … удочкой, в … пору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4:52:49Z</dcterms:created>
  <dc:creator>www.PHILka.RU</dc:creator>
  <dc:description/>
  <dc:language>en-US</dc:language>
  <cp:lastModifiedBy>1</cp:lastModifiedBy>
  <dcterms:modified xsi:type="dcterms:W3CDTF">2015-01-13T16:50:01Z</dcterms:modified>
  <cp:revision>9</cp:revision>
  <dc:subject/>
  <dc:title>Урок-презен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