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14B-8270-4491-BC82-03FB26C4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DCB-7510-4BFB-ACB7-5CE257F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C66FA-18DC-4C46-8A8F-B0EF59CE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5249-C292-4D4E-9A8B-63F1FB40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8A538-B631-442F-B093-CC94A4E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D5DC-FDDA-49F8-8B51-B1379E2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18F1-CEF2-4F2F-A8E1-75D69DA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7E0C7-7E4C-4CEF-BC98-F384119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3DAC5-AD1B-4D99-B153-E9AC900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38A03-B6B7-4723-B6E1-95487466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BEEB6-3369-45B5-8DCA-7E4B77FC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335-8E5A-4315-B1D3-F09745F9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D41-DF28-4468-BA1B-4C732EF3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A8D2-ACD5-4C2F-88D0-078A1E77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0060-EBD3-4474-A44E-F9A46FF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86E-1F86-4E47-BE24-89444418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3E9E-3042-4664-90BC-6544CAAC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EC10-E8AA-4D1C-A359-8B2921B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01F7-E16F-4DB2-84FD-DF0B23C7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B27-B8C6-4583-ACEA-E600227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F32-6718-4D56-81DD-7971D2E1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53B-FDE6-4CFB-AB79-31FA4B1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144-15EC-4E18-A5DF-430A912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D55-F7A5-4AEB-946E-FC0E53D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954-4C2D-4342-A9ED-083F083C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85CC-3159-4924-97DB-B2DE2858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5F36-F7E5-4816-8F50-6AFDDA11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7D22-97C1-4DE5-84CB-02441650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4D6B-E80E-44F9-82C8-6E3EB32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A46E-045A-46D2-A8B5-FA577C2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18C8-A9EE-4647-985B-898EF3FB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828-A5AE-4DE7-AF75-DC797F8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F13F-AC24-4C88-A0FF-C51164AE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8E8C-3564-48E2-A8C0-A121121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AB43-65BF-43C7-8122-243F1EC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18AD-938E-459E-AD5A-271FCC6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DEBD-1416-4205-A4B3-E8393DA9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928A-282E-4127-B3A7-18F26B07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4FAB-C36B-4E68-89C4-F1CF9570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57CD-2C34-4E03-864C-C6613EE3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3C58-26E1-4686-B02A-25981D6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00E3-78EF-4829-B806-FD183F6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DD7-FBBA-44C4-B6FD-FE4B0456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1B06-95C8-449D-9BA2-6F2779E4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E574-A4CF-467E-A920-C708A9E1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2282-4843-4EFE-BFDF-35A04838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DE1B-B090-46D0-BB08-1D32A7F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10BB-29B5-4A35-9663-51930C7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EE2F-62D8-4BA9-84A7-54A08EE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D603-76A3-4005-9969-9CCE642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3047-E8CA-4B73-89B9-FB01CC22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DE38-6A7E-4E88-A8A3-68E49116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76AF-9109-4C24-BA93-3B6965D9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234-2A06-4F12-B1DD-B3AE9B13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C323F-49EB-44C1-859A-6E40FC4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A757-F02A-46A2-B845-2F808C8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D36C-1F3D-432A-8B15-256A8D6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672A-88CB-4956-A551-B9BB98E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04EA-E3B7-4F4C-831F-26FDBCE2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B70B-1E0C-4F3D-B22E-3C6A5D0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16DE-1076-4E74-9741-01C7A05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7263-0EE7-486E-A872-88B6D58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345E-395A-4330-ACBB-74E541C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17CD-C303-470E-A288-53DC36C8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B89-C47B-4299-9735-49AA6D96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CAAE-FFA9-4D32-86BD-73EF9C33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6073-1BC6-4DCE-943F-56BC76D9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0C8F-749F-452B-B0A8-B0460BFF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1331-39C5-4F8A-BB76-4EDA130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BFAA9-9EA1-4BDD-91D8-8A95BFF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2315-8431-4AD8-96E5-6B1E9A2F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E979-09DB-4697-9A7B-86E9494C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B6CE-F5C0-4A6B-A247-0FB14B2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8CC1-1A80-4E0F-9494-93B34BEF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822B-470B-4057-A3A3-AC47146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7DA-9E54-4254-8EAB-D3F3645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675C-B5E6-4282-9E35-99DD8F7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0B12E-5AB4-4075-98B0-B19E1BBA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E3489-AD53-4324-8971-0A98C780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D1CC8-B525-42E1-91F9-37AAD2D3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06517-9300-4FED-8E65-0CE753B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154D-9613-4586-8264-2CEB8BE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20F79-8FDD-4F1E-88DF-2CBF47B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E7B1F-C133-400B-9450-64CB9F7B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8E60-4963-44FF-8198-BDD1C4C1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C451-5AA6-45E8-B741-DF6BA73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0A3-6CC5-42D5-8293-46E7314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E4D8E-D615-4C8B-A67C-CEBD505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4D72-511B-434E-B0F7-BDD4652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7C7C-56A9-43AC-B7BE-149C401A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324B-8AEA-491B-9E71-F08EB326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926C-E586-44C7-BEBE-53AD6AA7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1617-BC84-453E-A8AA-C1C7B280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83A6D-137C-4ACD-93C0-93D9FF8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F1EC-BA6A-4CD6-8D09-435B5F7B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A228E-571E-4219-BDB5-E366397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484D1-8F9A-45DF-99DD-A8955F0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790-D339-4CFF-8597-BE0E0B5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A4A07-F7C0-4678-9A37-34CBF93D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C400-E5B3-4955-B608-F899263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75A9B-C170-4FB5-A4D9-8999EBE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241B4-9163-41FE-8CF4-177AAA0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90B2-AADB-4B20-895A-03765304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FDEA-0F66-43EC-AEED-71471F6A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73F66-9B5A-4FB7-9FE1-C351F9E9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61736-DEB7-4E99-86B6-FFF8FB16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80D15-503F-4CA2-BCDE-32B80B2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0E96F-7D30-42B0-996C-A7C88203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F06-5B4C-49ED-965C-093C1F9306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1022-3891-4942-9DDC-9A0CAA4964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9D4F-BAD2-476C-AAEA-1D53764E54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7598-F6AA-455E-91E8-D421FBC66F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1C96-ABEE-4722-8F7A-0429CE3D8B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BA82-283A-4F2D-A0E3-6D81831F85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3436-9C32-411E-9181-FE8041E05D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BAC5-8A70-4F0E-B676-653533DB41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A91-471E-4546-96A6-1F6C0F662D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слайд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367200" y="522360"/>
            <a:ext cx="25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7" descr="uLkVLM2_TJk.jpg"/>
          <p:cNvPicPr/>
          <p:nvPr/>
        </p:nvPicPr>
        <p:blipFill>
          <a:blip r:embed="rId2"/>
          <a:stretch/>
        </p:blipFill>
        <p:spPr>
          <a:xfrm>
            <a:off x="533520" y="1600200"/>
            <a:ext cx="7845480" cy="48769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9"/>
          <p:cNvSpPr/>
          <p:nvPr/>
        </p:nvSpPr>
        <p:spPr>
          <a:xfrm>
            <a:off x="4572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тская студия (Творче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дставля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Волк и семеро козлят – Основная тема.mp3" descr=""/>
          <p:cNvPicPr/>
          <p:nvPr/>
        </p:nvPicPr>
        <p:blipFill>
          <a:blip r:embed="rId3"/>
          <a:stretch/>
        </p:blipFill>
        <p:spPr>
          <a:xfrm>
            <a:off x="4267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слайд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1338412138_1290029115_volk"/>
          <p:cNvPicPr/>
          <p:nvPr/>
        </p:nvPicPr>
        <p:blipFill>
          <a:blip r:embed="rId2"/>
          <a:stretch/>
        </p:blipFill>
        <p:spPr>
          <a:xfrm>
            <a:off x="1371600" y="231840"/>
            <a:ext cx="5715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слайд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1290029168_volk1"/>
          <p:cNvPicPr/>
          <p:nvPr/>
        </p:nvPicPr>
        <p:blipFill>
          <a:blip r:embed="rId2"/>
          <a:stretch/>
        </p:blipFill>
        <p:spPr>
          <a:xfrm>
            <a:off x="0" y="304920"/>
            <a:ext cx="4800600" cy="5715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6"/>
          <p:cNvSpPr/>
          <p:nvPr/>
        </p:nvSpPr>
        <p:spPr>
          <a:xfrm>
            <a:off x="4800600" y="152280"/>
            <a:ext cx="411480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главных рол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л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лодовник Алек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ма ко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иряева Соф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зля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ирлин Славик, Шевченко София, Колесникова Инна, Потемкин Егор, Климова Алена, Винокуров Максим, Башлакова К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укуш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укина Таня, Коханова Али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я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Яковлев Даня, Печковский Дима, Изотов Дима, Кедяев Гле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маш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ацылева София, Осипова Ксюша, Солодова По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абоч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умазова Полина,Политико Ж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йч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илипченко Стас, Слепнев Ваня, Новиков С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4" descr="слайд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8"/>
          <p:cNvSpPr/>
          <p:nvPr/>
        </p:nvSpPr>
        <p:spPr>
          <a:xfrm>
            <a:off x="914400" y="22860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вместная работа родителей и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7" descr="DSC_1283"/>
          <p:cNvPicPr/>
          <p:nvPr/>
        </p:nvPicPr>
        <p:blipFill>
          <a:blip r:embed="rId2"/>
          <a:stretch/>
        </p:blipFill>
        <p:spPr>
          <a:xfrm>
            <a:off x="152280" y="2209680"/>
            <a:ext cx="4496040" cy="4419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DSC_1298"/>
          <p:cNvPicPr/>
          <p:nvPr/>
        </p:nvPicPr>
        <p:blipFill>
          <a:blip r:embed="rId3"/>
          <a:stretch/>
        </p:blipFill>
        <p:spPr>
          <a:xfrm>
            <a:off x="4800600" y="1600200"/>
            <a:ext cx="41911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4" descr="слайд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a157_p413"/>
          <p:cNvPicPr/>
          <p:nvPr/>
        </p:nvPicPr>
        <p:blipFill>
          <a:blip r:embed="rId2"/>
          <a:stretch/>
        </p:blipFill>
        <p:spPr>
          <a:xfrm>
            <a:off x="1447920" y="1219320"/>
            <a:ext cx="6548400" cy="5392440"/>
          </a:xfrm>
          <a:prstGeom prst="rect">
            <a:avLst/>
          </a:prstGeom>
          <a:ln w="0">
            <a:noFill/>
          </a:ln>
        </p:spPr>
      </p:pic>
      <p:sp>
        <p:nvSpPr>
          <p:cNvPr id="423" name="TextBox 9"/>
          <p:cNvSpPr/>
          <p:nvPr/>
        </p:nvSpPr>
        <p:spPr>
          <a:xfrm>
            <a:off x="533520" y="3049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иятного просмо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4" descr="слайд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photo_80"/>
          <p:cNvPicPr/>
          <p:nvPr/>
        </p:nvPicPr>
        <p:blipFill>
          <a:blip r:embed="rId2"/>
          <a:stretch/>
        </p:blipFill>
        <p:spPr>
          <a:xfrm>
            <a:off x="0" y="457200"/>
            <a:ext cx="4152960" cy="57150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4114800" y="417600"/>
            <a:ext cx="48006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д сценарием работ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жисс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арусоваО.В. Курдюмова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удожник-постановщ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арусова О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дюмова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изайнер по костюмам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вукорежисс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урдюмова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втор сцена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арусоваО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екорации к спектакл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и и 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2"/>
          <p:cNvSpPr/>
          <p:nvPr/>
        </p:nvSpPr>
        <p:spPr>
          <a:xfrm>
            <a:off x="0" y="152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важаемые папы и мам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 за то, что, не смотря на занятость, нехватку времени, находите в себе силы не поддаваться жизненным обстоятельствам, остаётесь неравнодушными к жизни группы и детского  с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асибо вам за помощь многократ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асибо вам за добрые д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м вам сказать без памяти прия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ьшущей благодарности слов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</dc:creator>
  <dc:description/>
  <dc:language>en-US</dc:language>
  <cp:lastModifiedBy>Мы</cp:lastModifiedBy>
  <dcterms:modified xsi:type="dcterms:W3CDTF">2015-01-13T22:34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