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373-A986-463E-9E46-B650FAAB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DD2-8D55-4D22-8FE0-796F00AD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9D6-9758-4B87-84B3-0B05859C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F59-298B-462F-A17D-AF901274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A556-05A8-4A15-A955-F68D71E5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7EA7-36F9-45FE-AD47-BA5B8086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8596-4AC4-4508-AC5D-2461755C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C0EC-D1E2-4FDF-9347-8A1C311B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B58F-137D-43FB-8F5E-5E3886BE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3F73-FAD6-4F21-9B77-B2331D2A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EE7C-794C-4A50-9326-B76BADE6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467-CA21-40C4-9074-874110E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5576-BB99-4F39-B31D-BE2E6FF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ABA6-D55A-4845-AA37-20B1127D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9B12-8345-4D87-BE23-0A339791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7216-7034-4B68-AA5E-4168FA44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ED3F-99C1-48AB-B9BB-0A922F88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89B-6B60-4270-8E32-6D0D473C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E26-A648-496B-9B5B-8D43C7FE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05B-CD84-46B6-B7CD-C068D2CF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9AD-E79B-4903-AC3B-A355D42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BB9-3CF6-4F3C-B294-792D99FD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C16-C9F7-4E12-83E7-AF3679E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6F6-CF61-467C-AD20-DFCC741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702-7EE7-49C7-9406-D9484F3623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2C3A-83CD-44D9-BF19-B3B7943E76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ВСЕЗНАЙКА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АТЕМАТИЧЕСКАЯ ИГРА ДЛЯ 5-6 КЛАС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АТЕМАТИЧЕСКОЕ ЛИ ЭТО СЛОВ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ШАК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ЕЦИМЕТР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РАВНЕ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ЦИФ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ЦАПЛ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ОЛНЦ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ДИУ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УЛ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НА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ЕЛЕ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81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Горело 5 свечей, 2 потушили. Сколько свечей осталось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 корзине 15 слив. Хозяйка положила в компот треть слив. Сколько слив в компоте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колько нулей будет в конце произведения всех цифр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 каком случае сумма двух чисел равна первому слагаемом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етело 25 гусей. Одного гуся подстрелили охотники. Сколько гусей осталось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Яйцо всмятку варится 2 минуты. Сколько времени потребуется, чтобы сварить 5 яиц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тух на одной ноге весит 4 кг. Сколько весит петух на двух ногах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ройка лошадей пробежала 30 км. Сколько пробежала каждая лошадь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колько концов у палки?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 у пяти с половиной палок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53080" y="51814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ифровые загад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е имя состоит из 30 местоим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звание какой птицы состоит из четырёх десятков одинаковых бук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названии какой профессии содержится цифр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зовите слово, 100 одинаковых букв которого можно найти на луг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06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онкурсы на сообразите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ишите как можно больше слов, в которые входит число 10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ословицы и поговорки, в которые входят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2017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ур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сса бидона с молоком 32 кг., без молока 2 кг. Какова масса бидона, наполненного наполовин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курицы за три дня снесут три яйца. Сколько яиц снесут шесть куриц за шесть дне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79400" y="0"/>
            <a:ext cx="139248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ревно пилят на 10 частей. Сколько распилов нужно сдела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 рекой летели птицы: голубь, щука, две синицы, два стрижа и пять ершей. Сколько птиц? Ответь скор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ужно расставить знаки «+» в записи 1234567, чтобы получилась сумма, равная 100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дравляем победителе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4382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03-12-31T21:41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