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1.gif" ContentType="image/gif"/>
  <Override PartName="/ppt/media/image5.png" ContentType="image/png"/>
  <Override PartName="/ppt/media/image10.png" ContentType="image/png"/>
  <Override PartName="/ppt/media/image4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6723-F1BB-4B71-A33D-4EB7AEB2F5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7C96-F6B5-481B-8126-43AD1AFF8E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ать, вставить пропущенные бук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учащийся работает за компьютером. Проверка, анализ оши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предложение с данными слова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3F4F-55BB-4B08-9CAD-34EAF2D190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ать, вставить пропущенные знаки препинания, построить схему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учащийся работает у дос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DD82-3FD2-4EA4-9043-EB824A3B29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еб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F7FF-6CCF-46B0-9A6F-36BB7E5A8E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ываем пары слов, обозначаем чередование с нулём зв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97C0-1CB9-484E-97B6-776AB634BB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EF8-905F-4C55-84C7-7DB570D6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F13-3120-44A3-BBEC-AE2F576B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AF0-48E0-4A39-BB11-455162F8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36A-A15C-4842-A539-C8D095D2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B25-2897-42D3-B938-AC760487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2A9-9D7D-4F72-A5F6-B31FC639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F85-4E79-420B-B230-8347A276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EA2-B8B6-4F73-905B-27820D51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648-849E-4311-A0AF-ADC7CB5C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7FB-1074-408E-9357-BA646B66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474-0149-4D3E-977A-1D39128A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D1D-F56A-468D-A911-15156BFC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2ED5-A469-4CD5-A36D-1BF4EBBED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71680" y="642600"/>
            <a:ext cx="8115120" cy="5715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Calibri"/>
              </a:rPr>
              <a:t>Урок русского языка в 5 клас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428840" y="1785960"/>
            <a:ext cx="6286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Чередование звуков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Беглые 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 п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кажи чередова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ск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качу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м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товлю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зд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щ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тов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ра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мотр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мл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вещ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матри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ест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зж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р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катил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с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пр.41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ишите слова с беглыми глас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D:\Документы\картинки\картинки анимашки\AG00218_.GIF"/>
          <p:cNvPicPr/>
          <p:nvPr/>
        </p:nvPicPr>
        <p:blipFill>
          <a:blip r:embed="rId1"/>
          <a:stretch/>
        </p:blipFill>
        <p:spPr>
          <a:xfrm>
            <a:off x="7380360" y="2924280"/>
            <a:ext cx="1181160" cy="904680"/>
          </a:xfrm>
          <a:prstGeom prst="rect">
            <a:avLst/>
          </a:prstGeom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86" name="Picture 3" descr="D:\Документы\картинки\картинки анимашки\AG00218_.GIF"/>
          <p:cNvPicPr/>
          <p:nvPr/>
        </p:nvPicPr>
        <p:blipFill>
          <a:blip r:embed="rId2"/>
          <a:stretch/>
        </p:blipFill>
        <p:spPr>
          <a:xfrm>
            <a:off x="684360" y="5373720"/>
            <a:ext cx="1180800" cy="904680"/>
          </a:xfrm>
          <a:prstGeom prst="rect">
            <a:avLst/>
          </a:prstGeom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ведём ито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дите слово, в котором возможно чередование звуков в корн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дубочек, 2) успех, 3) ночной, 4) гит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дите слово с беглым гласны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замочек, 2)  смотреть, 3) стрельба, 4) пт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D:\Документы\картинки\анимашки\AG00029_.GIF"/>
          <p:cNvPicPr/>
          <p:nvPr/>
        </p:nvPicPr>
        <p:blipFill>
          <a:blip r:embed="rId1"/>
          <a:stretch/>
        </p:blipFill>
        <p:spPr>
          <a:xfrm>
            <a:off x="3929040" y="4530600"/>
            <a:ext cx="157176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78, 7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.4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AG00030_"/>
          <p:cNvPicPr/>
          <p:nvPr/>
        </p:nvPicPr>
        <p:blipFill>
          <a:blip r:embed="rId1"/>
          <a:stretch/>
        </p:blipFill>
        <p:spPr>
          <a:xfrm>
            <a:off x="2809800" y="2714760"/>
            <a:ext cx="3009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Спасибо за урок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AG00319_"/>
          <p:cNvPicPr/>
          <p:nvPr/>
        </p:nvPicPr>
        <p:blipFill>
          <a:blip r:embed="rId1"/>
          <a:stretch/>
        </p:blipFill>
        <p:spPr>
          <a:xfrm>
            <a:off x="3132000" y="2000160"/>
            <a:ext cx="3940200" cy="28512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96" name="Picture 2" descr="D:\Документы\картинки\анимашки\an140.gif"/>
          <p:cNvPicPr/>
          <p:nvPr/>
        </p:nvPicPr>
        <p:blipFill>
          <a:blip r:embed="rId2"/>
          <a:stretch/>
        </p:blipFill>
        <p:spPr>
          <a:xfrm>
            <a:off x="1000080" y="5286240"/>
            <a:ext cx="21495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…нино, г…тара, к…нфета, обл…ко, к…рзина, об… ед…няться, к…стюм, п…ркет, а(п,пп)етит, д…л…га(т,д), с…эк…номить, грам…тный, г…рд…ро(б,п), р…мень, ч…хол, д…путат, м…рф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4" descr="cat_walking"/>
          <p:cNvPicPr/>
          <p:nvPr/>
        </p:nvPicPr>
        <p:blipFill>
          <a:blip r:embed="rId1"/>
          <a:stretch/>
        </p:blipFill>
        <p:spPr>
          <a:xfrm>
            <a:off x="3786120" y="4135320"/>
            <a:ext cx="35006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таксическая 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ёгкий ветерок играе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еребристыми листочками                            ивы и они слегка   дрожат от этого.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3643200" y="3595680"/>
            <a:ext cx="1785960" cy="25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744480" y="1643040"/>
            <a:ext cx="898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ишите глагол-сказуемое из второй части предложения, подберите к нему однокоренные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ожи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D:\Документы\картинки\анимашки\gardener1.gif"/>
          <p:cNvPicPr/>
          <p:nvPr/>
        </p:nvPicPr>
        <p:blipFill>
          <a:blip r:embed="rId1"/>
          <a:stretch/>
        </p:blipFill>
        <p:spPr>
          <a:xfrm>
            <a:off x="6000840" y="3357720"/>
            <a:ext cx="233820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оварно-орфографическ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рож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рогнуть  </a:t>
            </a: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г//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здрагивать  </a:t>
            </a:r>
            <a:r>
              <a:rPr b="1" lang="ru-RU" sz="4400" spc="-1" strike="noStrike">
                <a:solidFill>
                  <a:srgbClr val="d99694"/>
                </a:solidFill>
                <a:latin typeface="Calibri"/>
              </a:rPr>
              <a:t>о//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Дуга 16"/>
          <p:cNvSpPr/>
          <p:nvPr/>
        </p:nvSpPr>
        <p:spPr>
          <a:xfrm>
            <a:off x="714240" y="1571760"/>
            <a:ext cx="1271880" cy="914400"/>
          </a:xfrm>
          <a:custGeom>
            <a:avLst/>
            <a:gdLst>
              <a:gd name="textAreaLeft" fmla="*/ 38880 w 1271880"/>
              <a:gd name="textAreaRight" fmla="*/ 1272240 w 127188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1271588" h="914400">
                <a:moveTo>
                  <a:pt x="38943" y="299648"/>
                </a:moveTo>
                <a:lnTo>
                  <a:pt x="38943" y="299648"/>
                </a:lnTo>
                <a:arcTo wR="635794" hR="457200" stAng="-9912769" swAng="9912774"/>
                <a:lnTo>
                  <a:pt x="635794" y="457200"/>
                </a:lnTo>
                <a:close/>
              </a:path>
              <a:path fill="none" w="1271588" h="914400">
                <a:moveTo>
                  <a:pt x="38943" y="299648"/>
                </a:moveTo>
                <a:lnTo>
                  <a:pt x="38943" y="299648"/>
                </a:lnTo>
                <a:arcTo wR="635794" hR="457200" stAng="-9912769" swAng="991277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Дуга 17"/>
          <p:cNvSpPr/>
          <p:nvPr/>
        </p:nvSpPr>
        <p:spPr>
          <a:xfrm>
            <a:off x="714240" y="3000240"/>
            <a:ext cx="914400" cy="1057320"/>
          </a:xfrm>
          <a:custGeom>
            <a:avLst/>
            <a:gdLst>
              <a:gd name="textAreaLeft" fmla="*/ 69120 w 914400"/>
              <a:gd name="textAreaRight" fmla="*/ 816840 w 914400"/>
              <a:gd name="textAreaTop" fmla="*/ 0 h 1057320"/>
              <a:gd name="textAreaBottom" fmla="*/ 248760 h 1057320"/>
            </a:gdLst>
            <a:ahLst/>
            <a:rect l="textAreaLeft" t="textAreaTop" r="textAreaRight" b="textAreaBottom"/>
            <a:pathLst>
              <a:path stroke="0" w="914400" h="1057275">
                <a:moveTo>
                  <a:pt x="69226" y="248959"/>
                </a:moveTo>
                <a:lnTo>
                  <a:pt x="69226" y="248959"/>
                </a:lnTo>
                <a:arcTo wR="457200" hR="528638" stAng="-8652803" swAng="6116170"/>
                <a:lnTo>
                  <a:pt x="457200" y="528638"/>
                </a:lnTo>
                <a:close/>
              </a:path>
              <a:path fill="none" w="914400" h="1057275">
                <a:moveTo>
                  <a:pt x="69226" y="248959"/>
                </a:moveTo>
                <a:lnTo>
                  <a:pt x="69226" y="248959"/>
                </a:lnTo>
                <a:arcTo wR="457200" hR="528638" stAng="-8652803" swAng="611617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Дуга 18"/>
          <p:cNvSpPr/>
          <p:nvPr/>
        </p:nvSpPr>
        <p:spPr>
          <a:xfrm>
            <a:off x="1143000" y="4429080"/>
            <a:ext cx="1000080" cy="1000080"/>
          </a:xfrm>
          <a:custGeom>
            <a:avLst/>
            <a:gdLst>
              <a:gd name="textAreaLeft" fmla="*/ 42120 w 1000080"/>
              <a:gd name="textAreaRight" fmla="*/ 952920 w 1000080"/>
              <a:gd name="textAreaTop" fmla="*/ 0 h 1000080"/>
              <a:gd name="textAreaBottom" fmla="*/ 298800 h 1000080"/>
            </a:gdLst>
            <a:ahLst/>
            <a:rect l="textAreaLeft" t="textAreaTop" r="textAreaRight" b="textAreaBottom"/>
            <a:pathLst>
              <a:path stroke="0" w="1000125" h="1000125">
                <a:moveTo>
                  <a:pt x="42273" y="298837"/>
                </a:moveTo>
                <a:lnTo>
                  <a:pt x="42274" y="298837"/>
                </a:lnTo>
                <a:arcTo wR="500063" hR="500063" stAng="-9376299" swAng="7869101"/>
                <a:lnTo>
                  <a:pt x="500063" y="500063"/>
                </a:lnTo>
                <a:close/>
              </a:path>
              <a:path fill="none" w="1000125" h="1000125">
                <a:moveTo>
                  <a:pt x="42273" y="298837"/>
                </a:moveTo>
                <a:lnTo>
                  <a:pt x="42274" y="298837"/>
                </a:lnTo>
                <a:arcTo wR="500063" hR="500063" stAng="-9376299" swAng="786910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тическая 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2" descr=""/>
          <p:cNvPicPr/>
          <p:nvPr/>
        </p:nvPicPr>
        <p:blipFill>
          <a:blip r:embed="rId1"/>
          <a:stretch/>
        </p:blipFill>
        <p:spPr>
          <a:xfrm>
            <a:off x="231840" y="1494000"/>
            <a:ext cx="8510400" cy="470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:\Документы\картинки\картинки анимашки\J0095740.GIF"/>
          <p:cNvPicPr/>
          <p:nvPr/>
        </p:nvPicPr>
        <p:blipFill>
          <a:blip r:embed="rId2"/>
          <a:stretch/>
        </p:blipFill>
        <p:spPr>
          <a:xfrm>
            <a:off x="6500880" y="4500720"/>
            <a:ext cx="9810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вляются ли однокоренными данные пары сл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п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дать – оп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дыва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л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ть – вл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и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ото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ть  - гото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вл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4" descr="AG00222_.GIF"/>
          <p:cNvPicPr/>
          <p:nvPr/>
        </p:nvPicPr>
        <p:blipFill>
          <a:blip r:embed="rId1"/>
          <a:stretch/>
        </p:blipFill>
        <p:spPr>
          <a:xfrm>
            <a:off x="4714920" y="1714680"/>
            <a:ext cx="1539720" cy="14522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J0076210.GIF"/>
          <p:cNvPicPr/>
          <p:nvPr/>
        </p:nvPicPr>
        <p:blipFill>
          <a:blip r:embed="rId2"/>
          <a:stretch/>
        </p:blipFill>
        <p:spPr>
          <a:xfrm>
            <a:off x="5857920" y="4357800"/>
            <a:ext cx="1500120" cy="195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Документы\картинки\анимашки\rabbit1.gif"/>
          <p:cNvPicPr/>
          <p:nvPr/>
        </p:nvPicPr>
        <p:blipFill>
          <a:blip r:embed="rId3"/>
          <a:stretch/>
        </p:blipFill>
        <p:spPr>
          <a:xfrm>
            <a:off x="3429000" y="3214800"/>
            <a:ext cx="11793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вляются ли однокоренными сл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571840" y="2857680"/>
            <a:ext cx="4637160" cy="3101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ень – п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вляются ли однокоренными сл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Флаж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к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– флаж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к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928960" y="3241800"/>
            <a:ext cx="2643120" cy="19731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AG00345_.GIF"/>
          <p:cNvPicPr/>
          <p:nvPr/>
        </p:nvPicPr>
        <p:blipFill>
          <a:blip r:embed="rId2"/>
          <a:stretch/>
        </p:blipFill>
        <p:spPr>
          <a:xfrm>
            <a:off x="6215040" y="4143240"/>
            <a:ext cx="1333440" cy="12384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2" descr="AG00344_.GIF"/>
          <p:cNvPicPr/>
          <p:nvPr/>
        </p:nvPicPr>
        <p:blipFill>
          <a:blip r:embed="rId3"/>
          <a:stretch/>
        </p:blipFill>
        <p:spPr>
          <a:xfrm>
            <a:off x="1000080" y="2928960"/>
            <a:ext cx="11718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8:38:02Z</dcterms:created>
  <dc:creator>Захарьина</dc:creator>
  <dc:description/>
  <dc:language>en-US</dc:language>
  <cp:lastModifiedBy>Владелец</cp:lastModifiedBy>
  <dcterms:modified xsi:type="dcterms:W3CDTF">2015-01-15T18:00:25Z</dcterms:modified>
  <cp:revision>25</cp:revision>
  <dc:subject/>
  <dc:title>Двадцатое января Классная работа</dc:title>
</cp:coreProperties>
</file>